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810-7B6D-4B57-886E-EBFCD778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469-9CAA-48C9-9652-42AC7B08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C81-5482-4598-9C29-0308A4DA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2C4-2699-4D50-B206-0D7C536F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AFA-106C-4DC3-B1E5-6AE18C6D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143-7120-4D9E-B4FD-42FC8751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5D0-0C86-4619-AEDA-00177089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C30-B9E5-4806-B5C8-9F3D1FB1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3B7-F793-4666-AA8C-55FCEEA2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592-80E5-421A-B9C9-AA0F572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604-0546-40C4-A704-AD6DAD1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22E-046D-4F2B-A385-A87AC39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19500-E847-433E-BDD3-694F37EB20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BD38C-985A-45CD-A482-77FC63166A0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1.png"/><Relationship Id="rId7" Type="http://schemas.openxmlformats.org/officeDocument/2006/relationships/slide" Target="slide1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png"/><Relationship Id="rId3" Type="http://schemas.openxmlformats.org/officeDocument/2006/relationships/slide" Target="slide9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1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570-1-1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6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9" name="Picture 12" descr=""/>
            <p:cNvPicPr/>
            <p:nvPr/>
          </p:nvPicPr>
          <p:blipFill>
            <a:blip r:embed="rId6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13">
              <a:hlinkClick r:id="rId7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Picture 4" descr="570-3-2 copy"/>
          <p:cNvPicPr/>
          <p:nvPr/>
        </p:nvPicPr>
        <p:blipFill>
          <a:blip r:embed="rId8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Picture 2" descr="570-후렴1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3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6" name="Picture 9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9" name="Picture 12" descr=""/>
            <p:cNvPicPr/>
            <p:nvPr/>
          </p:nvPicPr>
          <p:blipFill>
            <a:blip r:embed="rId3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3" descr="570-후렴2amen copy"/>
          <p:cNvPicPr/>
          <p:nvPr/>
        </p:nvPicPr>
        <p:blipFill>
          <a:blip r:embed="rId4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570-1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570-후렴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570-후렴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570-2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570-2-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2" descr="570-후렴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2" descr="570-후렴2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7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>
              <a:hlinkClick r:id="rId8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570-3-1 copy"/>
          <p:cNvPicPr/>
          <p:nvPr/>
        </p:nvPicPr>
        <p:blipFill>
          <a:blip r:embed="rId9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0T09:07:15Z</dcterms:modified>
  <cp:revision>4</cp:revision>
  <dc:subject/>
  <dc:title>슬라이드 1</dc:title>
</cp:coreProperties>
</file>