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C527-6AAA-46CE-9398-B4666CB1E6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397-9E31-4210-A671-33D35A2E1E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283-F5DA-4EF9-8774-96D10EEE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AD2-790D-4A68-95C0-6605E26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614-2633-49BB-9A57-943BB22D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976-CDEF-4F7E-92AA-93CC7663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4458C-D5EA-40B5-96EB-C2F93E98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651AD-3C43-46E7-A163-9314549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BF798-10D3-44BE-A541-24E41D8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AC5CC-C46C-4A60-AF2A-A4774956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C98E-D716-4D7E-A937-E16B4B8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A68B9-F371-40C1-927F-A44302C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5D1E5-7033-4BEB-8D77-E36819E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5A3-6678-424B-AA98-5BEECE0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BDAB7-BA8A-409B-90AE-27EDBED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AE20-8AB2-4A6E-9EBA-FCD1601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25CD-2AD4-4060-BB3F-3F04E215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AB67-AAB4-4E3C-86AB-EE7005E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D49E-A6DF-4770-9049-CF32232A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7D2E-BC9B-4282-99B9-B01089AD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AE4D-6D10-4DB1-AE95-B8DF3519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DF5C-480F-4A91-9322-98D5C4D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CAC3-FB8A-4A8F-944D-5F73448C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3CE7-EB12-4FFD-8B3F-CE9BEC0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D63-C6D6-4D07-B70C-014D3792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1B67-BB09-430D-A16A-01520E51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EC6E-6CBF-4E71-9404-5B9D3F5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4B2C-1D9C-40C6-945E-153EA47C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AF77-4963-4AF9-A495-92F3776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26CC-6764-4CB7-A018-59FAEF1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889D-829D-4A39-8E77-06911F83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60CE-072A-4FDE-8DDB-F88E6D10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C911E-1C55-40DD-BD46-61E71EB9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1CE2B-BA59-4463-A5B4-587D774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F0B7B-FD03-4B50-B461-6FF9A08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2BA-F686-4DF1-8AC4-DFF42B2A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FFD05-F37B-418F-8D21-7CA4DBB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1889A-888F-4730-B285-7CC0F04D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B3321-064B-4A45-8571-5B72F9C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73C48-EEEF-433C-B371-A6E7589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43C17-A0DB-467D-9228-23BC4D2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3767F-820C-4924-A64B-4299EB3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7D11E-F2CE-41A9-AD7B-8C45091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5857A-508D-407D-9154-2AEE5EF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FEC5D-7E44-40C6-B3B6-588C6E55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4C1-60CD-44D0-933F-5076445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00C-A15A-4781-BF13-CAB0BC34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440-F5C1-44E7-9DBC-BC7C25D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527-BCAE-488D-B21E-948754A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FC4-C758-42F4-BC61-8BBB196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0E4D-7CD4-43B2-999A-0FD0EC23A3DC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89B7D7F0-4DE4-4396-9066-6059D3EA4572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218E-4859-4F8B-875E-AFE57A418F1A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CAFE-2A14-45EC-8423-03E180499C67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1A1AD17-6A43-4B3D-947C-27992370B2A9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EAA-3BA1-4746-B8CB-DD3F2501FF75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4AB-19D9-471E-9CEB-4F2CC55DE283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01396A9D-5EAB-45DF-AF77-61356CC2E6F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132-AABC-4952-9C2A-528D6ECC8B0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FFB-CE50-46D1-9F60-6E20A081349A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91F-8FE0-44CD-8DF5-9294F2FB4734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A51A4E9A-3245-4BAD-9BE0-844C9122605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55640" y="764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onstantia"/>
                <a:cs typeface="Ali_k_kanaqen"/>
              </a:rPr>
              <a:t>كتيَبخانةو رِيَبازى ليَكؤلَينةوة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3366"/>
                </a:solidFill>
                <a:latin typeface="Constantia"/>
                <a:cs typeface="Ali_k_kanaqen"/>
              </a:rPr>
              <a:t>قؤناغى يةكةمى بةشى كوردى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33"/>
                </a:solidFill>
                <a:latin typeface="Constantia"/>
                <a:cs typeface="Ali_k_kanaqen"/>
              </a:rPr>
              <a:t>م.بابةت :</a:t>
            </a:r>
            <a:r>
              <a:rPr b="0" lang="ar-SA" sz="4400" spc="-1" strike="noStrike">
                <a:solidFill>
                  <a:srgbClr val="660033"/>
                </a:solidFill>
                <a:latin typeface="Constantia"/>
                <a:ea typeface="Ali_k_kanaqen"/>
              </a:rPr>
              <a:t> </a:t>
            </a:r>
            <a:r>
              <a:rPr b="0" lang="ar-SA" sz="2400" spc="-1" strike="noStrike">
                <a:solidFill>
                  <a:srgbClr val="660033"/>
                </a:solidFill>
                <a:latin typeface="Constantia"/>
                <a:cs typeface="Ali_k_kanaqen"/>
              </a:rPr>
              <a:t>ثةخشان على أحم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553-D3ED-4212-805A-4F8F9510AF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5B3BE2E-3D70-496D-8253-EA9AD874EE88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919-0802-4414-BFA8-40FEAC404F6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5280" y="620640"/>
            <a:ext cx="7993080" cy="5184720"/>
          </a:xfrm>
          <a:prstGeom prst="rect">
            <a:avLst/>
          </a:prstGeom>
          <a:noFill/>
          <a:ln w="28440">
            <a:solidFill>
              <a:srgbClr val="591f4d"/>
            </a:solidFill>
            <a:miter/>
          </a:ln>
        </p:spPr>
        <p:txBody>
          <a:bodyPr anchor="t">
            <a:normAutofit fontScale="95000"/>
          </a:bodyPr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814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323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886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-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947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2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، هةوليَر، 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ضاثخانةى 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كوردستان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 ،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947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B33-134C-401B-9914-22C403048D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7EBE360-DC55-467B-8AF0-E0B16A9666FE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721-6CD5-498B-AA57-93AFF17C254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traight Connector 2"/>
          <p:cNvSpPr/>
          <p:nvPr/>
        </p:nvSpPr>
        <p:spPr>
          <a:xfrm>
            <a:off x="7812000" y="1268280"/>
            <a:ext cx="86364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10920" y="476280"/>
            <a:ext cx="8373960" cy="5602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جؤرةكانى ثيَرست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 زؤر جؤرى هةية بةلآم ئةم سىَ جؤرةى خوارةوة ليَكؤلَةر سوديان ليَوةر دةطرن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1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دانةر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2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ناوى كتيَب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3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بابةت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8443-3832-45CA-9A4A-6C5002AE44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780A023-98DC-421D-94D9-3EA9E27FC7AD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54D-0936-4B67-B75B-E22484A355A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4000" y="333000"/>
            <a:ext cx="8064360" cy="574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374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ff0000"/>
                </a:solidFill>
                <a:uFillTx/>
                <a:latin typeface="Constantia"/>
                <a:ea typeface="Ali_K_Alwand"/>
              </a:rPr>
              <a:t>1</a:t>
            </a:r>
            <a:r>
              <a:rPr b="0" lang="ar-SA" sz="5400" spc="-1" strike="noStrike" u="sng">
                <a:solidFill>
                  <a:srgbClr val="ff0000"/>
                </a:solidFill>
                <a:uFillTx/>
                <a:latin typeface="Constantia"/>
                <a:ea typeface="Ali_K_Alwand"/>
              </a:rPr>
              <a:t>- ثيَرستى ناو دانةر :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لةم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جؤرة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ثيَرستةدا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ناوى دانةرةكة كراوةتة ناوى سةرةكى 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ناوى دانةرةكان بةثىَ ى (أ، ب) رِيَكخراو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ئةطةر ليَكؤلَةر ناوى دانةرةكة بزانىَ ئةوا دةتوانىَ بة ئاسانى كارتى سةرضاوةكة بدؤزيَتةوة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ea typeface="Ali_K_Samik"/>
              </a:rPr>
              <a:t> و لةهةمان كاتيشدا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دةشتوانى هةموو كتيَبةكانى دانةريَكى تايبةت بةسةر بكاتةو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D16-9F0D-4EA6-8447-F978DF94808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D59E83A-8E37-4325-9E81-9D39502D1210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F673-FED5-4DCB-B572-88B3CB54BAD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000" y="260280"/>
            <a:ext cx="8351640" cy="5818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 fontScale="93000"/>
          </a:bodyPr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2</a:t>
            </a:r>
            <a:r>
              <a:rPr b="0" lang="ar-AE" sz="37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ثيَرستى ناوى كتيَب: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 جؤرة ثيَرستةدا كارتةكان بةثىَ ى ناوى كتيَبةكان رِيَكخ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مان كارتى دانةر لةم جؤرة ثيَرستةدا بةكارهاتوة تةنها ئةوةنةبىَ كةلةلاى سةرةوةى كارتةكة ناوى كتيَبةكة بةرِةنطيَكى تر نوسراو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طةر ليَكؤلَةر ناوى دانةرةكةش نةزانى بةلَكو تةنها ناوى كتيَبةكة بزانى دةتوانى سود لةم جؤرة ثيَرستة ببينىَ دةتوانى بة ئاسانى كارتةكة بدؤزيَتةو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292-CF96-4660-B3AB-7744B91E71A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41FE8E8-23AB-4ACA-A91E-4E3AE9BF80A8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393-5F1E-4F8B-99FC-733A28006B8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3640" y="549000"/>
            <a:ext cx="8661240" cy="5529240"/>
          </a:xfrm>
          <a:prstGeom prst="rect">
            <a:avLst/>
          </a:prstGeom>
          <a:noFill/>
          <a:ln w="28440">
            <a:solidFill>
              <a:srgbClr val="b83d68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814</a:t>
            </a:r>
            <a:r>
              <a:rPr b="1" lang="ar-AE" sz="4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AE" sz="40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1" lang="ar-AE" sz="4400" spc="-1" strike="noStrike">
                <a:solidFill>
                  <a:srgbClr val="ff0000"/>
                </a:solidFill>
                <a:latin typeface="Constantia"/>
                <a:ea typeface="Ali_K_Samik"/>
              </a:rPr>
              <a:t>(خؤشى و ترشى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323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886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-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947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2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، هةوليَر، ضا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ثخ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انةى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 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كوردستا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ن ، 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947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870-6321-4D39-9AE9-303373B9803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A2B8764-CB3D-45B4-94E7-059841541B5B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EB2-C7BD-44B1-A05A-98BE01616E1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8172360" y="1268280"/>
            <a:ext cx="72072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10920" y="404280"/>
            <a:ext cx="8373960" cy="567396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 fontScale="87000"/>
          </a:bodyPr>
          <a:p>
            <a:pPr marL="38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3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</a:t>
            </a:r>
            <a:r>
              <a:rPr b="0" lang="ar-AE" sz="44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ثيَرستى بابةت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تةكانى ئةم جؤرة ثيَرستة هةر وةك كارتةكانى دانةر واية تةنها ئةوة نةبىَ كةناوى بابةتةكة بةرِةنطيَكى تر لةلاى سةرةوة نوسراو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جؤرة ثيَرستة بة طويَرةى سةرةبابةتةكة ئينجا بة طويَرةى (أ، ب) ناوى بابةتة تايبةتيةكان رِيَكخراو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وا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تة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بةتيَك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كة سىَ ضوار جؤر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تيَب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بةخؤوة دةطرىَ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،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سىَ ضوار كارتى بؤ ئامادة دةكرىَ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جؤرة ثيَرستة زؤر ثيَويستة بؤ ليَكؤلَةر ضونكة بةهؤيةوة دةزانيَت ضةند كتيَب لةبارةى ئةو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بةتةى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ةلىَ دةكؤلَيَتةوة هةية و دةشزانى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َ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ضةند بابةتى تر ثةيوةندى بة بابةتى ليَكؤلَين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وة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ةيةوة هةية.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1A2-DF0A-4892-8521-ACAD6254F70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998923E-2F76-4CCB-9205-4E433A264C41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D19-4C87-4947-B440-6875E94FA35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55640" y="404640"/>
            <a:ext cx="7848720" cy="5545440"/>
          </a:xfrm>
          <a:prstGeom prst="rect">
            <a:avLst/>
          </a:prstGeom>
          <a:solidFill>
            <a:srgbClr val="eee0f1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814</a:t>
            </a:r>
            <a:r>
              <a:rPr b="1" lang="ar-SA" sz="4800" spc="-1" strike="noStrike">
                <a:solidFill>
                  <a:srgbClr val="12060f"/>
                </a:solidFill>
                <a:latin typeface="Constantia"/>
                <a:ea typeface="Ali_K_Samik"/>
              </a:rPr>
              <a:t> </a:t>
            </a:r>
            <a:r>
              <a:rPr b="1" lang="ar-AE" sz="4800" spc="-1" strike="noStrike">
                <a:solidFill>
                  <a:srgbClr val="12060f"/>
                </a:solidFill>
                <a:latin typeface="Constantia"/>
                <a:ea typeface="Ali_K_Samik"/>
              </a:rPr>
              <a:t>           </a:t>
            </a:r>
            <a:r>
              <a:rPr b="1" lang="ar-AE" sz="4800" spc="-1" strike="noStrike">
                <a:solidFill>
                  <a:srgbClr val="ff0000"/>
                </a:solidFill>
                <a:latin typeface="Constantia"/>
                <a:ea typeface="Ali_K_Samik"/>
              </a:rPr>
              <a:t>( ئةدةب و هونةر)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323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886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-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947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2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، هةوليَر، ضا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ث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خانةى كوردست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ان ،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947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8A3-24B7-4212-8F21-664FC7F463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4BE0393-4C93-41EF-B3C8-DBF1B742EC15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C0D3-10EB-4223-A326-A65C67C137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2"/>
          <p:cNvSpPr/>
          <p:nvPr/>
        </p:nvSpPr>
        <p:spPr>
          <a:xfrm>
            <a:off x="7596360" y="1268280"/>
            <a:ext cx="91440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333000"/>
            <a:ext cx="828036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c000"/>
                </a:solidFill>
                <a:uFillTx/>
                <a:latin typeface="Constantia"/>
                <a:cs typeface="Ali_K_Kosari"/>
              </a:rPr>
              <a:t>بةشةكانى كتيَخانة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000"/>
                </a:solidFill>
                <a:latin typeface="Constantia"/>
                <a:cs typeface="Ali_K_Samik"/>
              </a:rPr>
              <a:t>ب- بةشى خواستنةوة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ئةم بةشة بةشيَكى سةرةكيةو خويَنةر و ليَكؤلَةر ر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ِ</a:t>
            </a: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استةخؤ مامةلَةى لةطةلَ دادةكةن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ئةم بةشة بةرثرسيارة لة هةلَطرتن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و</a:t>
            </a: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ثاراستنى جؤرةها كتيَب بؤ خويَنةران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6638-71D7-4282-9FA3-5E2A31056AE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D22FC5F-47EB-4D47-8474-0C905B67AD7D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A9D-3B0F-402A-ADAC-3201BB281FD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4920" y="549360"/>
            <a:ext cx="8209080" cy="54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245520" indent="-245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لةم بةشةدا كتيَبةكان بة ثيَى سيستةميَكى تايبةتى ثؤل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ين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كراون و رِيَكخراون لةسةر رِةفةى كتيَبخانةكةدا دانراو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.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بؤ خواست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ى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كتيَب 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لة بةشى خواستنةوةدا 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دوو رِيَطةى سةرةكى هةية كة زؤربةى كتيَبخانةكان ثةيرِةوى دةكة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، ئةوانيش بريتين لة: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D34C-A62C-4A48-9AEF-E57CF026766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A847AE4-0CE1-4A30-8B2B-FDAE60B41962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FB87-46D5-4702-B0EE-CED1895AC2A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475920"/>
            <a:ext cx="8424720" cy="554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1</a:t>
            </a:r>
            <a:r>
              <a:rPr b="0" lang="ar-AE" sz="48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- رِةفةى داخراو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ثىَ ى ئةم سيستةمة خويَنةر دةتوانى كتيَب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كتيَبخانة 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خواز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آ 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ثاش ئةوةى ثسولةى خواستن لة بةشى ثيَرست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وةردةطريَت ئينجا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ذمارةى داواكردن و ناوى كتيَب و دانةرى كتيَبةكة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نووسيَت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7790-7A3C-4564-BCA2-BCB84B52742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2C0B32D-949C-4A4A-81BD-F60FF0312B9F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034C-1F85-4491-B084-375941562A2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5640" y="1268280"/>
            <a:ext cx="8229600" cy="48103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كتي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ب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خانةى نيشتيمانى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2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كتي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ب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خانةى طشتى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3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كتيَبخانةى زانكؤ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4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كتيَبخانةى ئةليكترؤنى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6A9-81EE-4E92-BB7A-AF6EE79EFEF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66F8047-970F-4E8F-86F3-60D2A0E2A31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B2A-D108-47B4-95C0-16469992ED0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749160" y="109440"/>
            <a:ext cx="8102880" cy="12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68000" y="549360"/>
            <a:ext cx="835164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ةر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ِ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اى ئةوة ناونيشانى خؤشى لةثسولةكة دةنوسيَت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ثسولةكة دةدات بةسةرثةرشتى بةشةكة ئينجا ئةويش  كتيَبةكةى لةسةر رِةفةكة بؤ دةهيَنيَت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واتا بةثىَ ى ئةو سيستةمة رِيَنادريَت بة خويَنةر ياخود ليَكؤلَةر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ضيَتة ناو ئةو هؤلَةى كة كتيَبةكانى تيَداية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759-A8A9-440E-B5CC-49F1EAE2227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18CD6BF-D3EE-4DFC-9794-4D100629440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5CFC-C170-4E65-8597-6DA3B5FE24D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4920" y="475920"/>
            <a:ext cx="8280360" cy="5473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385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2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- </a:t>
            </a:r>
            <a:r>
              <a:rPr b="0" lang="ar-AE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 رِةفةى كراوة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سيستةمة تايبةتة بة خويَندكاران و ليَكؤلَةرانى خويَندنى بالآ واتا ئةوانةى دةيانةوىَ خويَندنى ماجستيَر و دكتؤرا تةواو بكةن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ثىَ ى ئةو سيستةمة رِيَطة بةو خويَندكارانة دةدريَت بضنة ناو هؤلَى كتيَبخانةكةو بة ئارةزووى خؤيان بةناو بةشةكة بسورِيَنةوةو سةيرى كتيَبةكان بكةن و ئةو سةرضاوانة بدؤزنةوة كة ثةيوةنديان بةبابةتةكةوة هةي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ويستة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شارةزايى لة سيستةمى ثؤل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ى كتيَبةكان هةبيَت بؤ ئةوةى بة ئاسانى سةرضاوةكان بدؤزريَتةو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48E-3BB0-406B-9937-39B15E2711C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F061407-3BC6-47F1-84D2-5C04ACFD0289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7CD-F1CF-40CC-A28E-8D5BAD2DEFF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68000" y="404280"/>
            <a:ext cx="8280360" cy="5761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428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ج- بةشى سةرضاوة: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بةشة بةشيَكى سةربةخؤى كتيَبخان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كتيَبانةى كة لةم بةشة دانراوة سةرضاوةى بنةرِةتى و دةطمةن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 بنةرِةتيةكان وةك ئينسكلؤثيديا و بيبلؤطرافيا"ليستى سةرضاوة«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و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فةرهةنطةكان لة شويَنيَكى تايبةت دان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8BD1-7781-4021-9F4B-BC7E243BCD83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5070AE8D-5BF3-4E99-AF5D-40E5EE3D9B8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D209-CEAC-415C-A545-F28B4C9DB31A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260280"/>
            <a:ext cx="8424720" cy="5616720"/>
          </a:xfrm>
          <a:prstGeom prst="rect">
            <a:avLst/>
          </a:prstGeom>
          <a:noFill/>
          <a:ln w="28440">
            <a:solidFill>
              <a:srgbClr val="591f4d"/>
            </a:solidFill>
            <a:miter/>
          </a:ln>
        </p:spPr>
        <p:txBody>
          <a:bodyPr anchor="t">
            <a:normAutofit fontScale="86000"/>
          </a:bodyPr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َ بؤخؤى سةرضاوةكان هةلَبذيَرىَ و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بي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هيَنيَت لةسةرئ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و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ميَزانةى لةم بةشة دانراون بيان خويَنيَتةوةو ثيَويستى خؤى جىَ بةجىَ بكا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ثاشان هةر لةسةر ميَزةكة سةرضاوةكة بةجىَ دةهيَلَيَ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،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ثةرشتى بةشةكة خؤى بةرثرسيارة لة طةرِانةوةى سةرضاوةكة بؤ شويَنى خؤيا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تا لةم بةشةدا رِيَنادريَت ك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كان بؤ دةرةوةى بةشةكة ببريَن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،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ضونكة ئةوسةرضاوانة سةرضاوةى طشتين و خةلَكيَكى زؤر ثيَويستى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ثيَى دةبيَت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9A4-2EAD-4A02-8A2A-F135A6D9E821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8A4798FA-83AA-459A-B75D-4B30789FF5E6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91B-EAAF-4E5B-870E-4AFC31B24AAD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د- بةشى زنجيرة ناوبةناوةكان: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 بةشةدا طؤظارو رِؤذنامةكان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ثاريَزريَن و ب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ى بنةرِةتى دادةنريَن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يَنادريَ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ت بة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ر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دنة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دةرةوةى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 لةم بةشةياندا  بةلَكو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َ هةرلةشويَنى خؤيان سوديان ليَوةرطرىَ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دؤزينةوةى بابةتى ليَكؤلَينةوةكةشى دةتوانىَ بطةرِيَتةوة بؤ ئةو بيبلؤطرافيايانةى كة بة ثيَى بابةت و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نا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وى نوسةرى بابةتةكان رِيَكخراو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ةرِاى ئةم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ش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طؤظار و رِؤذنامةكان كارتى ثيَرستى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ؤ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رِيَكخراوة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4A03-F2F0-43F4-A67D-07946686396F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7FFB63C6-383F-4913-9BC5-9850C102EB4C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952-FCFD-4E94-B316-9CED8C540AEB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100" spc="-1" strike="noStrike" u="sng">
                <a:solidFill>
                  <a:srgbClr val="6c1459"/>
                </a:solidFill>
                <a:uFillTx/>
                <a:latin typeface="Constantia"/>
                <a:cs typeface="Ali_K_Samik"/>
              </a:rPr>
              <a:t>ه- بةشى بيستن و بينين: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شكةوتنى تةكنةلؤجيا خزمةتيَكى طةورة بة كتيَبخانة دةكات بؤ دابينكردنى ئاميَرى تةكنيكى وةك فيلم و سى دى و كاسيةت و كؤمثيوتةر.......هتد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ئاميَرانة لةبةشيَكدا ثاريَزراون بةناوى بةشي بيستن و بينين 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لةبةرئةوةى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بةكارهيَنانى ئةمانة كارى هونةرى دةوىَ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بؤية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سود لة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ر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ِيَنماي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ي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ةكانى سةرثةرشتى بةشةكة وةربطرىَ.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C4D5-08AD-426C-8D85-AD1E804E0575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2036B1F1-046B-456D-A331-1455CCA73F9F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A108-7583-4938-BF2F-2C32152BBE8C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و- سيستةمى ئالَوطؤرِكردنى كتيَب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زؤرجار وا رِيَكدةكةوىَ ليَكؤلَةر ئةو سةرضاوةيةى دةست ناكةوى لةو كتيَبخانةيةى كة هاتوضؤى بؤ دةكات بةلآم ئةمة نابيَ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ة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هؤى ئةوةى كة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ليَكؤلَةر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ائوميَد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بيَت و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ز لة ليَكؤلَينةوةكةى بيَنىَ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 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ضونكة سيستةميَك هةية بؤ ئالَوطؤركرد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ى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كتيَب و سةرضاوة لة نيَوان كتيَبخانةكاندا كةلةكاتى ثيَويس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دا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كتيَبخانةيةك داوا لة كتيَبخانةكان دةكات بةثيَى سيستةميَك كةلةسةرى رِيَككةو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توو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 ئةو كتيَبة يان ئةو سةرضاوةيةى بؤ دابي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بكا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6B0-3F85-4333-B0B0-E6CEF1787F7B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A297C5C2-9363-493D-818A-2D0A87E0FFFE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B451-7F67-40BF-8B6B-DA11D0CCD7D4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 بؤماوةى سىَ هةفتة يان زياتر كتيَبةكة لا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ى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خؤى بهيَلَيَتةوة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وات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ة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لةكاتى ثيَويستدا ليَكؤلَةر داوا لةسةرثةرشتى كتيَبخانةكة دةكات كةلةطةلَ ض كتيَبخانةيةك سيستةمى ئالَوطؤرِكردنيان ه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، تاوةو ئةمانيش ئةو سةرضاةيةى بؤ دابين بكةن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227-8A57-470D-9517-0153E808A7A1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AFFA168F-FAB1-4838-B925-291411B382C4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8AE-7A14-464B-8DC4-80647AF931AC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رِيَكخستنى كتيَبخانة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رِيَكخستنى كتيَبخانة و ثؤليَنكردنى كتيَب دوو رِيَطةى سةرةكى هةية كة ئةمانةن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1</a:t>
            </a: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-رِيَطاى(د</a:t>
            </a:r>
            <a:r>
              <a:rPr b="0" lang="ar-SA" sz="4400" spc="-1" strike="noStrike" u="sng">
                <a:solidFill>
                  <a:srgbClr val="0000ff"/>
                </a:solidFill>
                <a:uFillTx/>
                <a:latin typeface="Constantia"/>
                <a:cs typeface="Ali_K_Samik"/>
              </a:rPr>
              <a:t>يوى</a:t>
            </a: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):</a:t>
            </a:r>
            <a:r>
              <a:rPr b="0" lang="ar-SA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هةنديَك جار بةدابةشكردنى دة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ي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يش ناودةبريَت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م رِيَطاية بةناوبانطترين رِيَطاى رِيَكخستنى كتيَبخانةية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8200-858F-4A0B-AE14-FCD91180C511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053A1C54-8CD0-409C-85CC-60FCE15C8F66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FDA2-94F8-42F6-B3E3-6ED21B75980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68360" y="47592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بة طويَرةى ئةم سيستةمة يان ئةو رِيَطاية هةموو ضاثكراوةكان لة هةموو بوارةكانى زانست و زانياري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يدا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بؤ دة بةشى سةرةكى دابةش دةكريَ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بةشيَكى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ةم دة بةشة بؤ دة لقى دي دابةش دةبن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هةر لقيَكيش بؤ دة لقى دى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بةش دةبيَت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تا دةطاتة بضوكترين بوارى ثسثؤرِايةتى لة زانستدا واتا ئةم رِيَطاية لة طشتييةوة بؤ تايبةتى دةضيَت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CCC-85FE-4C57-AF01-0B873A28972B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D74D625C-52B1-444B-AB5F-F7DBE1F8ABF6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9835-CBA8-4FDA-8A2F-7CDFDED1518B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1484280"/>
            <a:ext cx="8353440" cy="4594320"/>
          </a:xfrm>
          <a:prstGeom prst="rect">
            <a:avLst/>
          </a:prstGeom>
          <a:noFill/>
          <a:ln w="28440">
            <a:solidFill>
              <a:srgbClr val="e5afc2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 شيَوةيةكى طشتى كتيَبخانة خؤى لة دوو بةشى سةرةكيدا دبينيَتةوة كة ئةمانةن 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بةشى هونةرى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بةشى خزمةتطوزارى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EB68-2AB0-4508-BC4A-6333EC1F80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DB93FBA-46B3-4719-A7B1-B6BAFB13AB41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E52-7D15-4AF5-B2BA-A6A4A462020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cs typeface="Ali_K_Sahifa"/>
              </a:rPr>
              <a:t>كتيَبخانةو رِيَبازى ليَكؤلَينةوة- قؤناغى يةكةم - سالَى خويَندن (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2012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2013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182600" y="530280"/>
            <a:ext cx="7218360" cy="117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بةشة سةرةكييةكةى رِيَطاي ديوى لةطةلَ ذمارة تايبةتييةكاندا بةم شيَوةيةى خوارةوةية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0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–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زانيارية طشت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1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فةلسةفة و دةرونزانى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2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ئايين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3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زانستة كؤمةلآيةت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4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زمان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743-C19B-4E09-AAE4-9EFF7C6B2176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19609CFF-E140-4ECA-B5D0-2FC164388A5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12F7-0971-4020-8B61-3A396A015398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5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زانستة رِووت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6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زانستة ثةروةردةيي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7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هونةرة جوان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8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ئةدةب ياخود ئةدةبيةت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9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ميَذوو و جوطرافيا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44D-427C-48BD-B792-AEB8D2FB9F54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63B6302B-9DB4-440F-9417-34C74E6C643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8DC-68E9-4B45-952B-59397B059DC0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كريَت هةربةشيَك لةم بةشانةى سةرةوة بؤ دة بةشى دى دابةش بكريَن بؤ نمونة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شى زانستة كؤمةلآيةتييةكان كة ذمارةيان(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0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– 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99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ةم شيَوةيةى خوارةوة دابةش دةكريَت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0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كؤمةلآيةت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1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ئاما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2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ئابور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3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ياسا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4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كارطيرِى طشت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5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ئاسودةى كؤمةلآيةتى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6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ثةروةردةو فيَركردن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7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رِاميارى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8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بازرطانى و هاتووضؤ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9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داب و نةريت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1D5-F0DE-4344-9FC2-6C4CA2068786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31EE5D5A-F9BC-406F-92CB-DF656A055DDA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72B-5402-4226-8F4E-422906313FE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لقيَكيش لةم لقانةى سةرةوة بؤ ضةند لقيَكى بضوكتر دابةش دةبيَت بؤنمونة ئةطةر لقى ثةروةردةو فيَركردن وةربطرين كة ذمارةكةى (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) ئةم لقانةى خوارةوةى لىَ دةبيَتةوة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.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تيؤرو فةلسةفةى ثةروةد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.78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تويَذينةوةى ثةروةردةيى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نة وتنةو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1.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مامؤستاي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ا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ن و ئةنجومةنى باوكان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دواى ئةمة هةرلقيَك لةمانةى سةرةوة بؤ دة لقى تر دابةش دةبيَت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4CA3-3CE6-4FD0-B439-5D4E28B684E7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11A72EDD-6DF7-465E-BC03-C5A675A49C60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ABC-96D9-4644-A22B-0FB71CF56515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Constantia"/>
                <a:ea typeface="Ali_K_Samik"/>
              </a:rPr>
              <a:t>2</a:t>
            </a:r>
            <a:r>
              <a:rPr b="0" lang="ar-AE" sz="4000" spc="-1" strike="noStrike">
                <a:solidFill>
                  <a:srgbClr val="0000ff"/>
                </a:solidFill>
                <a:latin typeface="Constantia"/>
                <a:ea typeface="Ali_K_Samik"/>
              </a:rPr>
              <a:t>-</a:t>
            </a:r>
            <a:r>
              <a:rPr b="0" lang="ar-AE" sz="4000" spc="-1" strike="noStrike" u="sng">
                <a:solidFill>
                  <a:srgbClr val="0000ff"/>
                </a:solidFill>
                <a:uFillTx/>
                <a:latin typeface="Constantia"/>
                <a:cs typeface="Ali_K_Samik"/>
              </a:rPr>
              <a:t>رِيَطا ياخود سيستةمى كتيَبخانةى كؤنطريَسى ئةمريكى: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رِيَطاية لة زؤربةى زانكؤكانى ئةمريكا و ئةوروثادا بةكاردةهيَنريَت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سيستةم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 زانست و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زانيارييةكان بؤ بيست بةش دابةشكراون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بة ثيَى ثيتةكانى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A-B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ثيتةكانى 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W, X,Y, I, O</a:t>
            </a:r>
            <a:r>
              <a:rPr b="0" lang="ar-IQ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ةكارنةهيَن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دوو ثيتى 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E, F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ؤ ميَذووى ئةمريكا تةرخانك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846-B960-45D6-8F62-354A35837412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2721F863-E747-4F57-BFEE-A8F01FA5C15F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DE7-FF71-45ED-946D-F6DFF6893FFE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بةشكردنةك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ش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بةم شيَوةيةى خوارةو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A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زانيارى طشت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B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فةلسةفة و ئاين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C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ميَذوو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D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ميَذووى بيطانة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E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ميَذووى ئةمريكا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G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جوطرافياو مرؤظناس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H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كؤمةلَناس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BEA-9DED-4869-B197-F2E8C4E3EE47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A4E9BF7C-0A71-4EEB-97D0-13B934A5A31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1F57-5507-4817-98E8-1BBAB8C1CB45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J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انستى رِاميار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K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ياس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L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 .    ثةروةرد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M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مؤسيق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N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هونةرى تةشكيلى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P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مان و ئةدة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Q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انست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R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ثزيشكى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S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كشتوكال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T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تةكنةلؤجي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U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دةرياوان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V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دةرون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Z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</a:t>
            </a:r>
            <a:r>
              <a:rPr b="0" lang="ar-IQ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   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cs typeface="Ali_K_Samik"/>
              </a:rPr>
              <a:t>زانستى كتيَبخانةو بيبلؤطرافي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88FC-424D-4F55-96CF-2299ABD5BF7D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6604552A-8CA2-41B3-9D6B-272A33B70F4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C0D-EC92-4DCD-B1BD-B257A03C520E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930F-088A-4FEC-8852-1C2418E7CD88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B0F42ED5-DD9F-4847-A286-5B1DDECF8FEF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153-D635-4AB1-84C4-14093589B4A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1FD-7172-48AB-B6AF-A97D193C6E5B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B0C5E59C-52C2-46EB-9DB8-F4418E1EE460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5DC-EA10-4736-949F-2FB2C89A9AF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7E7-E5F3-4DEF-B483-D94DA3FA933A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2194D55-C641-411E-9C05-4258CB6D000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DC1-5730-419C-B520-B7F230D8F610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5280" y="692280"/>
            <a:ext cx="7993080" cy="5386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شى هونةرى ضةند شتيَك لة خؤوة دةطريَت كة بريتين لةمانةى لاى خوارةوة 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ثةيداكردن و كرِينى كتيَب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ى رِؤشنبيرى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تؤماركردن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ثؤل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يان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5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امادةكردنى ليستى تايبة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1E3-B70F-4BB8-BF04-324C5AE4EFD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E30EA77-BD25-4391-98CF-B3485CE73BD4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B89D-0606-42C7-A0EF-C6AD66E6C8F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E47-A81F-412C-A13D-B5720BC5A40D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B81A75B-4CB3-455C-B69C-D6CF3FA518EB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8:01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445-A1BC-4725-BDA4-39EEF1157438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10920" y="476280"/>
            <a:ext cx="8064360" cy="56023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txBody>
          <a:bodyPr anchor="t">
            <a:normAutofit fontScale="96000"/>
          </a:bodyPr>
          <a:p>
            <a:pPr marL="424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شى خزمةتطوزارى دابةش كراوةتة سةر ضةند بةشيَك كة ئةمانةى لاى خوارةوةن 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</a:t>
            </a:r>
            <a:r>
              <a:rPr b="0" i="1" lang="ar-SA" sz="4000" spc="-1" strike="noStrike" u="sng">
                <a:solidFill>
                  <a:srgbClr val="ffffff"/>
                </a:solidFill>
                <a:uFillTx/>
                <a:latin typeface="Constantia"/>
                <a:cs typeface="Ali_K_Sahifa Bold"/>
              </a:rPr>
              <a:t>بةشى ثيَرس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بةشة لةلايةن بةشى هونةريةوة ئامادةكراوةو شويَنى تايبةتى بؤ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ت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ةرخان كراوة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خويَنةرو ليَكؤلَةر رِاستةوخؤ هةلَسوكةوتى ل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ــ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ةطةلَ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ا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كةن و لةو رِيَطايةوة ئةو زانيارانة دةدؤزيَتةوة كة بؤ وةرطرتنى سةرضاوة ثيَويست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بيَت ليَكؤلَةر شارةزاييةكى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شى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بارةى شيَوةو جؤرةكانى ثيَرست هةبيَت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7B69-6763-4D77-A344-B48FCC33B92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594EDC8-49C5-4E64-904D-50CF7D5DED5A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5D5A-D35C-4F19-8E27-6CF1013CC27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4000" y="404640"/>
            <a:ext cx="8064360" cy="583272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txBody>
          <a:bodyPr anchor="t">
            <a:normAutofit fontScale="88000"/>
          </a:bodyPr>
          <a:p>
            <a:pPr marL="388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شيَوةكانى ثيَرست: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ثيَرست سىَ شيوةى سةرةكى هةية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0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ثيَرستى ضاثكراو: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و جؤرة ثيَرستةية كة هةندىَ لة كتيَبخانةكان ثيَرستى كتيَب و سةرضاوةكانيان لةشيَوةى كتيَبدا ضاث دةكة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يَكخستنةكة بة طويَرةى سيستةمى ثؤل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ى كتيَبخانةكةية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دابةشكردنةكةى بة طويَرةى سةرةبابةت دابةش دةكةن و سةرةبابةتةكانيش بؤ بابةتى تايبةتى تر دابةش دةكات ئينجا لة هةربابةتيَك دا ناوى دانةرةكان بةثىَ ى (أ، ب) رِيزدةكات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4FE-1A82-44BA-A7F5-5BAA0A45944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980524F-C84B-4671-ADC1-5F30D4DA986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57B-6A7B-40DA-8E04-019000FF828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4360" y="692280"/>
            <a:ext cx="7991280" cy="4968720"/>
          </a:xfrm>
          <a:prstGeom prst="rect">
            <a:avLst/>
          </a:prstGeom>
          <a:noFill/>
          <a:ln w="2844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0</a:t>
            </a:r>
            <a:r>
              <a:rPr b="0" lang="ar-SA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99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ئةدةب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0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1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رِةخنة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11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5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ميَذووى ئةدةب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A0D2-58BE-401A-B76A-E552DF6130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DC121A2-3D45-47C7-85A5-8FB2D285D1E0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678-12F0-4DA7-B624-02D5BA70811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4360" y="476280"/>
            <a:ext cx="8300880" cy="5602320"/>
          </a:xfrm>
          <a:prstGeom prst="rect">
            <a:avLst/>
          </a:prstGeom>
          <a:noFill/>
          <a:ln w="28440">
            <a:solidFill>
              <a:srgbClr val="b83d68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d050"/>
                </a:solidFill>
                <a:latin typeface="Constantia"/>
                <a:ea typeface="Ali_K_Samik"/>
              </a:rPr>
              <a:t>2</a:t>
            </a:r>
            <a:r>
              <a:rPr b="0" lang="ar-SA" sz="4400" spc="-1" strike="noStrike">
                <a:solidFill>
                  <a:srgbClr val="92d050"/>
                </a:solidFill>
                <a:latin typeface="Constantia"/>
                <a:ea typeface="Ali_K_Samik"/>
              </a:rPr>
              <a:t>-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ثيَرست لة شي</a:t>
            </a:r>
            <a:r>
              <a:rPr b="0" lang="ar-SA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َ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وةى كارت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</a:rPr>
              <a:t>:</a:t>
            </a:r>
            <a:r>
              <a:rPr b="0" lang="ar-AE" sz="4400" spc="-1" strike="noStrike">
                <a:solidFill>
                  <a:srgbClr val="92d05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شيَوةى كارت داية شيَوةى كارتةكة ئةستورة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ووبةرةكةى (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7.5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سم – 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12.5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سم) دةبيَت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هةركتيَبيَك لة كتيَبخانة كارتيَك تةرخان كراوة و هةموو زانياريةكى ثيَويستى تيَدا تؤماركراوة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تةكان بةثىَ ى (أ، ب) ناوى دانةر يان بةثىَ ى ناوى كتيَبةكة لة سندوقيَكى تايبةتدا رِيَكخراوة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 زؤر بةئاسانى سود لةم كارتانة وةربطريَت ضونكة كارتى كتيَبةكانى هةردانةريَك لةذيَرناوى خؤيدا كؤكراوةتةوة يان كارتى ئةوكتيَبانةى لةسةر بابةتيَكى تايبةتن لةيةك شويَندا كؤكراونةتةو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1017-5D92-4692-A201-E6F4828E2C5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D27474D-DA17-4A58-A610-798F9E6E976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815-8505-44E3-B3D5-06B22FBEBE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475920"/>
            <a:ext cx="8280360" cy="55450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 fontScale="84000"/>
          </a:bodyPr>
          <a:p>
            <a:pPr marL="228960" indent="-153000" algn="r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ff"/>
                </a:solidFill>
                <a:uFillTx/>
                <a:latin typeface="Constantia"/>
                <a:ea typeface="Ali_K_Samik"/>
              </a:rPr>
              <a:t>3</a:t>
            </a:r>
            <a:r>
              <a:rPr b="0" lang="ar-AE" sz="48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ثيَرستى ثيَضراو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م جؤرة ثيَرستةش لة شيَوةى كارت داية بةلآم لةلاثةرِة يان لةسةر كاغةز ضاثكراوة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 (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500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) لاثةرِة بة ثى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ى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ةبابةت يا ناوى دانةر ثيَضراوةتةوة واتا ئةم جؤرة ثيَرستة ئةركى ثيَرستى ضاثكراو (كارت) دةبينيَت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B40-EC1E-49C0-B526-2D985BE5240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E58D69E-4CDA-441F-9F96-DCAC21ED52A3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8:01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C2B-7CF8-4DEB-A7ED-A743ABDC32D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9:27:35Z</dcterms:created>
  <dc:creator>Bina</dc:creator>
  <dc:description/>
  <dc:language>en-US</dc:language>
  <cp:lastModifiedBy>Bina</cp:lastModifiedBy>
  <dcterms:modified xsi:type="dcterms:W3CDTF">2013-01-07T08:25:07Z</dcterms:modified>
  <cp:revision>75</cp:revision>
  <dc:subject/>
  <dc:title>Slide 1</dc:title>
</cp:coreProperties>
</file>