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7" end="4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197-12C2-43D4-8215-1737CCBA7D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04EA-41F6-41E1-9AB4-2E2166C6001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21D6-8BB5-44CA-B840-824CA705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67CA-CD3D-45DA-8E27-318867E3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CC4-8A40-4FE5-985C-6B970E5C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A896-541D-461D-8CB0-D074A7AD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FE34-5DAF-4C9A-85E7-3D679487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8979D-D899-4EEF-9686-48210023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504EB-9FB2-4EE6-BAD3-F0B6DF3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7CFD8-9E77-4430-B7FE-BD7BDFD1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AE392-B3B3-49CA-9544-04452B8F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36B1A-1DB9-413D-8716-A8ADD526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41EAC-3192-402E-A90B-4FAD5778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59D-7C68-4B0F-A3C0-ABDE033D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7D65F-CF99-438C-A3D2-21D09465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B346E-6EFE-4CD6-9858-62B7F348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8FB70-2B4C-4AE5-BFCC-C95E9EE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C7140-FDE6-4AF2-B76D-2D049721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EB1C4-7EFF-491F-BF30-1C24FE7D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9007D-E7F2-403B-8678-DEA935FC3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0AB06-8F5C-4BA8-A2A5-FC58E03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CC24-43E8-47A6-A9B1-419D2DE3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13E7-2552-4877-9CC3-20BE2D8D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8FE0-347C-4ABA-8EAB-1A4C6FF7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40B-8569-47B8-8EEF-8B5E9DCA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DA054-C3E8-49D3-899B-CF94092B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E436E-175C-42CB-A71C-098AAF3E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F68B-504C-401E-93C0-CEE2138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DEA2-036A-4D74-8EE8-0F6AF674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F226-A970-4E20-9A88-BF6A257F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570C-FFE6-49E4-A6E3-BDAE1892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B5250-0C21-45CC-9CEE-3BA5AFEA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5C8CA-B709-4C0B-BA44-66D981DD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B567B1-F738-4BDC-818C-29C762E8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C50E9-7D87-4E5F-9A87-135F2B5E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0F62-EA59-4E6A-A67E-0F19BAE1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4917C9-C02D-4F09-937C-5449F7AD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8BD190-231C-401E-8C68-308652C8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89DD97-FC93-4E0D-8369-9E4E8A4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6FC89-374C-4767-A9ED-34D929C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C2628F-9451-4203-82C0-76AF3F58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1890B9-B820-4C29-8872-253DDAA1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99B40A-7B31-4460-933C-8222DF0A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077A93-D692-42E3-BA9D-376F4296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A6C040-6A07-44F4-A5BA-23A4E659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FC3-E24D-4D98-90D4-FCF32862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043-230F-45B5-96C0-01889E67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45A-C15E-4A76-8080-AE8C0FEC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CD18-931F-43C1-8BCA-45D6BA95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4B6-2FBB-4380-BAC4-7E08F231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6A54-2C43-416A-AD27-AAEC11301B3B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0B20197-914E-4809-8868-C7EAD79BA4E8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663-D3F2-49BF-85EF-A43E3D0876BC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c66bb"/>
          </a:solidFill>
          <a:ln w="38160">
            <a:solidFill>
              <a:srgbClr val="ac66bb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056A-2928-4CA7-A3C0-D659FB925C6C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8AE13AAB-247E-409C-B3AB-A825FB70B7CC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3404-DA5A-4F74-BBF1-7191EF006FBD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0685-90E2-43AD-9375-50BD619CDBDD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6E192637-0574-443A-9426-B4A29D58A182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F22-6445-4121-8773-C31CF4EC9403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2e8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 algn="r" rtl="1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 algn="r" rtl="1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 algn="r" rtl="1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2EF2-FB58-4433-A108-C8CF6CC465AB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00B8-410C-4781-98FF-FEF17F561C15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9D1D9AC8-D99E-4EFF-8C3C-9F467B974074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55640" y="764640"/>
            <a:ext cx="7632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Constantia"/>
                <a:cs typeface="Ali_k_kanaqen"/>
              </a:rPr>
              <a:t>كتيَبخانةو رِيَبازى ليَكؤلَينةوة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93366"/>
                </a:solidFill>
                <a:latin typeface="Constantia"/>
                <a:cs typeface="Ali_k_kanaqen"/>
              </a:rPr>
              <a:t>قؤناغى يةكةمى بةشى كوردى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33"/>
                </a:solidFill>
                <a:latin typeface="Constantia"/>
                <a:cs typeface="Ali_k_kanaqen"/>
              </a:rPr>
              <a:t>م.بابةت :</a:t>
            </a:r>
            <a:r>
              <a:rPr b="0" lang="ar-SA" sz="4400" spc="-1" strike="noStrike">
                <a:solidFill>
                  <a:srgbClr val="660033"/>
                </a:solidFill>
                <a:latin typeface="Constantia"/>
                <a:ea typeface="Ali_k_kanaqen"/>
              </a:rPr>
              <a:t> </a:t>
            </a:r>
            <a:r>
              <a:rPr b="0" lang="ar-SA" sz="2400" spc="-1" strike="noStrike">
                <a:solidFill>
                  <a:srgbClr val="660033"/>
                </a:solidFill>
                <a:latin typeface="Constantia"/>
                <a:cs typeface="Ali_k_kanaqen"/>
              </a:rPr>
              <a:t>ثةخشان على أحمد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3FE2-CA46-4C7B-9A84-AEE460FA82C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2E46FBE-E7E0-4E94-B49F-619E769D937D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A289-F44D-40C2-8E4F-86CC7C9E05D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755280" y="620640"/>
            <a:ext cx="7993080" cy="5184720"/>
          </a:xfrm>
          <a:prstGeom prst="rect">
            <a:avLst/>
          </a:prstGeom>
          <a:noFill/>
          <a:ln w="28440">
            <a:solidFill>
              <a:srgbClr val="591f4d"/>
            </a:solidFill>
            <a:miter/>
          </a:ln>
        </p:spPr>
        <p:txBody>
          <a:bodyPr anchor="t">
            <a:normAutofit fontScale="95000"/>
          </a:bodyPr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814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323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886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-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947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2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، هةوليَر، 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ضاثخانةى 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cs typeface="Ali_K_Samik"/>
              </a:rPr>
              <a:t>كوردستان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 ،</a:t>
            </a:r>
            <a:r>
              <a:rPr b="1" lang="ar-SA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1947</a:t>
            </a:r>
            <a:r>
              <a:rPr b="1" lang="ar-AE" sz="4800" spc="-1" strike="noStrike">
                <a:solidFill>
                  <a:srgbClr val="210f17"/>
                </a:solidFill>
                <a:latin typeface="Constantia"/>
                <a:ea typeface="Ali_K_Sami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176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67EC-967A-4F81-A3FA-2A70ACBBF1F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FEE98AB-3E61-4E1A-BAA4-EBA208FF6CBB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9283-74BB-42CB-861C-5685A68FDCB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traight Connector 2"/>
          <p:cNvSpPr/>
          <p:nvPr/>
        </p:nvSpPr>
        <p:spPr>
          <a:xfrm>
            <a:off x="7812000" y="1268280"/>
            <a:ext cx="86364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10920" y="476280"/>
            <a:ext cx="8373960" cy="56023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جؤرةكانى ثيَرست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 زؤر جؤرى هةية بةلآم ئةم سىَ جؤرةى خوارةوة ليَكؤلَةر سوديان ليَوةر دةطرن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1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دانةر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2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ناوى كتيَب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3</a:t>
            </a:r>
            <a:r>
              <a:rPr b="1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رستى بابةت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3738-A0CF-4628-B778-A2566B75C12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BB1257B-EAA3-4478-9686-50D9F8D199D3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BE46-F7E4-4784-B451-F47E6DBBF6B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84000" y="333000"/>
            <a:ext cx="8064360" cy="5745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374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ff0000"/>
                </a:solidFill>
                <a:uFillTx/>
                <a:latin typeface="Constantia"/>
                <a:ea typeface="Ali_K_Alwand"/>
              </a:rPr>
              <a:t>1</a:t>
            </a:r>
            <a:r>
              <a:rPr b="0" lang="ar-SA" sz="5400" spc="-1" strike="noStrike" u="sng">
                <a:solidFill>
                  <a:srgbClr val="ff0000"/>
                </a:solidFill>
                <a:uFillTx/>
                <a:latin typeface="Constantia"/>
                <a:ea typeface="Ali_K_Alwand"/>
              </a:rPr>
              <a:t>- ثيَرستى ناو دانةر :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لةم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جؤرة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ثيَرستةدا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ناوى دانةرةكة كراوةتة ناوى سةرةكى 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ناوى دانةرةكان بةثىَ ى (أ، ب) رِيَكخراو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ئةطةر ليَكؤلَةر ناوى دانةرةكة بزانىَ ئةوا دةتوانىَ بة ئاسانى كارتى سةرضاوةكة بدؤزيَتةوة</a:t>
            </a:r>
            <a:r>
              <a:rPr b="1" lang="ar-SA" sz="4000" spc="-1" strike="noStrike">
                <a:solidFill>
                  <a:srgbClr val="92d050"/>
                </a:solidFill>
                <a:latin typeface="Constantia"/>
                <a:ea typeface="Ali_K_Samik"/>
              </a:rPr>
              <a:t> و لةهةمان كاتيشدا </a:t>
            </a:r>
            <a:r>
              <a:rPr b="1" lang="ar-AE" sz="4000" spc="-1" strike="noStrike">
                <a:solidFill>
                  <a:srgbClr val="92d050"/>
                </a:solidFill>
                <a:latin typeface="Constantia"/>
                <a:cs typeface="Ali_K_Samik"/>
              </a:rPr>
              <a:t>دةشتوانى هةموو كتيَبةكانى دانةريَكى تايبةت بةسةر بكاتةو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74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3D8-4B17-480E-BD06-C988C8F0A1A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5B648B9-942C-4B6E-B879-F9006AA32693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4248-9E17-4857-91DE-840B0306929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68000" y="260280"/>
            <a:ext cx="8351640" cy="5818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 fontScale="93000"/>
          </a:bodyPr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2</a:t>
            </a:r>
            <a:r>
              <a:rPr b="0" lang="ar-AE" sz="37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ثيَرستى ناوى كتيَب: 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 جؤرة ثيَرستةدا كارتةكان بةثىَ ى ناوى كتيَبةكان رِيَكخ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مان كارتى دانةر لةم جؤرة ثيَرستةدا بةكارهاتوة تةنها ئةوةنةبىَ كةلةلاى سةرةوةى كارتةكة ناوى كتيَبةكة بةرِةنطيَكى تر نوسراو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طةر ليَكؤلَةر ناوى دانةرةكةش نةزانى بةلَكو تةنها ناوى كتيَبةكة بزانى دةتوانى سود لةم جؤرة ثيَرستة ببينىَ دةتوانى بة ئاسانى كارتةكة بدؤزيَتةوة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10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A576-1932-4EFD-BEA9-980BB5421C0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34B0A15-EEFC-4459-A872-BAFC8A0BB3E2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15E0-3D27-4DA4-A775-73F273D4A66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3640" y="549000"/>
            <a:ext cx="8661240" cy="5529240"/>
          </a:xfrm>
          <a:prstGeom prst="rect">
            <a:avLst/>
          </a:prstGeom>
          <a:noFill/>
          <a:ln w="28440">
            <a:solidFill>
              <a:srgbClr val="b83d68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814</a:t>
            </a:r>
            <a:r>
              <a:rPr b="1" lang="ar-AE" sz="40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1" lang="ar-AE" sz="40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1" lang="ar-AE" sz="4400" spc="-1" strike="noStrike">
                <a:solidFill>
                  <a:srgbClr val="ff0000"/>
                </a:solidFill>
                <a:latin typeface="Constantia"/>
                <a:ea typeface="Ali_K_Samik"/>
              </a:rPr>
              <a:t>(خؤشى و ترشى)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323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886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-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947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2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، هةوليَر، ضا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ثخ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انةى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 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كوردستا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cs typeface="Ali_K_Samik"/>
              </a:rPr>
              <a:t>ن ، </a:t>
            </a:r>
            <a:r>
              <a:rPr b="1" lang="ar-SA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1947</a:t>
            </a:r>
            <a:r>
              <a:rPr b="1" lang="ar-AE" sz="4400" spc="-1" strike="noStrike">
                <a:solidFill>
                  <a:srgbClr val="0000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337-4B96-4C20-9F08-36D09E2E114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569A0F4-543D-4851-B061-659476E7307A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E115-32DB-4205-8E73-1DF8BBAC37B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8172360" y="1268280"/>
            <a:ext cx="72072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10920" y="404280"/>
            <a:ext cx="8373960" cy="5673960"/>
          </a:xfrm>
          <a:prstGeom prst="rect">
            <a:avLst/>
          </a:prstGeom>
          <a:noFill/>
          <a:ln w="28440">
            <a:solidFill>
              <a:srgbClr val="7030a0"/>
            </a:solidFill>
            <a:miter/>
          </a:ln>
        </p:spPr>
        <p:txBody>
          <a:bodyPr anchor="t">
            <a:normAutofit fontScale="87000"/>
          </a:bodyPr>
          <a:p>
            <a:pPr marL="38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3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</a:t>
            </a:r>
            <a:r>
              <a:rPr b="0" lang="ar-AE" sz="44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ثيَرستى بابةت</a:t>
            </a:r>
            <a:r>
              <a:rPr b="0" lang="ar-SA" sz="44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تةكانى ئةم جؤرة ثيَرستة هةر وةك كارتةكانى دانةر واية تةنها ئةوة نةبىَ كةناوى بابةتةكة بةرِةنطيَكى تر لةلاى سةرةوة نوسراو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جؤرة ثيَرستة بة طويَرةى سةرةبابةتةكة ئينجا بة طويَرةى (أ، ب) ناوى بابةتة تايبةتيةكان رِيَكخراو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وا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تة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بةتيَك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كة سىَ ضوار جؤر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تيَب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بةخؤوة دةطرىَ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،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سىَ ضوار كارتى بؤ ئامادة دةكرىَ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جؤرة ثيَرستة زؤر ثيَويستة بؤ ليَكؤلَةر ضونكة بةهؤيةوة دةزانيَت ضةند كتيَب لةبارةى ئةو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بةتةى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ةلىَ دةكؤلَيَتةوة هةية و دةشزانى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َ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ضةند بابةتى تر ثةيوةندى بة بابةتى ليَكؤلَين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وة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ةيةوة هةية.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2B32-9F60-428A-BC20-2602F02B2A2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02521C1-4BAB-49C0-AA10-FA0419CBDC1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56F-D288-44DE-A7F1-4D394BC94A5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755640" y="404640"/>
            <a:ext cx="7848720" cy="5545440"/>
          </a:xfrm>
          <a:prstGeom prst="rect">
            <a:avLst/>
          </a:prstGeom>
          <a:solidFill>
            <a:srgbClr val="eee0f1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814</a:t>
            </a:r>
            <a:r>
              <a:rPr b="1" lang="ar-SA" sz="4800" spc="-1" strike="noStrike">
                <a:solidFill>
                  <a:srgbClr val="12060f"/>
                </a:solidFill>
                <a:latin typeface="Constantia"/>
                <a:ea typeface="Ali_K_Samik"/>
              </a:rPr>
              <a:t> </a:t>
            </a:r>
            <a:r>
              <a:rPr b="1" lang="ar-AE" sz="4800" spc="-1" strike="noStrike">
                <a:solidFill>
                  <a:srgbClr val="12060f"/>
                </a:solidFill>
                <a:latin typeface="Constantia"/>
                <a:ea typeface="Ali_K_Samik"/>
              </a:rPr>
              <a:t>           </a:t>
            </a:r>
            <a:r>
              <a:rPr b="1" lang="ar-AE" sz="4800" spc="-1" strike="noStrike">
                <a:solidFill>
                  <a:srgbClr val="ff0000"/>
                </a:solidFill>
                <a:latin typeface="Constantia"/>
                <a:ea typeface="Ali_K_Samik"/>
              </a:rPr>
              <a:t>( ئةدةب و هونةر)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323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داماو، حوزنى موكريانى: 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886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-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947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خؤشى و ترشى، ض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2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، هةوليَر، ضا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ث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خانةى كوردست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cs typeface="Ali_K_Samik"/>
              </a:rPr>
              <a:t>ان ،</a:t>
            </a:r>
            <a:r>
              <a:rPr b="1" lang="ar-SA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1947</a:t>
            </a:r>
            <a:r>
              <a:rPr b="1" lang="ar-AE" sz="4800" spc="-1" strike="noStrike">
                <a:solidFill>
                  <a:srgbClr val="c00000"/>
                </a:solidFill>
                <a:latin typeface="Constantia"/>
                <a:ea typeface="Ali_K_Samik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3924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3DEF-3022-4983-9F3A-6A437CE567B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02CA3E8-C77F-4075-B962-037EF340684A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CDC8-15E2-4FF0-BE3F-C8EFE884E88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2"/>
          <p:cNvSpPr/>
          <p:nvPr/>
        </p:nvSpPr>
        <p:spPr>
          <a:xfrm>
            <a:off x="7596360" y="1268280"/>
            <a:ext cx="914400" cy="0"/>
          </a:xfrm>
          <a:prstGeom prst="line">
            <a:avLst/>
          </a:prstGeom>
          <a:ln w="1260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333000"/>
            <a:ext cx="8280360" cy="554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c000"/>
                </a:solidFill>
                <a:uFillTx/>
                <a:latin typeface="Constantia"/>
                <a:cs typeface="Ali_K_Kosari"/>
              </a:rPr>
              <a:t>بةشةكانى كتيَخانة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c000"/>
                </a:solidFill>
                <a:latin typeface="Constantia"/>
                <a:cs typeface="Ali_K_Samik"/>
              </a:rPr>
              <a:t>ب- بةشى خواستنةوة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ئةم بةشة بةشيَكى سةرةكيةو خويَنةر و ليَكؤلَةر ر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ِ</a:t>
            </a: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استةخؤ مامةلَةى لةطةلَ دادةكةن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ئةم بةشة بةرثرسيارة لة هةلَطرتن 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و</a:t>
            </a:r>
            <a:r>
              <a:rPr b="0" lang="ar-AE" sz="4000" spc="-1" strike="noStrike">
                <a:solidFill>
                  <a:srgbClr val="ffc000"/>
                </a:solidFill>
                <a:latin typeface="Constantia"/>
                <a:cs typeface="Ali_K_Samik"/>
              </a:rPr>
              <a:t>ثاراستنى جؤرةها كتيَب بؤ خويَنةران</a:t>
            </a:r>
            <a:r>
              <a:rPr b="0" lang="ar-SA" sz="4000" spc="-1" strike="noStrike">
                <a:solidFill>
                  <a:srgbClr val="ffc000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c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E76D-2B94-42BE-B9F9-7A8762CBC29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364D5C0-6178-4166-A588-9A334B599FED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B289-F629-482B-83A2-B3F0CA7B1FA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4920" y="549360"/>
            <a:ext cx="8209080" cy="547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245520" indent="-245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لةم بةشةدا كتيَبةكان بة ثيَى سيستةميَكى تايبةتى ثؤل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ين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كراون و رِيَكخراون لةسةر رِةفةى كتيَبخانةكةدا دانراو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.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بؤ خواست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ى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كتيَب 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لة بةشى خواستنةوةدا </a:t>
            </a:r>
            <a:r>
              <a:rPr b="0" lang="ar-AE" sz="4400" spc="-1" strike="noStrike">
                <a:solidFill>
                  <a:srgbClr val="f2f2f2"/>
                </a:solidFill>
                <a:latin typeface="Constantia"/>
                <a:cs typeface="Ali_K_Samik"/>
              </a:rPr>
              <a:t>دوو رِيَطةى سةرةكى هةية كة زؤربةى كتيَبخانةكان ثةيرِةوى دةكةن</a:t>
            </a:r>
            <a:r>
              <a:rPr b="0" lang="ar-SA" sz="4400" spc="-1" strike="noStrike">
                <a:solidFill>
                  <a:srgbClr val="f2f2f2"/>
                </a:solidFill>
                <a:latin typeface="Constantia"/>
                <a:ea typeface="Ali_K_Samik"/>
              </a:rPr>
              <a:t> ، ئةوانيش بريتين لة: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D134-2122-44DB-9981-6773126513E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79A6F80-C6AF-42B4-AF88-385091330704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2DB9-AD11-4310-B5B6-1E598E15CBA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4000" y="475920"/>
            <a:ext cx="8424720" cy="554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1</a:t>
            </a:r>
            <a:r>
              <a:rPr b="0" lang="ar-AE" sz="48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- رِةفةى داخراو: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ثىَ ى ئةم سيستةمة خويَنةر دةتوانى كتيَب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كتيَبخانة 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خواز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آ 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ثاش ئةوةى ثسولةى خواستن لة بةشى ثيَرست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وةردةطريَت ئينجا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ذمارةى داواكردن و ناوى كتيَب و دانةرى كتيَبةكة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نووسيَت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FC14-9BED-4F2A-96F9-91A226FADAE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04B214E-A1F9-46FF-AE2F-DAB7FF441480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590-39D0-4D38-818E-24346801529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55640" y="1268280"/>
            <a:ext cx="8229600" cy="4810320"/>
          </a:xfrm>
          <a:prstGeom prst="rect">
            <a:avLst/>
          </a:prstGeom>
          <a:noFill/>
          <a:ln w="1908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كتي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ب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خانةى نيشتيمانى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2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كتي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ب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Alwand"/>
              </a:rPr>
              <a:t>خانةى طشتى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3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كتيَبخانةى زانكؤ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4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Alwand"/>
              </a:rPr>
              <a:t>- كتيَبخانةى ئةليكترؤنى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A44-010E-4BF0-894F-27F5115F128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BE2BDB5-44A5-4187-8FBB-3ECD4D0F3801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A7D-5656-4137-BD4A-3A0157E9DCB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749160" y="109440"/>
            <a:ext cx="8102880" cy="1262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68000" y="549360"/>
            <a:ext cx="8351640" cy="540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ةر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ِ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اى ئةوة ناونيشانى خؤشى لةثسولةكة دةنوسيَت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ثسولةكة دةدات بةسةرثةرشتى بةشةكة ئينجا ئةويش  كتيَبةكةى لةسةر رِةفةكة بؤ دةهيَنيَت 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واتا بةثىَ ى ئةو سيستةمة رِيَنادريَت بة خويَنةر ياخود ليَكؤلَةر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cs typeface="Ali_K_Samik"/>
              </a:rPr>
              <a:t>بضيَتة ناو ئةو هؤلَةى كة كتيَبةكانى تيَداية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9CD-74D5-4BA4-A97E-6D3B8567D61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F0460772-EE4E-4CB8-8129-21C07004A7D2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6707-F085-477D-9E03-0344AED381C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94920" y="475920"/>
            <a:ext cx="8280360" cy="5473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385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2</a:t>
            </a:r>
            <a:r>
              <a:rPr b="0" lang="ar-SA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- </a:t>
            </a:r>
            <a:r>
              <a:rPr b="0" lang="ar-AE" sz="4000" spc="-1" strike="noStrike" u="sng">
                <a:solidFill>
                  <a:srgbClr val="ff0000"/>
                </a:solidFill>
                <a:uFillTx/>
                <a:latin typeface="Constantia"/>
                <a:ea typeface="Ali_K_Samik"/>
              </a:rPr>
              <a:t> رِةفةى كراوة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سيستةمة تايبةتة بة خويَندكاران و ليَكؤلَةرانى خويَندنى بالآ واتا ئةوانةى دةيانةوىَ خويَندنى ماجستيَر و دكتؤرا تةواو بكةن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ثىَ ى ئةو سيستةمة رِيَطة بةو خويَندكارانة دةدريَت بضنة ناو هؤلَى كتيَبخانةكةو بة ئارةزووى خؤيان بةناو بةشةكة بسورِيَنةوةو سةيرى كتيَبةكان بكةن و ئةو سةرضاوانة بدؤزنةوة كة ثةيوةنديان بةبابةتةكةوة هةي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385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ويستة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شارةزايى لة سيستةمى ثؤل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ى كتيَبةكان هةبيَت بؤ ئةوةى بة ئاسانى سةرضاوةكان بدؤزريَتةوة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9DA6-DFF4-4D05-B3BF-1BA451A72176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21ED38D-F203-454E-B136-2F72543CC56B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EAC2-A852-4506-8B87-4F7F660A621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68000" y="404280"/>
            <a:ext cx="8280360" cy="5761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428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ج- بةشى سةرضاوة: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بةشة بةشيَكى سةربةخؤى كتيَبخان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كتيَبانةى كة لةم بةشة دانراوة سةرضاوةى بنةرِةتى و دةطمةن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 بنةرِةتيةكان وةك ئينسكلؤثيديا و بيبلؤطرافيا"ليستى سةرضاوة«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و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فةرهةنطةكان لة شويَنيَكى تايبةت دان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284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6FB9-C2ED-438A-9C43-D4CD5A1EE196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03A51471-D90B-415C-8C11-B76D74E61647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1E25-ACDD-4008-BB01-579550B4E71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24000" y="260280"/>
            <a:ext cx="8424720" cy="5616720"/>
          </a:xfrm>
          <a:prstGeom prst="rect">
            <a:avLst/>
          </a:prstGeom>
          <a:noFill/>
          <a:ln w="28440">
            <a:solidFill>
              <a:srgbClr val="591f4d"/>
            </a:solidFill>
            <a:miter/>
          </a:ln>
        </p:spPr>
        <p:txBody>
          <a:bodyPr anchor="t">
            <a:normAutofit fontScale="86000"/>
          </a:bodyPr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َ بؤخؤى سةرضاوةكان هةلَبذيَرىَ و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بي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هيَنيَت لةسةرئ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و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ميَزانةى لةم بةشة دانراون بيان خويَنيَتةوةو ثيَويستى خؤى جىَ بةجىَ بكا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ثاشان هةر لةسةر ميَزةكة سةرضاوةكة بةجىَ دةهيَلَيَ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،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ثةرشتى بةشةكة خؤى بةرثرسيارة لة طةرِانةوةى سةرضاوةكة بؤ شويَنى خؤيا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34360" indent="-23436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تا لةم بةشةدا رِيَنادريَت ك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كان بؤ دةرةوةى بةشةكة ببريَن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،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ضونكة ئةوسةرضاوانة سةرضاوةى طشتين و خةلَكيَكى زؤر ثيَويستى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ثيَى دةبيَت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30CD-C584-486B-A4EC-3A9B6111B1EA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658AB6BD-E379-4665-AE7A-720683476C36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C552-1A4E-4537-A9FA-7729E595826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د- بةشى زنجيرة ناوبةناوةكان: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 بةشةدا طؤظارو رِؤذنامةكان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ثاريَزريَن و ب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ى بنةرِةتى دادةنريَن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يَنادريَ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ت بة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ر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دنة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دةرةوةى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سةرضاوة لةم بةشةياندا  بةلَكو 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َ هةرلةشويَنى خؤيان سوديان ليَوةرطرىَ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دؤزينةوةى بابةتى ليَكؤلَينةوةكةشى دةتوانىَ بطةرِيَتةوة بؤ ئةو بيبلؤطرافيايانةى كة بة ثيَى بابةت و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نا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وى نوسةرى بابةتةكان رِيَكخراو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ةرِاى ئةمة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ش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طؤظار و رِؤذنامةكان كارتى ثيَرستى </a:t>
            </a:r>
            <a:r>
              <a:rPr b="0" lang="ar-SA" sz="3700" spc="-1" strike="noStrike">
                <a:solidFill>
                  <a:srgbClr val="ffffff"/>
                </a:solidFill>
                <a:latin typeface="Constantia"/>
                <a:cs typeface="Ali_K_Samik"/>
              </a:rPr>
              <a:t>بؤ</a:t>
            </a:r>
            <a:r>
              <a:rPr b="0" lang="ar-AE" sz="3700" spc="-1" strike="noStrike">
                <a:solidFill>
                  <a:srgbClr val="ffffff"/>
                </a:solidFill>
                <a:latin typeface="Constantia"/>
                <a:ea typeface="Ali_K_Samik"/>
              </a:rPr>
              <a:t> رِيَكخراوة.</a:t>
            </a: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96EC-7254-4357-ADFD-89F901309BE5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952E508A-734B-4BED-9A77-DD549E102756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2D0F-C41D-466A-9EFD-995ED9A386F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100" spc="-1" strike="noStrike" u="sng">
                <a:solidFill>
                  <a:srgbClr val="6c1459"/>
                </a:solidFill>
                <a:uFillTx/>
                <a:latin typeface="Constantia"/>
                <a:cs typeface="Ali_K_Samik"/>
              </a:rPr>
              <a:t>ه- بةشى بيستن و بينين: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ثيَشكةوتنى تةكنةلؤجيا خزمةتيَكى طةورة بة كتيَبخانة دةكات بؤ دابينكردنى ئاميَرى تةكنيكى وةك فيلم و سى دى و كاسيةت و كؤمثيوتةر.......هتد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ئاميَرانة لةبةشيَكدا ثاريَزراون بةناوى بةشي بيستن و بينين 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لةبةرئةوةى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بةكارهيَنانى ئةمانة كارى هونةرى دةوىَ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بؤية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سود لة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ea typeface="Ali_K_Samik"/>
              </a:rPr>
              <a:t> ر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ِيَنماي</a:t>
            </a:r>
            <a:r>
              <a:rPr b="0" lang="ar-SA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ي</a:t>
            </a:r>
            <a:r>
              <a:rPr b="0" lang="ar-AE" sz="4100" spc="-1" strike="noStrike">
                <a:solidFill>
                  <a:srgbClr val="ffffff"/>
                </a:solidFill>
                <a:latin typeface="Constantia"/>
                <a:cs typeface="Ali_K_Samik"/>
              </a:rPr>
              <a:t>ةكانى سةرثةرشتى بةشةكة وةربطرىَ.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C72A-3F61-4044-AE56-0CB7B59CE2D2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B20D723B-DA2E-498A-876D-6DECBCCDC458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CA57-B6F8-4BD2-9F00-4C79E1EAF3DA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و- سيستةمى ئالَوطؤرِكردنى كتيَب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زؤرجار وا رِيَكدةكةوىَ ليَكؤلَةر ئةو سةرضاوةيةى دةست ناكةوى لةو كتيَبخانةيةى كة هاتوضؤى بؤ دةكات بةلآم ئةمة نابيَ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ة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هؤى ئةوةى كة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ليَكؤلَةرة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ائوميَد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بيَت و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ز لة ليَكؤلَينةوةكةى بيَنىَ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 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ضونكة سيستةميَك هةية بؤ ئالَوطؤركرد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ى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كتيَب و سةرضاوة لة نيَوان كتيَبخانةكاندا كةلةكاتى ثيَويس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دا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كتيَبخانةيةك داوا لة كتيَبخانةكان دةكات بةثيَى سيستةميَك كةلةسةرى رِيَككةو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توو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 ئةو كتيَبة يان ئةو سةرضاوةيةى بؤ دابي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بكا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C064-A7C9-437D-8818-A0E27BC3837F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99F10D40-9836-4783-AFB4-F401E3BC16E3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60DE-ADE0-4D3D-9D75-A98BCC4A54C7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 بؤماوةى سىَ هةفتة يان زياتر كتيَبةكة لا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ى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خؤى بهيَلَيَتةوة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وات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ة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لةكاتى ثيَويستدا ليَكؤلَةر داوا لةسةرثةرشتى كتيَبخانةكة دةكات كةلةطةلَ ض كتيَبخانةيةك سيستةمى ئالَوطؤرِكردنيان ه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، تاوةو ئةمانيش ئةو سةرضاةيةى بؤ دابين بكةن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C64F-F7EE-493D-9452-068B8AE5B5C5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497419E2-709F-4EDF-AB52-3D575F13FDC2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459C-AC0A-4807-9830-32B15950EDD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ff0000"/>
                </a:solidFill>
                <a:uFillTx/>
                <a:latin typeface="Constantia"/>
                <a:cs typeface="Ali_K_Samik"/>
              </a:rPr>
              <a:t>رِيَكخستنى كتيَبخانة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رِيَكخستنى كتيَبخانة و ثؤليَنكردنى كتيَب دوو رِيَطةى سةرةكى هةية كة ئةمانةن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1</a:t>
            </a: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-رِيَطاى(د</a:t>
            </a:r>
            <a:r>
              <a:rPr b="0" lang="ar-SA" sz="4400" spc="-1" strike="noStrike" u="sng">
                <a:solidFill>
                  <a:srgbClr val="0000ff"/>
                </a:solidFill>
                <a:uFillTx/>
                <a:latin typeface="Constantia"/>
                <a:cs typeface="Ali_K_Samik"/>
              </a:rPr>
              <a:t>يوى</a:t>
            </a:r>
            <a:r>
              <a:rPr b="0" lang="ar-AE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):</a:t>
            </a:r>
            <a:r>
              <a:rPr b="0" lang="ar-SA" sz="4400" spc="-1" strike="noStrike" u="sng">
                <a:solidFill>
                  <a:srgbClr val="0000ff"/>
                </a:solidFill>
                <a:uFillTx/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هةنديَك جار بةدابةشكردنى دة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ي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يش ناودةبريَت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م رِيَطاية بةناوبانطترين رِيَطاى رِيَكخستنى كتيَبخانةية</a:t>
            </a:r>
            <a:r>
              <a:rPr b="0" lang="ar-SA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44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0C2F-89CF-4A9E-830C-4F3CD02501A0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81C68A53-EE56-4CD4-874F-468CEC284F2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A82E-7E47-4645-BFFB-0849C1E55DDC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68360" y="47592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بة طويَرةى ئةم سيستةمة يان ئةو رِيَطاية هةموو ضاثكراوةكان لة هةموو بوارةكانى زانست و زانياري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يدا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بؤ دة بةشى سةرةكى دابةش دةكريَ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بةشيَكى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ةم دة بةشة بؤ دة لقى دي دابةش دةبن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هةر لقيَكيش بؤ دة لقى دى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بةش دةبيَت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تا دةطاتة بضوكترين بوارى ثسثؤرِايةتى لة زانستدا واتا ئةم رِيَطاية لة طشتييةوة بؤ تايبةتى دةضيَت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8E2E-5828-4F34-93B1-9CF4D6669B37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28FD454A-1B76-49EB-847A-4557D7D57CD9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CEBA-C88C-43E7-B4B7-5A4EC5C80CF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95280" y="1484280"/>
            <a:ext cx="8353440" cy="4594320"/>
          </a:xfrm>
          <a:prstGeom prst="rect">
            <a:avLst/>
          </a:prstGeom>
          <a:noFill/>
          <a:ln w="28440">
            <a:solidFill>
              <a:srgbClr val="e5afc2"/>
            </a:solidFill>
            <a:miter/>
          </a:ln>
        </p:spPr>
        <p:txBody>
          <a:bodyPr anchor="t">
            <a:normAutofit/>
          </a:bodyPr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 شيَوةيةكى طشتى كتيَبخانة خؤى لة دوو بةشى سةرةكيدا دبينيَتةوة كة ئةمانةن 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بةشى هونةرى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بةشى خزمةتطوزارى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2FD-A5B3-4F59-9679-5D01252A3BAA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E531D00-B8B2-4849-82E4-F5A458337317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235F-846F-44D1-942A-D30ED5110E6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  <a:cs typeface="Ali_K_Sahifa"/>
              </a:rPr>
              <a:t>كتيَبخانةو رِيَبازى ليَكؤلَينةوة- قؤناغى يةكةم - سالَى خويَندن (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2012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-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2013</a:t>
            </a:r>
            <a:r>
              <a:rPr b="0" lang="ar-SA" sz="1600" spc="-1" strike="noStrike">
                <a:solidFill>
                  <a:srgbClr val="ffffff"/>
                </a:solidFill>
                <a:latin typeface="Times New Roman"/>
                <a:ea typeface="Ali_K_Sahifa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1182600" y="530280"/>
            <a:ext cx="7218360" cy="1176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بةشة سةرةكييةكةى رِيَطاي ديوى لةطةلَ ذمارة تايبةتييةكاندا بةم شيَوةيةى خوارةوةية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0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– 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زانيارية طشت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1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فةلسةفة و دةرونزانى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2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ئايين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3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زانستة كؤمةلآيةتي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499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 زمانةكان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9B05-8A28-458F-8411-9F1B426B321E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D03E104B-A7A0-4E43-8993-9CF810B4649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000-1F05-4AF3-AC55-B32C30502121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5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زانستة رِووت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6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زانستة ثةروةردةيي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7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هونةرة جوانةكان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8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ئةدةب ياخود ئةدةبيةت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999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ميَذوو و جوطرافيا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1118-73F2-4D39-B2B6-3AD8B5032BD1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50A43EE-F7C6-40AA-A27D-2B4812D3BA3A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04E-4E35-4222-9A43-EE3504D053E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كريَت هةربةشيَك لةم بةشانةى سةرةوة بؤ دة بةشى دى دابةش بكريَن بؤ نمونة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cs typeface="Ali_K_Samik"/>
              </a:rPr>
              <a:t>بةشى زانستة كؤمةلآيةتييةكان كة ذمارةيان(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0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– 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99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ةم شيَوةيةى خوارةوة دابةش دةكريَت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0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كؤمةلآيةت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1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ئامار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2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ئابور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3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 ياسا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4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كارطيرِى طشتى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5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ئاسودةى كؤمةلآيةتى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6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ثةروةردةو فيَركردن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7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رِاميارى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8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بازرطانى و هاتووضؤ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390</a:t>
            </a:r>
            <a:r>
              <a:rPr b="0" lang="ar-AE" sz="2400" spc="-1" strike="noStrike">
                <a:solidFill>
                  <a:srgbClr val="ffffff"/>
                </a:solidFill>
                <a:latin typeface="Constantia"/>
                <a:ea typeface="Ali_K_Samik"/>
              </a:rPr>
              <a:t>       داب و نةريت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3869-D2CA-4BAB-BE8E-A515AEB7EF16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0D2711A8-C7BC-455B-9585-A686A7598F5B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0519-2B24-4778-BA7C-3E60870DC933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لقيَكيش لةم لقانةى سةرةوة بؤ ضةند لقيَكى بضوكتر دابةش دةبيَت بؤنمونة ئةطةر لقى ثةروةردةو فيَركردن وةربطرين كة ذمارةكةى (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) ئةم لقانةى خوارةوةى لىَ دةبيَتةوة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.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تيؤرو فةلسةفةى ثةروةد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0.78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تويَذينةوةى ثةروةردةيى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وانة وتنةوة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361.1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مامؤستاي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ا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ن و ئةنجومةنى باوكان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دواى ئةمة هةرلقيَك لةمانةى سةرةوة بؤ دة لقى تر دابةش دةبيَت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739-F129-4569-B282-D0789D8CA5E2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EB814B2B-2D9F-4E57-80FC-09F5F64311B8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54A-AE6B-46C3-83B3-6B2920577C0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ff"/>
                </a:solidFill>
                <a:latin typeface="Constantia"/>
                <a:ea typeface="Ali_K_Samik"/>
              </a:rPr>
              <a:t>2</a:t>
            </a:r>
            <a:r>
              <a:rPr b="0" lang="ar-AE" sz="4000" spc="-1" strike="noStrike">
                <a:solidFill>
                  <a:srgbClr val="0000ff"/>
                </a:solidFill>
                <a:latin typeface="Constantia"/>
                <a:ea typeface="Ali_K_Samik"/>
              </a:rPr>
              <a:t>-</a:t>
            </a:r>
            <a:r>
              <a:rPr b="0" lang="ar-AE" sz="4000" spc="-1" strike="noStrike" u="sng">
                <a:solidFill>
                  <a:srgbClr val="0000ff"/>
                </a:solidFill>
                <a:uFillTx/>
                <a:latin typeface="Constantia"/>
                <a:cs typeface="Ali_K_Samik"/>
              </a:rPr>
              <a:t>رِيَطا ياخود سيستةمى كتيَبخانةى كؤنطريَسى ئةمريكى: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رِيَطاية لة زؤربةى زانكؤكانى ئةمريكا و ئةوروثادا بةكاردةهيَنريَت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لةم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سيستةم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 زانست و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زانيارييةكان بؤ بيست بةش دابةشكراون 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بة ثيَى ثيتةكانى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A-B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ثيتةكانى 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W, X,Y, I, O</a:t>
            </a:r>
            <a:r>
              <a:rPr b="0" lang="ar-IQ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ةكارنةهيَن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 algn="just" rtl="1">
              <a:lnSpc>
                <a:spcPct val="9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دوو ثيتى (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E, F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) بؤ ميَذووى ئةمريكا تةرخانكراون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1BBE-7CCD-4494-AFDE-35B768ECB628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381BB635-EAF6-4C3F-8BF5-5453D3163D50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E9C0-3C57-4A59-A4DB-CC191AB5137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دابةشكردنةك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mik"/>
              </a:rPr>
              <a:t>ش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بةم شيَوةيةى خوارةوةية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A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زانيارى طشت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B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فةلسةفة و ئاين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C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 ميَذوو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D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ميَذووى بيطانة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E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ميَذووى ئةمريكا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G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جوطرافياو مرؤظناس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H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كؤمةلَناسى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DE3F-9837-4DCB-84A6-AE48A0E73517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220DB9D3-6C61-489B-B15F-24F3CC46A495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98A-5545-4898-94B5-214642E0D5F9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J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انستى رِاميار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K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ياس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L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 .    ثةروةرد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M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مؤسيق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N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هونةرى تةشكيلى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P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مان و ئةدة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Q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زانست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R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ثزيشكى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S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كشتوكال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T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 تةكنةلؤجي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U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دةرياوان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V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  زانستى دةرونى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Z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.  </a:t>
            </a:r>
            <a:r>
              <a:rPr b="0" lang="ar-IQ" sz="2600" spc="-1" strike="noStrike">
                <a:solidFill>
                  <a:srgbClr val="ffffff"/>
                </a:solidFill>
                <a:latin typeface="Constantia"/>
                <a:ea typeface="Ali_K_Samik"/>
              </a:rPr>
              <a:t>   </a:t>
            </a:r>
            <a:r>
              <a:rPr b="0" lang="ar-AE" sz="2600" spc="-1" strike="noStrike">
                <a:solidFill>
                  <a:srgbClr val="ffffff"/>
                </a:solidFill>
                <a:latin typeface="Constantia"/>
                <a:cs typeface="Ali_K_Samik"/>
              </a:rPr>
              <a:t>زانستى كتيَبخانةو بيبلؤطرافيا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0FF5-19AD-44BD-A9FD-D3E117974C0D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9668EF5A-F421-42EA-AC2B-338B031B8894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A8F6-68A1-454B-B984-DD34AD92982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E2FF-741D-4530-8544-F41FE39A8D6D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3F9977F5-05EA-400B-BCA7-C6370983124A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831-15FB-4113-A137-EB676EB59139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4BAF-C5CB-4621-98B2-4ED2C3F75D0B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BA3B19D8-B871-46BA-B36F-C5B0390D64D1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D9FE-7DCF-4784-A23A-6C0D2D51DC92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07A7-0DAC-4DFD-8E1B-D57F5AA0BF31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66145F61-3B77-4A89-A1CF-232322E141EC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852-2335-4163-96E2-E52E73DC0F14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755280" y="692280"/>
            <a:ext cx="7993080" cy="53863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شى هونةرى ضةند شتيَك لة خؤوة دةطريَت كة بريتين لةمانةى لاى خوارةوة 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ثةيداكردن و كرِينى كتيَب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ى رِؤشنبيرى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تؤماركردن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ثؤل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يان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5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امادةكردنى ليستى تايبةت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BBD1-82A0-444A-B078-0A1EAF415CE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B666977-A6E5-4C1F-8D1B-B1875669AEE6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8BC3-71D9-4A4B-B19B-3E91ECCD5EB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Date Placeholder 2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A263-7C37-4BD1-9FE9-7ADADB82CBB9}" type="datetime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 </a:t>
            </a:r>
            <a:fld id="{5D600139-B8B6-41A5-912E-69FDFBB5F73B}" type="datetime12">
              <a:rPr b="0" lang="en-US" sz="1200" spc="-1" strike="noStrike">
                <a:solidFill>
                  <a:srgbClr val="f4e7ed"/>
                </a:solidFill>
                <a:latin typeface="Times New Roman"/>
              </a:rPr>
              <a:t>01:29 PM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1CD7-41F4-4704-A40A-35EED0F93816}" type="slidenum">
              <a:rPr b="0" lang="ar-SA" sz="16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2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-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2013</a:t>
            </a:r>
            <a:r>
              <a:rPr b="0" lang="ar-SA" sz="1200" spc="-1" strike="noStrike">
                <a:solidFill>
                  <a:srgbClr val="f4e7ed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10920" y="476280"/>
            <a:ext cx="8064360" cy="560232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txBody>
          <a:bodyPr anchor="t">
            <a:normAutofit fontScale="96000"/>
          </a:bodyPr>
          <a:p>
            <a:pPr marL="424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hifa Bold"/>
              </a:rPr>
              <a:t>بةشى خزمةتطوزارى دابةش كراوةتة سةر ضةند بةشيَك كة ئةمانةى لاى خوارةوةن 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- </a:t>
            </a:r>
            <a:r>
              <a:rPr b="0" i="1" lang="ar-SA" sz="4000" spc="-1" strike="noStrike" u="sng">
                <a:solidFill>
                  <a:srgbClr val="ffffff"/>
                </a:solidFill>
                <a:uFillTx/>
                <a:latin typeface="Constantia"/>
                <a:cs typeface="Ali_K_Sahifa Bold"/>
              </a:rPr>
              <a:t>بةشى ثيَرست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hifa Bol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م بةشة لةلايةن بةشى هونةريةوة ئامادةكراوةو شويَنى تايبةتى بؤ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ت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ةرخان كراوة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خويَنةرو ليَكؤلَةر رِاستةوخؤ هةلَسوكةوتى ل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ــ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ةطةلَ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ا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ةكةن و لةو رِيَطايةوة ئةو زانيارانة دةدؤزيَتةوة كة بؤ وةرطرتنى سةرضاوة ثيَويستة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دةبيَت ليَكؤلَةر شارةزاييةكى </a:t>
            </a:r>
            <a:r>
              <a:rPr b="0" lang="ar-SA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باشى </a:t>
            </a:r>
            <a:r>
              <a:rPr b="0" lang="ar-AE" sz="32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بارةى شيَوةو جؤرةكانى ثيَرست هةبيَت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424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1CA6-97B5-426C-9047-1925D6C02D9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4CA1FF5-2F26-445A-B473-F01B1C5590FB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B0C8-47FE-43BA-AE7A-60344CEDAD8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84000" y="404640"/>
            <a:ext cx="8064360" cy="583272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txBody>
          <a:bodyPr anchor="t">
            <a:normAutofit fontScale="88000"/>
          </a:bodyPr>
          <a:p>
            <a:pPr marL="388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شيَوةكانى ثيَرست: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ثيَرست سىَ شيوةى سةرةكى هةية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1</a:t>
            </a:r>
            <a:r>
              <a:rPr b="0" lang="ar-SA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- </a:t>
            </a:r>
            <a:r>
              <a:rPr b="0" lang="ar-AE" sz="4000" spc="-1" strike="noStrike" u="sng">
                <a:solidFill>
                  <a:srgbClr val="ffffff"/>
                </a:solidFill>
                <a:uFillTx/>
                <a:latin typeface="Constantia"/>
                <a:cs typeface="Ali_K_Samik"/>
              </a:rPr>
              <a:t>ثيَرستى ضاثكراو:</a:t>
            </a:r>
            <a:r>
              <a:rPr b="0" lang="ar-AE" sz="40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ئةو جؤرة ثيَرستةية كة هةندىَ لة كتيَبخانةكان ثيَرستى كتيَب و سةرضاوةكانيان لةشيَوةى كتيَبدا ضاث دةكةن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يَكخستنةكة بة طويَرةى سيستةمى ثؤل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ين</a:t>
            </a:r>
            <a:r>
              <a:rPr b="0" lang="ar-AE" sz="3600" spc="-1" strike="noStrike">
                <a:solidFill>
                  <a:srgbClr val="ffffff"/>
                </a:solidFill>
                <a:latin typeface="Constantia"/>
                <a:cs typeface="Ali_K_Samik"/>
              </a:rPr>
              <a:t>كردنى كتيَبخانةكةية </a:t>
            </a:r>
            <a:r>
              <a:rPr b="0" lang="ar-SA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3600" spc="-1" strike="noStrike">
                <a:solidFill>
                  <a:srgbClr val="ffffff"/>
                </a:solidFill>
                <a:latin typeface="Constantia"/>
                <a:ea typeface="Ali_K_Samik"/>
              </a:rPr>
              <a:t> دابةشكردنةكةى بة طويَرةى سةرةبابةت دابةش دةكةن و سةرةبابةتةكانيش بؤ بابةتى تايبةتى تر دابةش دةكات ئينجا لة هةربابةتيَك دا ناوى دانةرةكان بةثىَ ى (أ، ب) رِيزدةكات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3888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C99-C624-471F-A569-2028A204FBA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E08A9D0-9881-428A-B728-D69EA365FCB3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2ED2-837E-4697-A8F0-9799E66D01C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4360" y="692280"/>
            <a:ext cx="7991280" cy="4968720"/>
          </a:xfrm>
          <a:prstGeom prst="rect">
            <a:avLst/>
          </a:prstGeom>
          <a:noFill/>
          <a:ln w="2844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0</a:t>
            </a:r>
            <a:r>
              <a:rPr b="0" lang="ar-SA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99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ئةدةب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0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1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رِةخنة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11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– 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850</a:t>
            </a:r>
            <a:r>
              <a:rPr b="0" lang="ar-AE" sz="4400" spc="-1" strike="noStrike">
                <a:solidFill>
                  <a:srgbClr val="0000ff"/>
                </a:solidFill>
                <a:latin typeface="Constantia"/>
                <a:ea typeface="Ali_K_Jiddah"/>
              </a:rPr>
              <a:t> ميَذووى ئةدةبى كوردى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182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6691-73BD-4537-AFFA-2BFC0DBDB05C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3AD3388-3CA3-4FB8-B44A-0FFAE30AF52B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26F6-F60C-47E5-B098-78A0D19A68C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84360" y="476280"/>
            <a:ext cx="8300880" cy="5602320"/>
          </a:xfrm>
          <a:prstGeom prst="rect">
            <a:avLst/>
          </a:prstGeom>
          <a:noFill/>
          <a:ln w="28440">
            <a:solidFill>
              <a:srgbClr val="b83d68"/>
            </a:solidFill>
            <a:miter/>
          </a:ln>
        </p:spPr>
        <p:txBody>
          <a:bodyPr anchor="t">
            <a:normAutofit/>
          </a:bodyPr>
          <a:p>
            <a:pPr marL="442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2d050"/>
                </a:solidFill>
                <a:latin typeface="Constantia"/>
                <a:ea typeface="Ali_K_Samik"/>
              </a:rPr>
              <a:t>2</a:t>
            </a:r>
            <a:r>
              <a:rPr b="0" lang="ar-SA" sz="4400" spc="-1" strike="noStrike">
                <a:solidFill>
                  <a:srgbClr val="92d050"/>
                </a:solidFill>
                <a:latin typeface="Constantia"/>
                <a:ea typeface="Ali_K_Samik"/>
              </a:rPr>
              <a:t>-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ثيَرست لة شي</a:t>
            </a:r>
            <a:r>
              <a:rPr b="0" lang="ar-SA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َ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  <a:cs typeface="Ali_K_Samik"/>
              </a:rPr>
              <a:t>وةى كارت</a:t>
            </a:r>
            <a:r>
              <a:rPr b="0" lang="ar-AE" sz="4400" spc="-1" strike="noStrike" u="sng">
                <a:solidFill>
                  <a:srgbClr val="92d050"/>
                </a:solidFill>
                <a:uFillTx/>
                <a:latin typeface="Constantia"/>
              </a:rPr>
              <a:t>:</a:t>
            </a:r>
            <a:r>
              <a:rPr b="0" lang="ar-AE" sz="4400" spc="-1" strike="noStrike">
                <a:solidFill>
                  <a:srgbClr val="92d050"/>
                </a:solidFill>
                <a:latin typeface="Constanti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لة شيَوةى كارت داية شيَوةى كارتةكة ئةستورة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رِووبةرةكةى (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7.5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سم – 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12.5</a:t>
            </a: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سم) دةبيَت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بؤ هةركتيَبيَك لة كتيَبخانة كارتيَك تةرخان كراوة و هةموو زانياريةكى ثيَويستى تيَدا تؤماركراوة 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كارتةكان بةثىَ ى (أ، ب) ناوى دانةر يان بةثىَ ى ناوى كتيَبةكة لة سندوقيَكى تايبةتدا رِيَكخراوة</a:t>
            </a:r>
            <a:r>
              <a:rPr b="0" lang="ar-SA" sz="2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ff"/>
                </a:solidFill>
                <a:latin typeface="Constantia"/>
                <a:cs typeface="Ali_K_Samik"/>
              </a:rPr>
              <a:t>ليَكؤلَةر دةتوانى زؤر بةئاسانى سود لةم كارتانة وةربطريَت ضونكة كارتى كتيَبةكانى هةردانةريَك لةذيَرناوى خؤيدا كؤكراوةتةوة يان كارتى ئةوكتيَبانةى لةسةر بابةتيَكى تايبةتن لةيةك شويَندا كؤكراونةتةوة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4280" algn="just" rtl="1"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5627-7F71-4949-9B00-1FC6E22B6021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C0F4515-5F81-45DE-9077-5F8702F1C8BE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A348-2906-4AF6-9572-DC7A82E7961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68000" y="475920"/>
            <a:ext cx="8280360" cy="554508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txBody>
          <a:bodyPr anchor="t">
            <a:normAutofit fontScale="84000"/>
          </a:bodyPr>
          <a:p>
            <a:pPr marL="228960" indent="-153000" algn="r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cc00ff"/>
                </a:solidFill>
                <a:uFillTx/>
                <a:latin typeface="Constantia"/>
                <a:ea typeface="Ali_K_Samik"/>
              </a:rPr>
              <a:t>3</a:t>
            </a:r>
            <a:r>
              <a:rPr b="0" lang="ar-AE" sz="4800" spc="-1" strike="noStrike" u="sng">
                <a:solidFill>
                  <a:srgbClr val="ffffff"/>
                </a:solidFill>
                <a:uFillTx/>
                <a:latin typeface="Constantia"/>
                <a:ea typeface="Ali_K_Samik"/>
              </a:rPr>
              <a:t>- ثيَرستى ثيَضراو: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ئةم جؤرة ثيَرستةش لة شيَوةى كارت داية بةلآم لةلاثةرِة يان لةسةر كاغةز ضاثكراوة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buClr>
                <a:srgbClr val="e3640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800" spc="-1" strike="noStrike">
                <a:solidFill>
                  <a:srgbClr val="ffffff"/>
                </a:solidFill>
                <a:latin typeface="Constantia"/>
                <a:cs typeface="Ali_K_Samik"/>
              </a:rPr>
              <a:t>هةر (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500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) لاثةرِة بة ثىَ</a:t>
            </a:r>
            <a:r>
              <a:rPr b="0" lang="ar-SA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ى</a:t>
            </a:r>
            <a:r>
              <a:rPr b="0" lang="ar-AE" sz="4800" spc="-1" strike="noStrike">
                <a:solidFill>
                  <a:srgbClr val="ffffff"/>
                </a:solidFill>
                <a:latin typeface="Constantia"/>
                <a:ea typeface="Ali_K_Samik"/>
              </a:rPr>
              <a:t> سةرةبابةت يا ناوى دانةر ثيَضراوةتةوة واتا ئةم جؤرة ثيَرستة ئةركى ثيَرستى ضاثكراو (كارت) دةبينيَت.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28960" indent="-153000" algn="just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Date Placeholder 3"/>
          <p:cNvSpPr/>
          <p:nvPr/>
        </p:nvSpPr>
        <p:spPr>
          <a:xfrm>
            <a:off x="5791320" y="6203880"/>
            <a:ext cx="2590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3129-5A43-418A-85D7-9F5FD7DB797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0B58E3F-8133-443E-BF5F-5239F27D43F2}" type="datetime12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1:29 PM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9990-D4DF-4977-9859-AF330E1907C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كتيَبخانةو رِيَبازى ليَكؤلَينةوة- قؤناغى يةكةم - سالَى خويَندن (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2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2013</a:t>
            </a: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19:27:35Z</dcterms:created>
  <dc:creator>Bina</dc:creator>
  <dc:description/>
  <dc:language>en-US</dc:language>
  <cp:lastModifiedBy>Bina</cp:lastModifiedBy>
  <dcterms:modified xsi:type="dcterms:W3CDTF">2013-01-07T08:25:07Z</dcterms:modified>
  <cp:revision>75</cp:revision>
  <dc:subject/>
  <dc:title>Slide 1</dc:title>
</cp:coreProperties>
</file>