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3A7-7134-4908-9F6F-5119F3AA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F72-1FDB-47E4-B92D-40F7EB6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1F8-6F87-4863-A177-BF4E6F0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30C-F75F-4376-B2B3-2C8E3496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050-4A41-4488-A10E-285478D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66B-5176-41D5-A2BF-225FC329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0E0-874A-40D0-A57A-245D9C5E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7D5-308A-478A-AA97-7637000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B80-9686-44A1-9A19-7D063E88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524-8FAA-4C81-A4CD-A1440F0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69B-12B9-4C7F-A9D5-03DA0B2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A37-99EA-400E-826A-F5715BD2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442-5136-4C68-85A9-CE8AABCC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752480" cy="6584760"/>
            <a:chOff x="0" y="0"/>
            <a:chExt cx="1752480" cy="65847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1600200"/>
              <a:ext cx="12492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1371600"/>
              <a:ext cx="17524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34287"/>
                  </a:solidFill>
                  <a:latin typeface="Times New Roman"/>
                </a:rPr>
                <a:t>INRP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371600"/>
              <a:ext cx="1676520" cy="0"/>
            </a:xfrm>
            <a:prstGeom prst="line">
              <a:avLst/>
            </a:prstGeom>
            <a:ln w="9360">
              <a:solidFill>
                <a:srgbClr val="0233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150800">
              <a:off x="69840" y="636876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35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INVESTIGACIÓN </a:t>
            </a:r>
            <a:br>
              <a:rPr sz="8000"/>
            </a:b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y Py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ierre-André Julie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Cátedra Bell sobre las PyME de clases mun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stituto de investigación sobre las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Universidad de Québec en Trois-Riv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www.uqtr.ca/INRPME|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-684360" y="1600200"/>
          <a:ext cx="59058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00200"/>
                    <a:ext cx="5905800" cy="5257800"/>
                  </a:xfrm>
                  <a:prstGeom prst="rect">
                    <a:avLst/>
                  </a:prstGeom>
                  <a:ln w="936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84120"/>
            <a:ext cx="91375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143000"/>
            <a:ext cx="8892720" cy="4968360"/>
            <a:chOff x="0" y="1143000"/>
            <a:chExt cx="8892720" cy="4968360"/>
          </a:xfrm>
        </p:grpSpPr>
        <p:grpSp>
          <p:nvGrpSpPr>
            <p:cNvPr id="93" name=""/>
            <p:cNvGrpSpPr/>
            <p:nvPr/>
          </p:nvGrpSpPr>
          <p:grpSpPr>
            <a:xfrm>
              <a:off x="0" y="1143000"/>
              <a:ext cx="8892720" cy="4968360"/>
              <a:chOff x="0" y="1143000"/>
              <a:chExt cx="8892720" cy="49683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540600"/>
                <a:ext cx="85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1400" y="1143000"/>
                <a:ext cx="2520" cy="47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0" y="1143000"/>
                <a:ext cx="8892720" cy="4968360"/>
                <a:chOff x="0" y="1143000"/>
                <a:chExt cx="8892720" cy="4968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54760" y="3197520"/>
                  <a:ext cx="2037960" cy="85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0000"/>
                      </a:solidFill>
                      <a:latin typeface="Times New Roman"/>
                    </a:rPr>
                    <a:t>El héroe schumpeteria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(la escuela de los rasgo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0" y="3369600"/>
                  <a:ext cx="1481760" cy="513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La empresa mafio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90520" y="1143000"/>
                  <a:ext cx="1482120" cy="33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Perman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19720" y="5767560"/>
                  <a:ext cx="2037960" cy="34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Disparici</a:t>
                  </a:r>
                  <a:r>
                    <a:rPr b="1" lang="en-US" sz="16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ó</a:t>
                  </a: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n</a:t>
                  </a:r>
                  <a:r>
                    <a:rPr b="1" lang="fr-CA" sz="1600" spc="-1" strike="noStrike">
                      <a:solidFill>
                        <a:srgbClr val="00cc99"/>
                      </a:solidFill>
                      <a:latin typeface="Times New Roman"/>
                    </a:rPr>
                    <a:t>,</a:t>
                  </a:r>
                  <a:r>
                    <a:rPr b="0" lang="fr-CA" sz="16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quieb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05120" y="3369600"/>
                  <a:ext cx="2037960" cy="34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La TPE banal est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23000" y="2683800"/>
                  <a:ext cx="1296720" cy="51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Más o menos tolera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93440" y="1998720"/>
                  <a:ext cx="1852560" cy="34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Tpe inform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7240" y="2512800"/>
                  <a:ext cx="1667160" cy="34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Las gacelas : </a:t>
                  </a:r>
                  <a:r>
                    <a:rPr b="1" lang="fr-CA" sz="1200" spc="-1" strike="noStrike">
                      <a:solidFill>
                        <a:srgbClr val="ff0000"/>
                      </a:solidFill>
                      <a:latin typeface="Times New Roman"/>
                    </a:rPr>
                    <a:t>10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98920" y="1656720"/>
                  <a:ext cx="2408400" cy="68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0000"/>
                      </a:solidFill>
                      <a:latin typeface="Times New Roman"/>
                    </a:rPr>
                    <a:t>De la ME à la grande empresa : 1 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57680" y="4568400"/>
                  <a:ext cx="1482120" cy="513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La PyME en decrec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757600" y="4568400"/>
                  <a:ext cx="1317960" cy="40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debilitac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ó</a:t>
                  </a: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55480" y="2683800"/>
                  <a:ext cx="926280" cy="51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Acciones ilícit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34680" y="2684880"/>
                  <a:ext cx="1189080" cy="1819440"/>
                </a:xfrm>
                <a:custGeom>
                  <a:avLst/>
                  <a:gdLst>
                    <a:gd name="textAreaLeft" fmla="*/ 159120 w 1189080"/>
                    <a:gd name="textAreaRight" fmla="*/ 1029960 w 1189080"/>
                    <a:gd name="textAreaTop" fmla="*/ 318240 h 1819440"/>
                    <a:gd name="textAreaBottom" fmla="*/ 1319040 h 18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0" name=""/>
          <p:cNvSpPr/>
          <p:nvPr/>
        </p:nvSpPr>
        <p:spPr>
          <a:xfrm>
            <a:off x="3132000" y="3789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terdep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b20000"/>
                </a:solidFill>
                <a:latin typeface="Times New Roman"/>
              </a:rPr>
              <a:t>El por qué de la necesidad de ensanchar el campo de la experticia de investigaciones sobre la PyME y en el emprendimiento para comprender la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ncógnito o mal conocido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  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58920" y="981000"/>
            <a:ext cx="6913080" cy="3311640"/>
            <a:chOff x="1258920" y="981000"/>
            <a:chExt cx="6913080" cy="3311640"/>
          </a:xfrm>
        </p:grpSpPr>
        <p:sp>
          <p:nvSpPr>
            <p:cNvPr id="114" name=""/>
            <p:cNvSpPr/>
            <p:nvPr/>
          </p:nvSpPr>
          <p:spPr>
            <a:xfrm flipH="1" flipV="1">
              <a:off x="4221360" y="1348920"/>
              <a:ext cx="1693080" cy="141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9760" y="3871080"/>
              <a:ext cx="3103920" cy="7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75360" y="981000"/>
              <a:ext cx="225720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LOS EMPRENDE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80600" y="1348920"/>
              <a:ext cx="141120" cy="126144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10880" y="2610360"/>
              <a:ext cx="1269360" cy="126144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55920" y="2557800"/>
              <a:ext cx="2116080" cy="36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LAS ORGANIZ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4800" y="3661920"/>
              <a:ext cx="1551960" cy="57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MEDIO EMPREDE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8920" y="3661920"/>
              <a:ext cx="12697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ENTORNO AMBI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9760" y="1190520"/>
              <a:ext cx="1551960" cy="26809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2610360"/>
              <a:ext cx="1128600" cy="31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16120" y="2452680"/>
              <a:ext cx="1834200" cy="1103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3640" y="2684160"/>
              <a:ext cx="1410840" cy="630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imes New Roman"/>
                </a:rPr>
                <a:t>INFORMACIÓN, TRABAJO EN RED E INNOV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221360" y="1190520"/>
              <a:ext cx="1410840" cy="26809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32920" y="2610360"/>
              <a:ext cx="281880" cy="1261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4508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Con muchas relacion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l ‘medio ambiente’(el milieu), las redes y el capital social 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tres factores crucia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b20000"/>
                </a:solidFill>
                <a:latin typeface="Times New Roman"/>
              </a:rPr>
              <a:t>UNA REALIDAD COMPL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2. Como estudiar las Py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5327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1.La necesidad de la multidisciplinaridad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2. la necesidad de cambiar </a:t>
            </a:r>
            <a:r>
              <a:rPr b="0" lang="es-CO" sz="4800" spc="-1" strike="noStrike">
                <a:solidFill>
                  <a:srgbClr val="000000"/>
                </a:solidFill>
                <a:latin typeface="Times New Roman"/>
              </a:rPr>
              <a:t>(seminarios de investigacion)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3. Encuestas y estudios 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de caso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31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El financiamiento</a:t>
            </a: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1. Los recursos de los CNI 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2. Las organizaciones de los emprededores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3. Las redes de empresas</a:t>
            </a:r>
            <a:br>
              <a:rPr sz="5400"/>
            </a:br>
            <a:r>
              <a:rPr b="0" lang="es-CO" sz="4800" spc="-1" strike="noStrike">
                <a:solidFill>
                  <a:srgbClr val="000000"/>
                </a:solidFill>
                <a:latin typeface="Times New Roman"/>
              </a:rPr>
              <a:t>(por ejemplo, la subcontratació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5680" y="692280"/>
          <a:ext cx="905832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692280"/>
                    <a:ext cx="90583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219320"/>
            <a:ext cx="913752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52280"/>
            <a:ext cx="87631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98900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EGUNTAS Y DISCUS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35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1. Un poco de teor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O" sz="4000" spc="-1" strike="noStrike">
                <a:solidFill>
                  <a:srgbClr val="cc0000"/>
                </a:solidFill>
                <a:latin typeface="Times New Roman"/>
              </a:rPr>
              <a:t>Algunas caracter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</a:t>
            </a:r>
            <a:r>
              <a:rPr b="0" lang="es-CO" sz="4000" spc="-1" strike="noStrike">
                <a:solidFill>
                  <a:srgbClr val="cc0000"/>
                </a:solidFill>
                <a:latin typeface="Times New Roman"/>
              </a:rPr>
              <a:t>stas de las PyME :</a:t>
            </a:r>
            <a:br>
              <a:rPr sz="36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1. Heterogeneida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70% mas pequeñas 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10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mpleado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, 27% pequeñas (10 à 49), 3 % medianas (50 a 249 o 499) y menos de 1 % grande empresas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250 o 500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2. Supervivencia limitada 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más de 30 % no llegan a su creac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n, desaparic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n 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~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50% los primeros cincos años y 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~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20% de mas los otros cinco años.  De las 30% que sobreviven, 70% son estables o declinantes, 20% a crecimiento lento, 10% son a crecimiento rápido: (las </a:t>
            </a:r>
            <a:r>
              <a:rPr b="0" i="1" lang="es-CO" sz="2400" spc="-1" strike="noStrike">
                <a:solidFill>
                  <a:srgbClr val="3333cc"/>
                </a:solidFill>
                <a:latin typeface="Times New Roman"/>
              </a:rPr>
              <a:t>gazellas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). </a:t>
            </a:r>
            <a:br>
              <a:rPr sz="24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3. Funcionamiento holístico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sin separac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n entre las funciones)</a:t>
            </a:r>
            <a:br>
              <a:rPr sz="28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4. Una flexibilidad particular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(porque hay subcontrato con grandes empresas..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21752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cc0000"/>
                </a:solidFill>
                <a:uFillTx/>
                <a:latin typeface="Times New Roman"/>
              </a:rPr>
              <a:t>Pequeñas empresas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 u="sng">
                <a:solidFill>
                  <a:srgbClr val="cc0000"/>
                </a:solidFill>
                <a:uFillTx/>
                <a:latin typeface="Times New Roman"/>
              </a:rPr>
              <a:t>Grande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1.La dimension br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0-1 ---------------------------------------------------------------------------------------    &gt;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2. El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el traticional o maduro o nuev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e productos para los consumidores----------------------------------A sectores mod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3.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ocal o de intersticios------------------------------------------------nacional 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4. Control y organ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entralizada---------------------------------------------------------------Descentralizada, en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uno o vario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dependiente fuerte-------------------------------------------------------Asociado (satél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5. 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tuitiva, de supervivencia---------------------------------------------------Formalizada, de    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6.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radicional, innovacion ----------------------------------------------------------- De pun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rganizada, un poco mas radical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Tipologia cualitativa de las PyME complejas en ‘continuum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0"/>
            <a:ext cx="81532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Tasa de</a:t>
            </a:r>
            <a:r>
              <a:rPr b="1" lang="fr-CA" sz="3200" spc="-1" strike="noStrike">
                <a:solidFill>
                  <a:srgbClr val="cc0000"/>
                </a:solidFill>
                <a:latin typeface="Times New Roman"/>
              </a:rPr>
              <a:t> su</a:t>
            </a:r>
            <a:r>
              <a:rPr b="1" lang="es-CO" sz="3200" spc="-1" strike="noStrike">
                <a:solidFill>
                  <a:srgbClr val="cc0000"/>
                </a:solidFill>
                <a:latin typeface="Times New Roman"/>
              </a:rPr>
              <a:t>pervivencia</a:t>
            </a:r>
            <a:r>
              <a:rPr b="1" lang="fr-CA" sz="3200" spc="-1" strike="noStrike">
                <a:solidFill>
                  <a:srgbClr val="cc0000"/>
                </a:solidFill>
                <a:latin typeface="Times New Roman"/>
              </a:rPr>
              <a:t> de las </a:t>
            </a: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nuev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9228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1009800"/>
          <a:ext cx="767736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09800"/>
                    <a:ext cx="767736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508464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vivencia mas grande para los servicios, la constru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..., in alta coyuntura, etc. Pero, es un problema de distin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largo  termino (la teoria de la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combin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recursos y de competencias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ennerfelt, 1984, Rumelt, 1984; Hamel y Pralahad, 1990...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de 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interstic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lton Penrose, 1959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Por ejemplo de heterogeneidad, la participación de las empresas manufactureras, con respecto a la glob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2920" y="2236680"/>
            <a:ext cx="7561440" cy="3855960"/>
            <a:chOff x="1042920" y="2236680"/>
            <a:chExt cx="7561440" cy="3855960"/>
          </a:xfrm>
        </p:grpSpPr>
        <p:sp>
          <p:nvSpPr>
            <p:cNvPr id="63" name=""/>
            <p:cNvSpPr/>
            <p:nvPr/>
          </p:nvSpPr>
          <p:spPr>
            <a:xfrm>
              <a:off x="4920480" y="5621400"/>
              <a:ext cx="135684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MERC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54320" y="5141880"/>
              <a:ext cx="112212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OC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65400" y="5141880"/>
              <a:ext cx="155088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UND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99760" y="2236680"/>
              <a:ext cx="6204240" cy="290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480640" y="2236680"/>
              <a:ext cx="0" cy="92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2920" y="3317040"/>
              <a:ext cx="13568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RECUR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2920" y="2292120"/>
              <a:ext cx="1356840" cy="605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UND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0920" y="4519080"/>
              <a:ext cx="133884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OC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9760" y="2368800"/>
              <a:ext cx="193860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 que compran recursos en el mercado internacional (20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65400" y="2510280"/>
              <a:ext cx="1744920" cy="11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actúan sobre varios mercados (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71720" y="3911040"/>
              <a:ext cx="213264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exportadoras que actúan sobre uno o dos mercados 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9760" y="3859560"/>
              <a:ext cx="183528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actúan ante todo localmente 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2920" y="4940280"/>
              <a:ext cx="2908080" cy="11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por fuera de la mundializ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1720" y="3709440"/>
              <a:ext cx="213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99760" y="3711960"/>
              <a:ext cx="232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11520" y="4372560"/>
              <a:ext cx="0" cy="72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12800" y="2458440"/>
              <a:ext cx="2326320" cy="2496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hacen parte de una red y que actúan internacionalmente (3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LA IMPORTANCIA DE LAS PyME </a:t>
            </a:r>
            <a:r>
              <a:rPr b="0" lang="fr-CA" sz="2800" spc="-1" strike="noStrike">
                <a:solidFill>
                  <a:srgbClr val="cc0000"/>
                </a:solidFill>
                <a:latin typeface="Times New Roman"/>
              </a:rPr>
              <a:t>de FUERTE CRECIMIENTO </a:t>
            </a: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(las </a:t>
            </a:r>
            <a:r>
              <a:rPr b="0" i="1" lang="fr-CA" sz="2800" spc="-1" strike="noStrike">
                <a:solidFill>
                  <a:srgbClr val="cc0000"/>
                </a:solidFill>
                <a:latin typeface="Arial"/>
              </a:rPr>
              <a:t>gacelas</a:t>
            </a: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" y="1506600"/>
            <a:ext cx="86774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2286000"/>
          <a:ext cx="8439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39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-892080"/>
            <a:ext cx="8604360" cy="83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s-CO" sz="5400" spc="-1" strike="noStrike">
                <a:solidFill>
                  <a:srgbClr val="cc0000"/>
                </a:solidFill>
                <a:latin typeface="Times New Roman"/>
              </a:rPr>
              <a:t>Importancia</a:t>
            </a:r>
            <a:br>
              <a:rPr sz="54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1. Primer creador de empleo 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(Birch, 1981...) </a:t>
            </a:r>
            <a:br>
              <a:rPr sz="2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2. A la base del tejido industrial en muchas regiones o localidades,</a:t>
            </a:r>
            <a:br>
              <a:rPr sz="4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3. A la base de la reconstrucci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n de muchas regiones o del desarrollo de los nuevos sectores</a:t>
            </a:r>
            <a:br>
              <a:rPr sz="4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4. Para los investigadores, una escuela para comprender el conjunto, y un lugar de dinamismo particular (algunas voces precurso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000" y="189000"/>
            <a:ext cx="867564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Es relativamente conoc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es diferent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ver la querella sobre la planific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strateg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inanza es diferent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l capital de proximidad o ‘angel capital’, la microfinanz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arketing de rela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y de proxim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enos conoci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crítica de las economías de escala (la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eseconomí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burocracia o de inercia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de los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de la información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..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1:53:52Z</dcterms:created>
  <dc:creator>Pierre-André Julien</dc:creator>
  <dc:description/>
  <dc:language>en-US</dc:language>
  <cp:lastModifiedBy>secdecccee</cp:lastModifiedBy>
  <dcterms:modified xsi:type="dcterms:W3CDTF">2006-10-26T07:06:50Z</dcterms:modified>
  <cp:revision>105</cp:revision>
  <dc:subject/>
  <dc:title>    </dc:title>
</cp:coreProperties>
</file>