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1ADC-0CE5-4F3F-84D9-840299BC8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8334-9013-4E11-B9D5-C0CDDCEB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9A2B-073D-4769-A875-9ABC45305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3562-8547-4BE0-ADAF-61D687565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3719-EAEC-4E24-9DE1-5341D4AA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DE95-3C2B-424B-8C76-7D59636F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92D7-A426-4FEB-A76A-A22E0038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67FF-36CD-496E-9312-95AD69AB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E80E-BB88-4A85-9C14-555F5E8A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B6BE-0A88-48A5-B80E-AC6DCFCF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66BF-CA1E-461F-80E0-97652198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3E2A-A528-40A4-853E-C43323E6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ABD3-619F-42B1-B1AF-AEF28FBA355D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4.xml"/><Relationship Id="rId3" Type="http://schemas.openxmlformats.org/officeDocument/2006/relationships/image" Target="../media/image7.jpeg"/><Relationship Id="rId4" Type="http://schemas.openxmlformats.org/officeDocument/2006/relationships/slide" Target="slide6.xml"/><Relationship Id="rId5" Type="http://schemas.openxmlformats.org/officeDocument/2006/relationships/image" Target="../media/image7.jpeg"/><Relationship Id="rId6" Type="http://schemas.openxmlformats.org/officeDocument/2006/relationships/slide" Target="slide7.xml"/><Relationship Id="rId7" Type="http://schemas.openxmlformats.org/officeDocument/2006/relationships/image" Target="../media/image8.jpeg"/><Relationship Id="rId8" Type="http://schemas.openxmlformats.org/officeDocument/2006/relationships/hyperlink" Target="file:///../../&#1601;&#1607;&#1585;&#1587;%20&#1575;&#1604;&#1578;&#1585;&#1575;&#1606;&#1610;&#1605;.pps" TargetMode="External"/><Relationship Id="rId9" Type="http://schemas.openxmlformats.org/officeDocument/2006/relationships/image" Target="../media/image8.jpeg"/><Relationship Id="rId10" Type="http://schemas.openxmlformats.org/officeDocument/2006/relationships/slide" Target="slide2.xml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254240"/>
            <a:ext cx="9144000" cy="338436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ألا تعـودُ فتـحـيـيـ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تـبـني مـا انهـدم فينا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591000"/>
            <a:ext cx="9144000" cy="338436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فتملأ الـقـلبَ بفـرح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يـزيـلُ أحزان ماضـينا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</p:pic>
      <p:sp>
        <p:nvSpPr>
          <p:cNvPr id="46" name=""/>
          <p:cNvSpPr/>
          <p:nvPr/>
        </p:nvSpPr>
        <p:spPr>
          <a:xfrm>
            <a:off x="0" y="1095480"/>
            <a:ext cx="9144000" cy="338436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كـم من عهود قطعناه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ثم بـجـهل نـسيناه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73360"/>
            <a:ext cx="9144000" cy="448164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أين مـحـبـتنا الأولى؟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هل سـنـعـود 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نحياها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254240"/>
            <a:ext cx="9144000" cy="338436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ألا تعـودُ فتـحـيـيـ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تـبـني مـا انهـدم فينا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91000"/>
            <a:ext cx="9144000" cy="338436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فتملأ الـقـلبَ بفـرح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يـزيـلُ أحزان ماضـينا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8000" y="1127160"/>
            <a:ext cx="9144000" cy="448164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كـم من ثعالب 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زوا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كم من هـزائم 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هوا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3303720"/>
            <a:ext cx="9144000" cy="338436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صـارت حـياتنـا فارغة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كـكـلمات بـلا معـان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1254240"/>
            <a:ext cx="9144000" cy="338436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ألا تعـودُ فتـحـيـيـ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تـبـني مـا انهـدم فينا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591000"/>
            <a:ext cx="9144000" cy="338436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فتملأ الـقـلبَ بفـرح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يـزيـلُ أحزان ماضـينا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36360" y="1052640"/>
            <a:ext cx="914400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كـم مـرة نحن حاول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لكن كثيراً ما فشل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3195720"/>
            <a:ext cx="9067680" cy="338436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الآن نرفـع أعين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إلـيك يا رب ارحمنا 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1254240"/>
            <a:ext cx="9144000" cy="338436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ألا تعـودُ فتـحـيـيـ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تـبـني مـا انهـدم فينا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591000"/>
            <a:ext cx="9144000" cy="338436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فتملأ الـقـلبَ بفـرح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يـزيـلُ أحزان ماضـينا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8" name="">
            <a:hlinkClick r:id="rId2" action="ppaction://hlinksldjump"/>
          </p:cNvPr>
          <p:cNvSpPr/>
          <p:nvPr/>
        </p:nvSpPr>
        <p:spPr>
          <a:xfrm>
            <a:off x="5651640" y="1413000"/>
            <a:ext cx="345744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كم من ثعال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4" action="ppaction://hlinksldjump"/>
          </p:cNvPr>
          <p:cNvSpPr/>
          <p:nvPr/>
        </p:nvSpPr>
        <p:spPr>
          <a:xfrm>
            <a:off x="5651640" y="2433600"/>
            <a:ext cx="3457440" cy="708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كم مرة حاول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6" action="ppaction://hlinksldjump"/>
          </p:cNvPr>
          <p:cNvSpPr/>
          <p:nvPr/>
        </p:nvSpPr>
        <p:spPr>
          <a:xfrm>
            <a:off x="108000" y="1281240"/>
            <a:ext cx="4248000" cy="7077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Arial"/>
                <a:ea typeface="Arial"/>
              </a:rPr>
              <a:t> القرار : ألا تعود فتحيي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92">
            <a:hlinkClick r:id="rId8"/>
          </p:cNvPr>
          <p:cNvSpPr/>
          <p:nvPr/>
        </p:nvSpPr>
        <p:spPr>
          <a:xfrm>
            <a:off x="900000" y="260280"/>
            <a:ext cx="2376720" cy="11912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ial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0" action="ppaction://hlinksldjump"/>
          </p:cNvPr>
          <p:cNvSpPr/>
          <p:nvPr/>
        </p:nvSpPr>
        <p:spPr>
          <a:xfrm>
            <a:off x="5651640" y="417600"/>
            <a:ext cx="3457440" cy="7077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كم من عهو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9T15:30:12Z</dcterms:created>
  <dc:creator>church</dc:creator>
  <dc:description/>
  <dc:language>en-US</dc:language>
  <cp:lastModifiedBy>Sp2</cp:lastModifiedBy>
  <dcterms:modified xsi:type="dcterms:W3CDTF">2008-12-23T23:44:07Z</dcterms:modified>
  <cp:revision>47</cp:revision>
  <dc:subject/>
  <dc:title>PowerPoint Presentation</dc:title>
</cp:coreProperties>
</file>