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B00-D544-473F-B114-3EC0CDEC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BE5-2E9E-4730-9EF2-989C27A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0C4-D134-449B-BC2B-7966F8FB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B08-056B-4A1C-BB7C-9030B94B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347-6129-4312-97DC-2749CB9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EF1-8E69-4EF0-AE3C-91FE6D0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D89-5F3A-4C1E-B22D-DED73BA1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AF4-7588-4108-9C8E-9125C293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C63-B180-451E-93A6-8B1B986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00E-C11F-49A3-835F-9F4EDC6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FBA-0E7E-4D80-AB68-DCEFCF6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C7C-0B3C-4114-B706-C88A258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1723-9429-4570-B2B4-784EBCD03D8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8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2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109548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ن عهود قطعن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ثم بـجـهل نـسين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7336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ين مـحـبـتنا الأولى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ل سـنـعـود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نحياه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112716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ن ثعالب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زو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م من هـزائم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و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330372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صـارت حـياتنـا فارغ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كـلمات بـلا معـان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6360" y="105264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كـم مـرة نحن حاول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كن كثيراً ما فشل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195720"/>
            <a:ext cx="906768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آن نرفـع أعين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لـيك يا رب ارحمنا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25424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ألا تعـودُ فتـحـيـيـ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ـبـني مـا انهـدم ف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591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تملأ الـقـلبَ بفـر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ـزيـلُ أحزان ماضـينا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651640" y="1413000"/>
            <a:ext cx="345744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ن ثعا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5651640" y="2433600"/>
            <a:ext cx="345744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رة حا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08000" y="1281240"/>
            <a:ext cx="424800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لا تعود فتحي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0" action="ppaction://hlinksldjump"/>
          </p:cNvPr>
          <p:cNvSpPr/>
          <p:nvPr/>
        </p:nvSpPr>
        <p:spPr>
          <a:xfrm>
            <a:off x="5651640" y="417600"/>
            <a:ext cx="345744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م من عه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5:30:12Z</dcterms:created>
  <dc:creator>church</dc:creator>
  <dc:description/>
  <dc:language>en-US</dc:language>
  <cp:lastModifiedBy>Sp2</cp:lastModifiedBy>
  <dcterms:modified xsi:type="dcterms:W3CDTF">2008-12-23T23:44:07Z</dcterms:modified>
  <cp:revision>47</cp:revision>
  <dc:subject/>
  <dc:title>PowerPoint Presentation</dc:title>
</cp:coreProperties>
</file>