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20.wmf" ContentType="image/x-wmf"/>
  <Override PartName="/ppt/media/image18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8.gif" ContentType="image/gif"/>
  <Override PartName="/ppt/media/image19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168-6D3A-43AC-9C31-ACDF44F7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659-2D62-46F0-A0E0-6E6EEF8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11C-8140-499D-9D01-765FDBE7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A98-C68E-4488-AEB1-C9B9218E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53A0-587A-46E0-81C9-9039512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722C-0A8B-4798-8607-3CC194C0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708-7E31-4D97-844D-27E30E8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F43-4E1F-4423-BFF3-34505C2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2A4-4D26-44DC-8F27-C6F8976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7FAC-4DCD-41D5-9359-8F616E9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24E-BC30-47C1-87E9-6FEE023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F43-AB9B-43A8-9780-50BA5C07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9692-6766-494B-8E12-EAFD55E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F6C-B3CE-4CF9-8B22-5B2D17A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D4A-FB3A-48BE-8E31-4102D8A2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FDD3-B981-4E6D-87E2-10FD01F7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D47B-1FDD-46BC-AFC0-F06032A7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3F1-AC29-433E-ACFB-B58AD5B8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717-9489-4753-B18A-7F1B405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ED0-11E0-429E-822E-20563E4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D79-7A8C-432B-B33D-0C7B628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7F6-C31E-43F2-BA29-9A92435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4DC-FCE2-4D52-9690-A032177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A7C-56CF-44A7-AF46-F985630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D3DA-DCBC-4043-8DF9-02825368686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C7D-61AA-4E5C-9B94-9CDA6EF175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F4C-7E0F-4C02-9521-580434D7EAF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8DD6-54AB-42AF-8AE4-C4C16DCB3E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 BM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inggu Ke  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ajuk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Pembentukan Personaliti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n Konsep Kendi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1    Personaliti  D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onsep Kendi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Oleh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bd Jamil bin Sabd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50840" indent="-150840" algn="ctr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0" y="380880"/>
            <a:ext cx="4495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IKOLOG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C46BF-96AA-4CC5-978D-63763E467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19520" y="762120"/>
            <a:ext cx="3276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ori Tra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8080" y="1857240"/>
            <a:ext cx="433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2.  Gordon All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kard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pus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sekun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03848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Raymond Cart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permuka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99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Trait su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2362320"/>
          <a:ext cx="1905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1905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57497-4A13-4EEE-89E0-42C798F81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Teori Penjenisan</a:t>
            </a:r>
            <a:br>
              <a:rPr sz="3600"/>
            </a:b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( Carl C. Jung &amp; Hans J. Eysenck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28600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3480" y="1881360"/>
            <a:ext cx="844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ks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Bersifat luaran iaitu individu dalam golongan i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memberi tumpuan yang lebih kepada penilai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dunia luar daripada dalamny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ciri-cir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lancar pertutu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berminat dalam suk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perama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cepat menyesuaikan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suka perbinc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516120" cy="22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D3168-2F45-4E4D-B5A9-186FD6DAE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9320" y="905040"/>
            <a:ext cx="75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) In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Lebih bersifat dalaman iaitu mementingk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diri sendir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ciri-ciri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pas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pema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ensiti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uka buat kerja sendiri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- suka merancang kerja dengan teratur &amp; cerm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5080" y="4648320"/>
            <a:ext cx="65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) Ambi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Gabungan kedua-dua jenis ekstrovert d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introve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943600" y="2133720"/>
          <a:ext cx="24955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2495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78C31-1CFF-4DCE-9BD5-15D64E76F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ori Humanistik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arl Rogers &amp; Abraham Maslow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81640" y="2133720"/>
            <a:ext cx="750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nusia mempunyai keupayaan untu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rancang dan membentuk nasib mere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ndir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eseorang individu akan sentiasa menunjukk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fat-sifat personaliti yang baik, pand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ngambil hati dan saling berhubung anta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atu sama l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9357F-14DC-4976-8D31-FEB5AEFF6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55960" y="2263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06360"/>
            <a:ext cx="5181840" cy="19051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AKTOR-FAKT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EMPENGARUHI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SONALI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092560"/>
            <a:ext cx="1600200" cy="642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a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5168880"/>
            <a:ext cx="3138480" cy="642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sekitar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178160"/>
            <a:ext cx="4876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4178160"/>
            <a:ext cx="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178160"/>
            <a:ext cx="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111480"/>
            <a:ext cx="0" cy="106668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56958-93E7-46DC-A53F-6A9B41BCF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2971800"/>
            <a:ext cx="2210040" cy="703440"/>
          </a:xfrm>
          <a:prstGeom prst="rect">
            <a:avLst/>
          </a:prstGeom>
          <a:solidFill>
            <a:srgbClr val="000066"/>
          </a:solidFill>
          <a:ln cap="sq"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ak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914400"/>
            <a:ext cx="2286000" cy="106668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iz ba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5181480"/>
            <a:ext cx="2133720" cy="91440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cerdas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362320"/>
            <a:ext cx="2210040" cy="106668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yak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495680"/>
            <a:ext cx="2133360" cy="1067040"/>
          </a:xfrm>
          <a:prstGeom prst="ellipse">
            <a:avLst/>
          </a:prstGeom>
          <a:solidFill>
            <a:srgbClr val="000066"/>
          </a:solidFill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bi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2"/>
            <a:endCxn id="181" idx="2"/>
          </p:cNvCxnSpPr>
          <p:nvPr/>
        </p:nvCxnSpPr>
        <p:spPr>
          <a:xfrm flipH="1" rot="16200000">
            <a:off x="1698480" y="4231800"/>
            <a:ext cx="1880280" cy="933840"/>
          </a:xfrm>
          <a:prstGeom prst="curvedConnector2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5" name=""/>
          <p:cNvCxnSpPr>
            <a:stCxn id="179" idx="0"/>
            <a:endCxn id="180" idx="2"/>
          </p:cNvCxnSpPr>
          <p:nvPr/>
        </p:nvCxnSpPr>
        <p:spPr>
          <a:xfrm flipH="1" flipV="1" rot="5400000">
            <a:off x="2157120" y="1461960"/>
            <a:ext cx="1496160" cy="1467360"/>
          </a:xfrm>
          <a:prstGeom prst="curvedConnector2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6" name=""/>
          <p:cNvCxnSpPr>
            <a:stCxn id="179" idx="3"/>
            <a:endCxn id="182" idx="2"/>
          </p:cNvCxnSpPr>
          <p:nvPr/>
        </p:nvCxnSpPr>
        <p:spPr>
          <a:xfrm flipV="1">
            <a:off x="3304800" y="2895120"/>
            <a:ext cx="2772000" cy="456480"/>
          </a:xfrm>
          <a:prstGeom prst="curvedConnector5">
            <a:avLst>
              <a:gd name="adj1" fmla="val 49824"/>
              <a:gd name="adj2" fmla="val 49960"/>
              <a:gd name="adj3" fmla="val 49824"/>
            </a:avLst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187" name=""/>
          <p:cNvCxnSpPr>
            <a:stCxn id="179" idx="3"/>
            <a:endCxn id="183" idx="2"/>
          </p:cNvCxnSpPr>
          <p:nvPr/>
        </p:nvCxnSpPr>
        <p:spPr>
          <a:xfrm>
            <a:off x="3304800" y="3350880"/>
            <a:ext cx="2467800" cy="1678680"/>
          </a:xfrm>
          <a:prstGeom prst="curvedConnector5">
            <a:avLst>
              <a:gd name="adj1" fmla="val 49795"/>
              <a:gd name="adj2" fmla="val 50000"/>
              <a:gd name="adj3" fmla="val 49795"/>
            </a:avLst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91728-25FC-4CA5-8FF0-8C8508CC94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ersekitar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05120"/>
            <a:ext cx="1981080" cy="83808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Kelua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81480"/>
            <a:ext cx="2438280" cy="99072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garu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kola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4191120"/>
            <a:ext cx="2057400" cy="9144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k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bay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2819520"/>
            <a:ext cx="2362320" cy="11430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galam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w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95480"/>
            <a:ext cx="1905120" cy="99072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syarak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191120"/>
            <a:ext cx="1981080" cy="914400"/>
          </a:xfrm>
          <a:prstGeom prst="ellipse">
            <a:avLst/>
          </a:prstGeom>
          <a:solidFill>
            <a:srgbClr val="99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dia mas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9200" y="685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Suasan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ruma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59200" y="190512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pemakan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05400" y="274320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sosioekonom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294920" y="1676520"/>
            <a:ext cx="838440" cy="12189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360" y="1676520"/>
            <a:ext cx="75960" cy="2514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1676520"/>
            <a:ext cx="1219320" cy="34290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676520"/>
            <a:ext cx="2210040" cy="2666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752480"/>
            <a:ext cx="1905120" cy="15242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676520"/>
            <a:ext cx="2362320" cy="6094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477120" y="1143000"/>
            <a:ext cx="990360" cy="91440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705720" y="2133360"/>
            <a:ext cx="76176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2514600"/>
            <a:ext cx="609480" cy="380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32240-35A5-4276-9FDC-B60143BA17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87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ngaruh Personaliti Terhadap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mbelajar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213372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ya pembelajaran mula dibentuk sej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ngkat kanak-kanak lag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gaya pembelajar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lajar secara berkumpu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lajar berseor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merhati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bincang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aca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nglibatan diri secara fizik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622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A8E79-B78A-49CA-BB08-89C8FD04A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762120"/>
            <a:ext cx="8487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Pengaruh Personaliti Terhadap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Pembelajar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280" y="2452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000" y="2616120"/>
            <a:ext cx="361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rsifat berdikar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knik penemu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rusaha mendapa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awap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05120" y="4902120"/>
            <a:ext cx="50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rsifat bergantung pada orang l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aedah syarahan adalah sesua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ya usaha terh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62120" y="1905120"/>
          <a:ext cx="41148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4114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31F9A-0EE3-478E-9088-ACB82ED989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Pengaruh Personaliti Terhadap Pembelajara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286000"/>
            <a:ext cx="694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sonaliti Introve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lukan pujian bagi setiap perlakuan +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tuk terus berusa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mbelajaran berseorang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9920" y="4343400"/>
            <a:ext cx="69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sonaliti Ekstrove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dak mengharapkan pujian semata-mat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tuk terus berusah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mbelajaran berkumpul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36EB9-CC12-4DDB-BD7E-83DEE2C11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C86B-3910-46F6-A0C7-7F6DE3846698}" type="datetime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43080" y="1676520"/>
            <a:ext cx="6757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MBENTUKAN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RSONALITI DAN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NSEP KENDIRI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4746A-6EA9-48C2-BB6F-F2693ACE0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8480" y="2895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 Black"/>
              </a:rPr>
              <a:t>KONSEP KENDIR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50E73-BCB5-410F-86C4-0AF259A0AA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ARL ROGERS (195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209680"/>
            <a:ext cx="4343400" cy="393336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erkaitan di antara       cara seseorang itu berpendapat tentang kekurangan dan kelebihan mengenai dirinya serta maklumat yang diterimanya dari orang lain mengenai diriny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97180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0D00A-B584-44EC-A8D3-BC418155FF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800" y="116856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Popplestone dan Mc Pherson (1988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200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960" y="1971720"/>
            <a:ext cx="611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onsep kendiri merupakan kesatuan pengetahuan dan reaksi seseorang yang membezakannya daripada individu yang l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" y="3930480"/>
            <a:ext cx="40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Amir Awang (199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3640" y="4638600"/>
            <a:ext cx="69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onsep kendiri merupakan gabungan antara penilaiannya sendiri, dan penilaian orang lain, dan penilaiannya tentang tanggapan orang lain terhadap diriny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A269-B63A-4198-BAF7-147860C3B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03680" y="1295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Konsep Kendir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5240" y="2733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5320" y="281952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Perseps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4495680"/>
            <a:ext cx="22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Kepercaya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3440" y="29718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Perasaan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5360" y="464832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k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514600"/>
            <a:ext cx="1676160" cy="114300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114800"/>
            <a:ext cx="2361960" cy="121932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743200"/>
            <a:ext cx="2057400" cy="106668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1676160" cy="1143000"/>
          </a:xfrm>
          <a:prstGeom prst="flowChartPunchedTape">
            <a:avLst/>
          </a:prstGeom>
          <a:noFill/>
          <a:ln cap="sq"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6F19D-51BA-4E74-A5DE-6816EF4C45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PERINGKAT DAN PERKEMBANGAN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KONSEP KENDIRI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1080" y="2619360"/>
            <a:ext cx="29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Kanak-kan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42900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27672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onsep kendiri terbentuk sejak individu berada di alam kanak-kana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34340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masa membesar, kanak-kan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ula sedar tentang  objek 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eristiwa luar dunianya melalu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eraksi dengan persekitara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705720" y="2438280"/>
          <a:ext cx="1981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438280"/>
                    <a:ext cx="1981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8720-A678-4D83-8E03-78F9EA2A5E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4382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ertumpu kepada    perasaa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dan mencari identiti sendir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80988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Konsep kendiri tidak konsisten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dan sukar untuk membu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keputus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362320" cy="4044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26668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maj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C4EE3-159F-4083-B7E4-0B4204951A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20968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lebih mata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2895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fikiran lebih terbuk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dan rasion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2684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wa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956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273E3-60BD-4FEF-92C2-936D342FC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990720"/>
            <a:ext cx="5257800" cy="1155600"/>
          </a:xfrm>
          <a:prstGeom prst="rect">
            <a:avLst/>
          </a:prstGeom>
          <a:solidFill>
            <a:srgbClr val="a50021"/>
          </a:solidFill>
          <a:ln w="76320">
            <a:solidFill>
              <a:srgbClr val="ff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KONSEP KENDIR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280" y="3581280"/>
            <a:ext cx="3846240" cy="1068840"/>
          </a:xfrm>
          <a:prstGeom prst="rect">
            <a:avLst/>
          </a:prstGeom>
          <a:solidFill>
            <a:srgbClr val="000000"/>
          </a:solidFill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ONSEP KENDI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SI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5920" y="3581280"/>
            <a:ext cx="3744000" cy="1068840"/>
          </a:xfrm>
          <a:prstGeom prst="rect">
            <a:avLst/>
          </a:prstGeom>
          <a:solidFill>
            <a:srgbClr val="000000"/>
          </a:solidFill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ONSEP KENDI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EGA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743200"/>
            <a:ext cx="3962520" cy="0"/>
          </a:xfrm>
          <a:prstGeom prst="line">
            <a:avLst/>
          </a:prstGeom>
          <a:ln cap="sq"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274320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274320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cap="sq"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57BFF-119D-4566-9784-E3F21EC5C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00" y="888480"/>
            <a:ext cx="8246880" cy="1155960"/>
          </a:xfrm>
          <a:prstGeom prst="rect">
            <a:avLst/>
          </a:prstGeom>
          <a:solidFill>
            <a:srgbClr val="ff99ff"/>
          </a:solidFill>
          <a:ln w="7632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ahoma"/>
              </a:rPr>
              <a:t>KONSEP KENDIRI POSITI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560" y="2139840"/>
            <a:ext cx="55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bas membuat pilihan dan keputus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784600"/>
            <a:ext cx="29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tanggungjaw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521160"/>
            <a:ext cx="36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angga dengan kejaya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6080" y="4308480"/>
            <a:ext cx="51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tolak ansur dengan kekecewa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994280"/>
            <a:ext cx="25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Berasa gembi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480" y="565452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Menghargai diri-sendiri dan orang l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D798B-B4B0-43CA-9E61-3EE04EB72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32448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057400"/>
            <a:ext cx="8432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ersonaliti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– asal daripada perkataan Lat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iaitu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ersona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yang bermaksu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topeng muka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(diguna oleh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elakon-pelakon Yunani Purb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untuk mewakili watak dalam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lakonan).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590920" cy="24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F5CE2-F1FF-41D3-83B7-02A7F9409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7800" y="888480"/>
            <a:ext cx="7713720" cy="11559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ONSEP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KENDIRI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NEGATI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560" y="2098800"/>
            <a:ext cx="49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idak mempunyai cita-cita ting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7840" y="266688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udah putus a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320" y="327672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Kata-kata yang menyinggu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962520"/>
            <a:ext cx="76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Keadaan diri yang tidak kemas dan pengurusan mas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ang tidak teratur.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86040" y="502920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asa rendah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84960" y="5715000"/>
            <a:ext cx="54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ersifat pasif dan tidak suka berga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0C41D-F030-4F80-A10E-6573DBA83F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FAKTOR-FAKTOR YANG MEMPENGARUHI PEMBENTUKAN KONSEP KENDIR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7960" y="251460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Pengaruh ibuba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75520" y="3124080"/>
            <a:ext cx="13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Ba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90280" y="3733920"/>
            <a:ext cx="30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Disiplin Sekola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76240" y="434340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Buday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78040" y="4952880"/>
            <a:ext cx="27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Kecacatan di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86320" y="5715000"/>
            <a:ext cx="41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Emosi yang tidak stab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363CA-4B39-4442-96B9-B1E3E0137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827360" y="94284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NGARUH IBUBAP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13372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ri galakan dan semang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lajar kepada anak-an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840" y="368604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K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572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ersikap +ve terhadap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bidang perniaga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61136-2A23-4D5F-8344-6BAF22828B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89160" y="990720"/>
            <a:ext cx="49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ahoma"/>
              </a:rPr>
              <a:t>DISIPLIN SEKOLA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0574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Lahirkan murid yang berdisipl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an bertingkahlaku posit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43760" y="441972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ahoma"/>
              </a:rPr>
              <a:t>BUDAY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562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4680" y="5257800"/>
            <a:ext cx="54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budaya moden dan mencab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934320" y="182880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06095-ADF1-4EE9-8766-C97DC5929C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08160" y="10317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KECACAT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2057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Konsep kendiri yang renda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861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Malu bergaul dan tid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ya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0926-FE3F-47FF-8E89-552CC2DEC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13880" y="1247760"/>
            <a:ext cx="73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EMOSI YANG TIDAK STABI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2209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2514600"/>
            <a:ext cx="58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Tidak bercita-cita tingg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dan tidak  bersemang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24307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76A5E-62AB-4226-BA9C-3714C2017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17880" y="111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08040" y="20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8040" y="762120"/>
            <a:ext cx="70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Tahoma"/>
              </a:rPr>
              <a:t>IMPLIKASI KONSEP KENDIRI DALAM PEMBELAJAR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6640" y="1752480"/>
            <a:ext cx="68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uru memainkan peranan penting untuk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nolong murid-muridnya membentuk kons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endiri yang positif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54920" y="30211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antu mereka mencari poten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60680" y="3581280"/>
            <a:ext cx="66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ri bimbingan kepada  murid dalam pro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mbelajar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60680" y="4572000"/>
            <a:ext cx="58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mberitahu tentang prestasi akedem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cara berterusan – tingkatkan presta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8440" y="5535720"/>
            <a:ext cx="621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temuan peribadi – nasihat, menegur tingkahlak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ri kesan kepada konsep kendiri pelaja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1069-E3C5-487E-B811-91825AAFA2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548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SEKIAN,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3276720"/>
            <a:ext cx="65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ERIMA KASIH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EA49A-68E9-4AFC-A602-BDE962913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5480" y="2133720"/>
            <a:ext cx="85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ara umumnya merupakan ciri-ciri keseluruh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ingkahlaku seseorang manusia yang boleh d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idak boleh diliha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schel (1981)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Personaliti ialah susunan pola-pola tingkahlaku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nusia yang disesuaikan dalam situasi kehidup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erek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75E0E-7A7B-486A-82D6-47DD77001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248520" y="2514600"/>
          <a:ext cx="25146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5146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80880" y="2514600"/>
            <a:ext cx="541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ow dan Crow (1983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Perawakan fizikal seseora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orak pertuturan atau day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penarik yang dimilikinya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efinisi Personali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2A7A4-AD41-403D-B9A3-1FB02311F1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2755800" cy="45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eori Personali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2600" y="2057400"/>
            <a:ext cx="2648160" cy="192276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eori Psiko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igmund Freu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per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2622600" cy="140796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‘Trait’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illiam Sheld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ordan All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aymond Cattel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724280"/>
            <a:ext cx="2286000" cy="12956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Penjenis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arl C. Ju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ans J. Eysenc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209680"/>
            <a:ext cx="2554200" cy="152100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eori Humanisti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arl Rog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braham Mas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80920" y="1447920"/>
            <a:ext cx="739800" cy="23097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447920"/>
            <a:ext cx="1076040" cy="23652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1447920"/>
            <a:ext cx="1008000" cy="9014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447920"/>
            <a:ext cx="1344600" cy="84456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87138-0BCC-4C71-A5F8-33CE853BC8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Teori Psikoanalisis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(Sigmund Freu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0"/>
            <a:ext cx="60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Personaliti dikategorikan kepada 3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id (aras tidak sed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dorongan biologikal &amp;  tena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naluri yang mendorong manus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untuk bertindak &amp; mendap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kepuasan tanpa mengi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akibatny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7432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D16B0-832B-4933-9D91-A076427B2F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752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ego (aras sed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mengawal kehendak yang tidak dapat dipuask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oleh id. (boleh menilai salah atau betul sesuat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perkar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super-ego (aras pra sedar)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perkembangan mental sudah mata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ccff66"/>
                </a:solidFill>
                <a:latin typeface="Tahoma"/>
              </a:rPr>
              <a:t>- mengawal keseluruhan kehendak id &amp; eg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Teori Psikoanalisis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(Sigmund Freu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6ED3E-F0AF-442B-AD1A-9781D8091B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eori Trait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752480"/>
            <a:ext cx="740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William Sheld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Susuk tubuh mempengaruhi personalit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680" y="3200400"/>
            <a:ext cx="311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End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gemuk &amp; bul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ang akti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uk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uka bergaul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ang emos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3200400"/>
            <a:ext cx="234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Mes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teg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bertena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kuat beker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cerd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35360" y="3124080"/>
            <a:ext cx="270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Eksomor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kurus &amp; tingg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banyak berfik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pemal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sensiti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TAA/JIP/Psikologi/Fitrah Manusia/Pembentukan Personaliti &amp;Konsep Kendi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475BE-39BB-47C5-A96D-39F28892F3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6:16:32Z</dcterms:created>
  <dc:creator>WAHAB ISA</dc:creator>
  <dc:description/>
  <dc:language>en-US</dc:language>
  <cp:lastModifiedBy>user</cp:lastModifiedBy>
  <dcterms:modified xsi:type="dcterms:W3CDTF">2008-02-05T04:05:52Z</dcterms:modified>
  <cp:revision>51</cp:revision>
  <dc:subject/>
  <dc:title>PEMBENTUKAN PERSONALITI DAN KONSEP KENDIRI</dc:title>
</cp:coreProperties>
</file>