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20.wmf" ContentType="image/x-wmf"/>
  <Override PartName="/ppt/media/image18.wmf" ContentType="image/x-wmf"/>
  <Override PartName="/ppt/media/image16.jpeg" ContentType="image/jpeg"/>
  <Override PartName="/ppt/media/image15.jpeg" ContentType="image/jpeg"/>
  <Override PartName="/ppt/media/image14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8.gif" ContentType="image/gif"/>
  <Override PartName="/ppt/media/image19.jpeg" ContentType="image/jpeg"/>
  <Override PartName="/ppt/media/image6.wmf" ContentType="image/x-wmf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BF5-7DF0-429C-B22C-9EDD42E0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128-B40C-44E6-925C-75B34A97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274-8F94-4E38-BDF2-105DD9BA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F3A-392E-44A1-A86F-D5FF9DB4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E450-74C0-4968-8B5F-3016D536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DFA0-DE34-40BE-B287-65577F61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98FB-0955-4B14-B835-2A6822E5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E3D6-C8BB-4938-9DF5-1F29794B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D042-9A68-419E-8FCC-AD9C7DA1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C2C0-3120-42B7-8287-1716AF19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AC4D-CD9B-4639-BE23-EA05DDBE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A69-3BCA-4C06-8CA9-E7636A5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593C-4EAD-4115-B7DA-274E2B9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6C20-FD8F-49F3-AFB3-3D71EA3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6455-A5E2-49B3-95F7-86910CB4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5BFC-8287-499C-8399-17EB9534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416B-543C-4A57-9267-DAB67D96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62A-5888-4BDA-B6E8-05520512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504-71C4-4865-9CA0-47577BD1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2DF-3DA4-4B20-834E-2C353DFD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2F9-2354-4510-8110-76816EBD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641-0286-4269-A168-9D8C5A70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A39-3370-4868-8E45-F6CD3EB3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BED-20C4-43C6-909B-AED54A79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AB1A-8E28-4763-AA74-B7E5749F01BF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1D5F-62B3-4149-9065-21559E273B9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5CEF-C2BF-4991-8127-7A25E850667B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5D62-52D1-4969-97F7-37DF6B343FE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1676520"/>
            <a:ext cx="769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 BM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inggu Ke  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Tajuk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Pembentukan Personaliti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n Konsep Kendir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1    Personaliti  D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onsep Kendir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Oleh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bd Jamil bin Sabd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 algn="ctr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0" y="380880"/>
            <a:ext cx="44956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SIKOLOG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8349F-773B-439B-89B3-FBC37619F5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19520" y="762120"/>
            <a:ext cx="3276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eori Tra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8080" y="1857240"/>
            <a:ext cx="433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2.  Gordon All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kardi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pus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sekun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403848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ff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Raymond Cart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permuka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su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2362320"/>
          <a:ext cx="1905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1905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CC8A6-6A7E-421C-864F-6E473A278D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Teori Penjenisan</a:t>
            </a:r>
            <a:br>
              <a:rPr sz="3600"/>
            </a:b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( Carl C. Jung &amp; Hans J. Eysenck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286000"/>
            <a:ext cx="297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3480" y="1881360"/>
            <a:ext cx="844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kstrove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Bersifat luaran iaitu individu dalam golongan i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memberi tumpuan yang lebih kepada penilai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dunia luar daripada dalamny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ciri-ciri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lancar pertutur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berminat dalam suk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perama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cepat menyesuaikan di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suka perbincang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3516120" cy="22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F45E6-6F19-4EDC-8FA8-C386C9D79C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9320" y="905040"/>
            <a:ext cx="75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) Introve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Lebih bersifat dalaman iaitu mementingk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diri sendiri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ciri-ciri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pasi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pemal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sensiti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suka buat kerja sendiri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suka merancang kerja dengan teratur &amp; cerm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5080" y="4648320"/>
            <a:ext cx="652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) Ambive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Gabungan kedua-dua jenis ekstrovert d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introve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943600" y="2133720"/>
          <a:ext cx="249552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133720"/>
                    <a:ext cx="24955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74B88-71F0-40FB-B42B-3FD8F2A315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ori Humanistik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Carl Rogers &amp; Abraham Maslow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81640" y="2133720"/>
            <a:ext cx="750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anusia mempunyai keupayaan untu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rancang dan membentuk nasib mere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endir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eseorang individu akan sentiasa menunjukk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ifat-sifat personaliti yang baik, panda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ngambil hati dan saling berhubung anta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atu sama l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4B3FE-65C7-482A-BFE4-C44788A90B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55960" y="2263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206360"/>
            <a:ext cx="5181840" cy="19051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AKTOR-FAKTO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EMPENGARUHI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ERSONALI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5092560"/>
            <a:ext cx="1600200" cy="6426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ak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5168880"/>
            <a:ext cx="3138480" cy="6426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ersekitar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178160"/>
            <a:ext cx="48765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4178160"/>
            <a:ext cx="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178160"/>
            <a:ext cx="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111480"/>
            <a:ext cx="0" cy="106668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49180-AA6E-4D5E-8523-905F9F55B3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2971800"/>
            <a:ext cx="2210040" cy="703440"/>
          </a:xfrm>
          <a:prstGeom prst="rect">
            <a:avLst/>
          </a:prstGeom>
          <a:solidFill>
            <a:srgbClr val="000066"/>
          </a:solidFill>
          <a:ln cap="sq"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Bak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914400"/>
            <a:ext cx="2286000" cy="1066680"/>
          </a:xfrm>
          <a:prstGeom prst="ellipse">
            <a:avLst/>
          </a:prstGeom>
          <a:solidFill>
            <a:srgbClr val="000066"/>
          </a:solidFill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iz bad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5181480"/>
            <a:ext cx="2133720" cy="914400"/>
          </a:xfrm>
          <a:prstGeom prst="ellipse">
            <a:avLst/>
          </a:prstGeom>
          <a:solidFill>
            <a:srgbClr val="000066"/>
          </a:solidFill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cerdas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2362320"/>
            <a:ext cx="2210040" cy="1066680"/>
          </a:xfrm>
          <a:prstGeom prst="ellipse">
            <a:avLst/>
          </a:prstGeom>
          <a:solidFill>
            <a:srgbClr val="000066"/>
          </a:solidFill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yak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4495680"/>
            <a:ext cx="2133360" cy="1067040"/>
          </a:xfrm>
          <a:prstGeom prst="ellipse">
            <a:avLst/>
          </a:prstGeom>
          <a:solidFill>
            <a:srgbClr val="000066"/>
          </a:solidFill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bi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2"/>
            <a:endCxn id="181" idx="2"/>
          </p:cNvCxnSpPr>
          <p:nvPr/>
        </p:nvCxnSpPr>
        <p:spPr>
          <a:xfrm flipH="1" rot="16200000">
            <a:off x="1698480" y="4231800"/>
            <a:ext cx="1880280" cy="933840"/>
          </a:xfrm>
          <a:prstGeom prst="curvedConnector2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185" name=""/>
          <p:cNvCxnSpPr>
            <a:stCxn id="179" idx="0"/>
            <a:endCxn id="180" idx="2"/>
          </p:cNvCxnSpPr>
          <p:nvPr/>
        </p:nvCxnSpPr>
        <p:spPr>
          <a:xfrm flipH="1" flipV="1" rot="5400000">
            <a:off x="2157120" y="1461960"/>
            <a:ext cx="1496160" cy="1467360"/>
          </a:xfrm>
          <a:prstGeom prst="curvedConnector2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186" name=""/>
          <p:cNvCxnSpPr>
            <a:stCxn id="179" idx="3"/>
            <a:endCxn id="182" idx="2"/>
          </p:cNvCxnSpPr>
          <p:nvPr/>
        </p:nvCxnSpPr>
        <p:spPr>
          <a:xfrm flipV="1">
            <a:off x="3304800" y="2895120"/>
            <a:ext cx="2772000" cy="456480"/>
          </a:xfrm>
          <a:prstGeom prst="curvedConnector5">
            <a:avLst>
              <a:gd name="adj1" fmla="val 49824"/>
              <a:gd name="adj2" fmla="val 49960"/>
              <a:gd name="adj3" fmla="val 49824"/>
            </a:avLst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187" name=""/>
          <p:cNvCxnSpPr>
            <a:stCxn id="179" idx="3"/>
            <a:endCxn id="183" idx="2"/>
          </p:cNvCxnSpPr>
          <p:nvPr/>
        </p:nvCxnSpPr>
        <p:spPr>
          <a:xfrm>
            <a:off x="3304800" y="3350880"/>
            <a:ext cx="2467800" cy="1678680"/>
          </a:xfrm>
          <a:prstGeom prst="curvedConnector5">
            <a:avLst>
              <a:gd name="adj1" fmla="val 49795"/>
              <a:gd name="adj2" fmla="val 50000"/>
              <a:gd name="adj3" fmla="val 49795"/>
            </a:avLst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FF5EA-E162-4FC2-87E7-1D05039F64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685800"/>
            <a:ext cx="3581280" cy="99072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ersekitar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05120"/>
            <a:ext cx="1981080" cy="83808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Kelua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81480"/>
            <a:ext cx="2438280" cy="99072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ngaruh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kola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4191120"/>
            <a:ext cx="2057400" cy="91440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k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bay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2819520"/>
            <a:ext cx="2362320" cy="114300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ngalam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w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895480"/>
            <a:ext cx="1905120" cy="99072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syarak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191120"/>
            <a:ext cx="1981080" cy="91440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dia mas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9200" y="68580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Suasan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ruma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59200" y="190512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pemakan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05400" y="274320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sosioekonom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294920" y="1676520"/>
            <a:ext cx="838440" cy="121896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360" y="1676520"/>
            <a:ext cx="75960" cy="2514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1676520"/>
            <a:ext cx="1219320" cy="34290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1676520"/>
            <a:ext cx="2210040" cy="26668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752480"/>
            <a:ext cx="1905120" cy="152424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1676520"/>
            <a:ext cx="2362320" cy="6094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477120" y="1143000"/>
            <a:ext cx="990360" cy="91440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705720" y="2133360"/>
            <a:ext cx="76176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2514600"/>
            <a:ext cx="609480" cy="380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D1282-B16D-43AA-A63B-616CD8B4A2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87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Pengaruh Personaliti Terhadap</a:t>
            </a: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Pembelajara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2133720"/>
            <a:ext cx="769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ya pembelajaran mula dibentuk seja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ingkat kanak-kanak lagi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gaya pembelajar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elajar secara berkumpu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elajar berseorang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merhati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rbincang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aca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nglibatan diri secara fizik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76228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36029-E644-4397-B535-EF23E77AEA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762120"/>
            <a:ext cx="8487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Pengaruh Personaliti Terhadap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Pembelajar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6280" y="2452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76000" y="2616120"/>
            <a:ext cx="361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rsifat berdikari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knik penemu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rusaha mendapat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awap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05120" y="4902120"/>
            <a:ext cx="50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rsifat bergantung pada orang l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aedah syarahan adalah sesua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ya usaha terh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62120" y="1905120"/>
          <a:ext cx="41148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41148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EFF75-9E68-4495-9409-739C330AD5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Pengaruh Personaliti Terhadap Pembelajara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2286000"/>
            <a:ext cx="694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sonaliti Introve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lukan pujian bagi setiap perlakuan +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tuk terus berusah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mbelajaran berseoranga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9920" y="4343400"/>
            <a:ext cx="691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sonaliti Ekstrove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dak mengharapkan pujian semata-mat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tuk terus berusah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mbelajaran berkumpula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AE0D1-F722-4A04-9CB7-F3C521B2FC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7693-2F38-448E-A7B7-35AA4701AC06}" type="datetime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43080" y="1676520"/>
            <a:ext cx="67579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MBENTUKAN 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RSONALITI DAN 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ONSEP KENDIRI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F547B-20F2-4440-A220-DCEA632BB2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8480" y="2895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ff"/>
                </a:solidFill>
                <a:latin typeface="Arial Black"/>
              </a:rPr>
              <a:t>KONSEP KENDIRI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98271-0FC6-40D4-AA1D-D3A57A7D15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ARL ROGERS (195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2209680"/>
            <a:ext cx="4343400" cy="393336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erkaitan di antara       cara seseorang itu berpendapat tentang kekurangan dan kelebihan mengenai dirinya serta maklumat yang diterimanya dari orang lain mengenai diriny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97180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C6745-3C88-4590-96C8-C402CF5D61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800" y="1168560"/>
            <a:ext cx="81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Popplestone dan Mc Pherson (1988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200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960" y="1971720"/>
            <a:ext cx="611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onsep kendiri merupakan kesatuan pengetahuan dan reaksi seseorang yang membezakannya daripada individu yang l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" y="3930480"/>
            <a:ext cx="404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Amir Awang (199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3640" y="4638600"/>
            <a:ext cx="69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onsep kendiri merupakan gabungan antara penilaiannya sendiri, dan penilaian orang lain, dan penilaiannya tentang tanggapan orang lain terhadap diriny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434C8-B389-4B5C-B947-BE74F1EECD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03680" y="1295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Konsep Kendir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65240" y="2733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5320" y="2819520"/>
            <a:ext cx="15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Persepsi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4495680"/>
            <a:ext cx="22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Kepercaya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3440" y="29718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Perasaan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5360" y="464832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ik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514600"/>
            <a:ext cx="1676160" cy="1143000"/>
          </a:xfrm>
          <a:prstGeom prst="flowChartPunchedTape">
            <a:avLst/>
          </a:prstGeom>
          <a:noFill/>
          <a:ln cap="sq"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114800"/>
            <a:ext cx="2361960" cy="1219320"/>
          </a:xfrm>
          <a:prstGeom prst="flowChartPunchedTape">
            <a:avLst/>
          </a:prstGeom>
          <a:noFill/>
          <a:ln cap="sq"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2743200"/>
            <a:ext cx="2057400" cy="1066680"/>
          </a:xfrm>
          <a:prstGeom prst="flowChartPunchedTape">
            <a:avLst/>
          </a:prstGeom>
          <a:noFill/>
          <a:ln cap="sq"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1676160" cy="1143000"/>
          </a:xfrm>
          <a:prstGeom prst="flowChartPunchedTape">
            <a:avLst/>
          </a:prstGeom>
          <a:noFill/>
          <a:ln cap="sq"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D225D-0AD8-49BA-A533-6CC366C441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PERINGKAT DAN PERKEMBANGAN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KONSEP KENDIRI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1080" y="2619360"/>
            <a:ext cx="29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Kanak-kana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3429000"/>
            <a:ext cx="2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276720"/>
            <a:ext cx="64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konsep kendiri terbentuk sejak individu berada di alam kanak-kana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343400"/>
            <a:ext cx="563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masa membesar, kanak-kan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ula sedar tentang  objek d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eristiwa luar dunianya melalu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teraksi dengan persekitara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705720" y="2438280"/>
          <a:ext cx="1981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438280"/>
                    <a:ext cx="1981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78043-A102-453A-8204-BCEF23F3D1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4382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tertumpu kepada    perasaa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dan mencari identiti sendir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3809880"/>
            <a:ext cx="58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Konsep kendiri tidak konsisten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dan sukar untuk membu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keputus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2362320" cy="40449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26668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Remaj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53226-9EEF-4F8D-87DA-7B1263B264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11280" y="220968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lebih mata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2895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8954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fikiran lebih terbuk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dan rasiona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2684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ewas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9568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8FA07-FA65-459F-B539-12B75850AF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7040" y="990720"/>
            <a:ext cx="5257800" cy="1155600"/>
          </a:xfrm>
          <a:prstGeom prst="rect">
            <a:avLst/>
          </a:prstGeom>
          <a:solidFill>
            <a:srgbClr val="a50021"/>
          </a:solidFill>
          <a:ln w="76320">
            <a:solidFill>
              <a:srgbClr val="ff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KONSEP KENDIR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1280" y="3581280"/>
            <a:ext cx="3846240" cy="1068840"/>
          </a:xfrm>
          <a:prstGeom prst="rect">
            <a:avLst/>
          </a:prstGeom>
          <a:solidFill>
            <a:srgbClr val="000000"/>
          </a:solidFill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KONSEP KENDI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OSITI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65920" y="3581280"/>
            <a:ext cx="3744000" cy="1068840"/>
          </a:xfrm>
          <a:prstGeom prst="rect">
            <a:avLst/>
          </a:prstGeom>
          <a:solidFill>
            <a:srgbClr val="000000"/>
          </a:solidFill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KONSEP KENDI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NEGATI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2743200"/>
            <a:ext cx="3962520" cy="0"/>
          </a:xfrm>
          <a:prstGeom prst="line">
            <a:avLst/>
          </a:prstGeom>
          <a:ln cap="sq"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2743200"/>
            <a:ext cx="0" cy="533520"/>
          </a:xfrm>
          <a:prstGeom prst="line">
            <a:avLst/>
          </a:prstGeom>
          <a:ln cap="sq"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9400" y="2743200"/>
            <a:ext cx="0" cy="533520"/>
          </a:xfrm>
          <a:prstGeom prst="line">
            <a:avLst/>
          </a:prstGeom>
          <a:ln cap="sq"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0" cy="533520"/>
          </a:xfrm>
          <a:prstGeom prst="line">
            <a:avLst/>
          </a:prstGeom>
          <a:ln cap="sq"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59AA9-19C6-46C2-AB32-A8D900DEAF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5000" y="888480"/>
            <a:ext cx="8246880" cy="1155960"/>
          </a:xfrm>
          <a:prstGeom prst="rect">
            <a:avLst/>
          </a:prstGeom>
          <a:solidFill>
            <a:srgbClr val="ff99ff"/>
          </a:solidFill>
          <a:ln w="76320">
            <a:solidFill>
              <a:srgbClr val="008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ahoma"/>
              </a:rPr>
              <a:t>KONSEP KENDIRI POSITI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560" y="2139840"/>
            <a:ext cx="55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ebas membuat pilihan dan keputus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784600"/>
            <a:ext cx="297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ertanggungjaw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3521160"/>
            <a:ext cx="36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angga dengan kejaya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6080" y="4308480"/>
            <a:ext cx="51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ertolak ansur dengan kekecewa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4994280"/>
            <a:ext cx="25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erasa gembi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2480" y="5654520"/>
            <a:ext cx="53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Menghargai diri-sendiri dan orang l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6161E-7466-4545-8DD7-5D59C12B7B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32448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Definisi Personali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057400"/>
            <a:ext cx="8432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ersonaliti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– asal daripada perkataan Lat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iaitu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ersona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yang bermaksu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topeng muka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(diguna oleh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elakon-pelakon Yunani Purb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untuk mewakili watak dalam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lakonan).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2590920" cy="24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3C90E-A074-404A-89E2-76C3F36998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7800" y="888480"/>
            <a:ext cx="7713720" cy="11559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ONSEP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KENDIRI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NEGATI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2560" y="2098800"/>
            <a:ext cx="49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idak mempunyai cita-cita tingg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87840" y="266688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udah putus a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85320" y="327672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Kata-kata yang menyinggu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962520"/>
            <a:ext cx="76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Keadaan diri yang tidak kemas dan pengurusan mas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ang tidak teratur.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86040" y="5029200"/>
            <a:ext cx="27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asa rendah di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84960" y="5715000"/>
            <a:ext cx="54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ersifat pasif dan tidak suka bergau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6B0B7-93C1-4B62-B1E2-B32C5ABF6E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FAKTOR-FAKTOR YANG MEMPENGARUHI PEMBENTUKAN KONSEP KENDIR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7960" y="2514600"/>
            <a:ext cx="34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Pengaruh ibubap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75520" y="3124080"/>
            <a:ext cx="13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Bak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90280" y="3733920"/>
            <a:ext cx="30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Disiplin Sekola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76240" y="434340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Buday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78040" y="4952880"/>
            <a:ext cx="27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Kecacatan di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86320" y="5715000"/>
            <a:ext cx="41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Emosi yang tidak stab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92A6F-2AF3-4819-B9F5-0457934634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827360" y="94284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NGARUH IBUBAP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133720"/>
            <a:ext cx="55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beri galakan dan semanga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belajar kepada anak-an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840" y="368604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K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572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bersikap +ve terhadap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bidang perniaga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C9547-1951-41E8-AD20-8E3561E2F2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89160" y="990720"/>
            <a:ext cx="49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ahoma"/>
              </a:rPr>
              <a:t>DISIPLIN SEKOLA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205740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Lahirkan murid yang berdisipl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an bertingkahlaku positi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43760" y="441972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ahoma"/>
              </a:rPr>
              <a:t>BUDAY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562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4680" y="5257800"/>
            <a:ext cx="54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budaya moden dan mencab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934320" y="1828800"/>
            <a:ext cx="220968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7E957-9777-48D6-BFD6-5152C5A791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08160" y="10317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Tahoma"/>
              </a:rPr>
              <a:t>KECACAT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20574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Konsep kendiri yang renda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288612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Malu bergaul dan tid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yak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400800" y="228600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08E98-1838-4AE6-96D4-92BDFEECF8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13880" y="1247760"/>
            <a:ext cx="73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EMOSI YANG TIDAK STABI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2209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2514600"/>
            <a:ext cx="588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Tidak bercita-cita tinggi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dan tidak  bersemang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24307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BBE48-7B83-4428-828B-F94B34FCB6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17880" y="111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08040" y="20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8040" y="762120"/>
            <a:ext cx="70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IMPLIKASI KONSEP KENDIRI DALAM PEMBELAJAR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6640" y="1752480"/>
            <a:ext cx="687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uru memainkan peranan penting untuk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nolong murid-muridnya membentuk kons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endiri yang positif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54920" y="302112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antu mereka mencari potens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60680" y="3581280"/>
            <a:ext cx="66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eri bimbingan kepada  murid dalam pro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mbelajar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60680" y="4572000"/>
            <a:ext cx="58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mberitahu tentang prestasi akedemi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cara berterusan – tingkatkan prestas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8440" y="5535720"/>
            <a:ext cx="621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temuan peribadi – nasihat, menegur tingkahlak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eri kesan kepada konsep kendiri pelajar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4549D-63C3-435A-9131-8D151EACB5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500"/>
                            </p:stCondLst>
                            <p:childTnLst>
                              <p:par>
                                <p:cTn id="7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05120" y="1828800"/>
            <a:ext cx="54864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SEKIAN, 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0200" y="3276720"/>
            <a:ext cx="65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ERIMA KASIH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FC98E-CD0C-47BD-83E1-12EE468EC9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Definisi Personali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5480" y="2133720"/>
            <a:ext cx="857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ara umumnya merupakan ciri-ciri keseluruh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ingkahlaku seseorang manusia yang boleh d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idak boleh diliha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11480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ischel (1981)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Personaliti ialah susunan pola-pola tingkahlaku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nusia yang disesuaikan dalam situasi kehidup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erek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01BBF-CF5F-4040-A8B1-C0EF3A1B19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248520" y="2514600"/>
          <a:ext cx="251460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5146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80880" y="2514600"/>
            <a:ext cx="541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ow dan Crow (1983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Perawakan fizikal seseora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orak pertuturan atau day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penarik yang dimilikinya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Definisi Personali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331C2-7790-43DD-AA52-82739A67DA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2755800" cy="450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cc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eori Personali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2600" y="2057400"/>
            <a:ext cx="2648160" cy="192276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Teori Psiko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igmund Freu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g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pereg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648320"/>
            <a:ext cx="2622600" cy="140796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eori ‘Trait’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illiam Sheld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Gordan All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aymond Cattel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4724280"/>
            <a:ext cx="2286000" cy="129564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eori Penjenis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arl C. Ju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Hans J. Eysenc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2209680"/>
            <a:ext cx="2554200" cy="152100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eori Humanisti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arl Rog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braham Masl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80920" y="1447920"/>
            <a:ext cx="739800" cy="230976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447920"/>
            <a:ext cx="1076040" cy="23652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1447920"/>
            <a:ext cx="1008000" cy="90144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1447920"/>
            <a:ext cx="1344600" cy="84456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8BDEA-F554-405C-B91E-9710DBCD09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Teori Psikoanalisis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(Sigmund Freu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86000"/>
            <a:ext cx="601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Personaliti dikategorikan kepada 3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id (aras tidak sed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- dorongan biologikal &amp;  tena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naluri yang mendorong manusi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untuk bertindak &amp; mendap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kepuasan tanpa mengi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akibatny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27432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9D068-9FBE-40B5-86FC-654DAC40FD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752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ego (aras sed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- mengawal kehendak yang tidak dapat dipuask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oleh id. (boleh menilai salah atau betul sesuat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perkar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super-ego (aras pra sedar)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- perkembangan mental sudah mata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- mengawal keseluruhan kehendak id &amp; eg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Teori Psikoanalisis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(Sigmund Freu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41BB2-9FF3-4BB1-B096-9502D4BF5F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eori Trait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752480"/>
            <a:ext cx="740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William Sheld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Susuk tubuh mempengaruhi personaliti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680" y="3200400"/>
            <a:ext cx="311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Endomor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gemuk &amp; bul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kurang akti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suk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suka bergaul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kurang emos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6080" y="3200400"/>
            <a:ext cx="234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Mesomor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teg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bertena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kuat beker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cerd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35360" y="3124080"/>
            <a:ext cx="2707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Eksomor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kurus &amp; tingg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banyak berfik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pemal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sensiti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35785-51C4-4BE1-AA2C-2A50640734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6:16:32Z</dcterms:created>
  <dc:creator>WAHAB ISA</dc:creator>
  <dc:description/>
  <dc:language>en-US</dc:language>
  <cp:lastModifiedBy>user</cp:lastModifiedBy>
  <dcterms:modified xsi:type="dcterms:W3CDTF">2008-02-05T04:05:52Z</dcterms:modified>
  <cp:revision>51</cp:revision>
  <dc:subject/>
  <dc:title>PEMBENTUKAN PERSONALITI DAN KONSEP KENDIRI</dc:title>
</cp:coreProperties>
</file>