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6817-E72E-4856-9212-BB6FDC62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8030-FD1C-4CCB-A52E-6F1CE636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67DC-9D0A-4DF5-95E3-C0AAF7FC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A05-E10D-4359-A0F8-B5FCE276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6947-06A1-4739-A680-762B5D67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893B-305F-4647-B18E-1D1E33CA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510E-C564-4EEC-887A-A975F2E1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1235-4EF9-42BF-9868-A481DF31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3A90-948C-4A41-A499-B784218F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4CB5-9EA5-4456-A877-CCA241AB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5AB8-A9A6-425A-B0F9-77DE94FE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1E8-1F6A-40FA-AB1C-ABD2F0ED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21A9-687A-4CA3-976E-347051AE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64A8-E609-4CA4-B639-4CCAD4EC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245B-2FB7-47C5-9D78-4A731A6A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753D-C7B8-496D-BA6C-F4D54D6C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548C-5267-4D61-936C-D7181065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938-5463-4CBB-8363-A5A3F050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126-9C30-4C40-A135-80CCB38F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249-AE33-4FE8-A7A8-1CB707BB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7115-B7B7-4091-A760-3FDE0334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650-8DAB-4C56-8599-1E3BCB0E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2082-5ABD-4715-9304-DBF84C01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890-C147-45D8-98C8-52180F4E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5C6F-637E-465D-831C-7FD1D6AF22FA}" type="slidenum">
              <a:rPr b="0" lang="es-MX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56B9-0B1A-4E52-B7AA-39F51EA0F57B}" type="slidenum">
              <a:rPr b="0" lang="es-MX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Complicaciones médicas en el embaraz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Diabetes mellitu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Diabetes gestaciona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Factores de riesg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No modificabl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Edad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a 45 años (&gt; 25 años o &lt; de 25 años con obesidad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Antecedentes de diabetes mellitus en un familiar en primer grado (padres, herma- nos, hijo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Antecedentes en la mujer de macroso- mía fetal, óbito, mortinato, malformacio- nes congénit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7d47d"/>
                </a:solidFill>
                <a:latin typeface="Arial"/>
              </a:rPr>
              <a:t>Efectos del embarazo sobre la diabet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f1311"/>
                </a:solidFill>
                <a:latin typeface="Symbol"/>
                <a:ea typeface="Symbol"/>
              </a:rPr>
              <a:t></a:t>
            </a:r>
            <a:r>
              <a:rPr b="0" lang="es-MX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2f1311"/>
                </a:solidFill>
                <a:latin typeface="Arial"/>
              </a:rPr>
              <a:t>de la resistencia periférica al efecto de la insuli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Acción de la insulina antagonizada por estrógenos, progesterona, hPL, cortiso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en los requerimientos de Insuli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Insulinasa placentaria acelera la degradación de la insuli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Tendencia hacia la cetoacidosi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7d47d"/>
                </a:solidFill>
                <a:latin typeface="Arial"/>
              </a:rPr>
              <a:t>Efectos de la diabetes sobre el embaraz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Aborto e infertilidad, frecuencia 3 veces mayo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Anormalidades congénitas: 5 a 10%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Obito fetal: 5 a 10%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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complicaciones del embaraz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Hipertensió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Polihidramni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Parto pretérmin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RCIU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Infección de vías urinaria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Candidiasis vulvovagin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7d47d"/>
                </a:solidFill>
                <a:latin typeface="Arial"/>
              </a:rPr>
              <a:t>Efectos de la diabetes sobre el embaraz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Macrosomía fetal que condiciona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Distocia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Laceraciones del conducto del part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Asfixia en el nonat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Cesárea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f1311"/>
                </a:solidFill>
                <a:latin typeface="Symbol"/>
                <a:ea typeface="Symbol"/>
              </a:rPr>
              <a:t></a:t>
            </a:r>
            <a:r>
              <a:rPr b="0" lang="es-MX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2f1311"/>
                </a:solidFill>
                <a:latin typeface="Arial"/>
              </a:rPr>
              <a:t>morbilidad neonata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SD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Hiperbilirrubinem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Hipoglucem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Hipocalcem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Diabetes gestaciona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Intolerancia a los carbohidratos de intensidad variable y que se inicia o se detecta durante el embarazo (incl</a:t>
            </a:r>
            <a:r>
              <a:rPr b="0" lang="es-ES_tradnl" sz="3200" spc="-1" strike="noStrike" u="sng">
                <a:solidFill>
                  <a:srgbClr val="2f1311"/>
                </a:solidFill>
                <a:uFillTx/>
                <a:latin typeface="Arial"/>
              </a:rPr>
              <a:t>u</a:t>
            </a: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 ye la posibilidad de que una diabetes no detectada pudiera haber precedido a la gestación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Detec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Clasificación de la paciente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Alto riesg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Medio riesg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Bajo riesg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Detección, indicad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Alto riesgo, 1 o + de los siguientes riesgo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Obesidad marcad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Historia familiar de DM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Intolerancia a la glucosa o glucosur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Historia familiar importante de diabetes de tipo 2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Detección, no indicad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Bajo riesgo, todos los siguientes criterio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Edad &lt; 25 añ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Peso normal en el embaraz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No ser miembro de grupo racial o étnico con alta prevalencia de diabetes (hispano, nativas, asiático, afro americanas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Sin parientes diabéticos en 1er grad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No historia de tolerancia anormal a la glucos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No historia de malos resultados obstétric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Detección, indicad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Riesgo medio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Las que no queden dentro de las categorías de alto o bajo riesg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7d47d"/>
                </a:solidFill>
                <a:latin typeface="Arial"/>
              </a:rPr>
              <a:t>Detección de diabetes gestaciona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Prueba de carga con 50 gr de glucosa (O’Sullivan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Resultado a la hora: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&lt; 130 mg/d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Sospechosa: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130 a 199 mg/d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Concluyente: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200 mg/d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Se realiza de las 24 a 28 semanas y se puede repetir a las 32-3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Defini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Enfermedad crónica que se caracteri- za por una alteración en el metabolis- mo de las proteínas, grasas y carboh</a:t>
            </a:r>
            <a:r>
              <a:rPr b="0" lang="es-ES_tradnl" sz="3200" spc="-1" strike="noStrike" u="sng">
                <a:solidFill>
                  <a:srgbClr val="2f1311"/>
                </a:solidFill>
                <a:uFillTx/>
                <a:latin typeface="Arial"/>
              </a:rPr>
              <a:t>i</a:t>
            </a: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 dratos, que se manifiesta principal- mente como hiperglucemia, aunque puede coexistir con hipercolesterole- mia e hipertrigliceridemi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Diagnóstic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Curva de tolerancia oral a la glucosa con 100 y 75 g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                   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100 gr (3 hs)     75 gr (2 h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Ayuno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95 mg/dL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     95 mg/d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1 hora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       180     “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   180     “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2 horas       155     “            155     “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3 horas       140     “  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Dos valores iguales o mayores, diabet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Diagnóstic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Otros criterio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Glucemia en ayuno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140 mg/d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Glucemia postprandial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200 mg/d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Glucemia en ayuno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126 mg/dL en dos ocasion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7d47d"/>
                </a:solidFill>
                <a:latin typeface="Arial"/>
              </a:rPr>
              <a:t>Manejo (vigilancia de la glucosa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Control metabólico adecuado; esto se logra con glucemias de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Ayuno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60 a 90 mg/d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1 hora posprandial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&lt; 140       “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2 horas posprandial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&lt; 120       “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Nocturno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60 a 120   “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Dieta adecuad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Ejercici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Insuli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Se debe evitar la hipoglucemia y la cetoacidosis para lo cual hay que mantener en equilibrio la dieta, ejercicio, la insulina y el estado de estré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Están contraindicados los hipoglucemiantes oral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Valoración del bienestar fetal mediante monitoreo clínico y paraclínic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Valoración de la madurez pulmonar feta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Momento del parto: depende del bienestar y madurez feta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Método del part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Inducción: feto no grande y condiciones para ést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Cesárea: por macrosomía fetal o por otras indicacion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Vigilancia feta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Indicacione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Glucemia con mal contro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Terapia con insuli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Evento obstétrico advers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Historia de desorden hipertensiv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 (terapia nutricional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Tratamiento genera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Aumento de peso: </a:t>
            </a:r>
            <a:r>
              <a:rPr b="0" lang="es-ES_tradnl" sz="2400" spc="-1" strike="noStrike">
                <a:solidFill>
                  <a:srgbClr val="2f1311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 10 a 12 kg en 2º y 3</a:t>
            </a:r>
            <a:r>
              <a:rPr b="0" lang="es-ES_tradnl" sz="2400" spc="-1" strike="noStrike" baseline="30000">
                <a:solidFill>
                  <a:srgbClr val="2f1311"/>
                </a:solidFill>
                <a:latin typeface="Arial"/>
              </a:rPr>
              <a:t>er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 trimestres (350 a 400 gr/semana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Peso ideal &lt; 80%: 35 a 40 Kcal/kg/día (13 a 18 kg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Peso ideal 80 a 120%: 30 Kcal/kg/día (11 a 16 kg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Peso ideal 120 a 150%: 25 Kcal/kg/día (7 a 11 kg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Peso ideal &gt; 150%: 12 a 15 Kcal/kg/día (</a:t>
            </a:r>
            <a:r>
              <a:rPr b="0" lang="es-ES_tradnl" sz="2400" spc="-1" strike="noStrike">
                <a:solidFill>
                  <a:srgbClr val="2f1311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 7 kg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 (terapia nutricional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Dieta, el total de Kilocalorías/día dividir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No requiere insulina, en terci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Requiere insulina, en quintos (D: 1/5, C: 2/5, Cena: 2/5; o bien, en cuartos: D: ¼, Comida: 2/4, Cena: 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Si desarrolla hipoglucemia, se indican refrigerios, 1 a 3, principalmente nocturnos. Equivalen al 25 a 39% de las Kcal totales. Se deben sustraer de la comida que les preced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Dieta euglucémica para D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1197000"/>
            <a:ext cx="748836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Cálculo de dieta para mujeres con PI norma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Fracción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% de la ració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(Kcal/24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diaria d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Hora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Comida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horas)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carbohidrato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8:00 am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Desayuno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2/18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1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10:30 am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Colación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1/18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  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12:00 medio día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Almuerzo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5/18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3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3:00 pm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Colación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2/18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1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5:00 pm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Cena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5/18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3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8:00 pm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Colación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2/18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1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11:00 pm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Colación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1/18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  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1628640"/>
            <a:ext cx="7417080" cy="0"/>
          </a:xfrm>
          <a:prstGeom prst="line">
            <a:avLst/>
          </a:prstGeom>
          <a:ln w="284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9280" y="2637000"/>
            <a:ext cx="7417080" cy="0"/>
          </a:xfrm>
          <a:prstGeom prst="line">
            <a:avLst/>
          </a:prstGeom>
          <a:ln w="284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4869000"/>
            <a:ext cx="7417080" cy="0"/>
          </a:xfrm>
          <a:prstGeom prst="line">
            <a:avLst/>
          </a:prstGeom>
          <a:ln w="28440">
            <a:solidFill>
              <a:srgbClr val="f7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 (Insulina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Insulina: acción intermedia y rápida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Inicio: 5 a 10 U de INPH, o bien: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- Mujer delgada: 0.1 a 0.3 U/kg de PI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- Mujer obesa:    0.4 a 0.6 U/kg de P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Régimen: de la dosis total, 2/3 por la mañana y 1/3 por la tard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2/3 de la dosis en INPH y 1/3 de simp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Defini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Se encuentra asociada a una deficie</a:t>
            </a:r>
            <a:r>
              <a:rPr b="0" lang="es-ES_tradnl" sz="3200" spc="-1" strike="noStrike" u="sng">
                <a:solidFill>
                  <a:srgbClr val="2f1311"/>
                </a:solidFill>
                <a:uFillTx/>
                <a:latin typeface="Arial"/>
              </a:rPr>
              <a:t>n</a:t>
            </a: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 cia absoluta o relativa en la secreción de insulina con grados variables de resistencia a ést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68360" y="1479600"/>
            <a:ext cx="68403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 de la Insul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1341360"/>
            <a:ext cx="74883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Cálculo inicial con 4 inyecciones al dí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Fracción de la dosis tota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de insuli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Hora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NPH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     Regul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Antes del desayuno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5/18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2/9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Antes del almuerzo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1/6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Antes de la cena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1/6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Al acostarse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1/6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Insulina total = 0.7 unidades multiplicadas por el peso actual en kg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durante el embarazo en las semanas 1 a 18; 0.8 unidades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multiplicada por el peso actual en kg de la embarazada en l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semanas 19 a 26; 0.9 unidades multiplicadas por el peso actual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de la embarazada en kg durante las semanas 27 a 36; 1.0 unida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des por kg de peso de la embarazada en las semanas 36 a 40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1773360"/>
            <a:ext cx="7417080" cy="0"/>
          </a:xfrm>
          <a:prstGeom prst="line">
            <a:avLst/>
          </a:prstGeom>
          <a:ln w="28440">
            <a:solidFill>
              <a:srgbClr val="f7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9280" y="2852640"/>
            <a:ext cx="7417080" cy="0"/>
          </a:xfrm>
          <a:prstGeom prst="line">
            <a:avLst/>
          </a:prstGeom>
          <a:ln w="28440">
            <a:solidFill>
              <a:srgbClr val="f7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51280" y="2421000"/>
            <a:ext cx="3745080" cy="0"/>
          </a:xfrm>
          <a:prstGeom prst="line">
            <a:avLst/>
          </a:prstGeom>
          <a:ln w="1908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4149720"/>
            <a:ext cx="7417080" cy="0"/>
          </a:xfrm>
          <a:prstGeom prst="line">
            <a:avLst/>
          </a:prstGeom>
          <a:ln w="28440">
            <a:solidFill>
              <a:srgbClr val="f0b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Ejercici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Preferentemente utilización de los músculos largos o grand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3 a 5 veces a la sema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30 a 45 minutos diario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Debe ser moderado, no intens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187280" y="1171440"/>
            <a:ext cx="568980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322360" y="1125360"/>
            <a:ext cx="32846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214720" y="1125360"/>
            <a:ext cx="3547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1197000"/>
            <a:ext cx="7345440" cy="53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                                 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Diabetes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         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gestacional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                 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No                                     Si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Inicio dieta                   Glucosa plasmá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y ejercicio                    tica en ayuno por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                               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CTGO &gt; 95                                                                                                        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Vigila la cifra d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glucosa sanguínea         GSA &gt; 95, 2 PP &gt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7 veces al día              120 GS o ambas,      Iniciación d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                           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2 veces a la se-            Insulina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a cualquier edad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GSA &lt; 95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No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    .7 U/kg, 3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2 h PP &lt; 120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 inyecciones/día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GS media &lt; 96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   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Continuar la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2/3 de la dosis am      am, proporción 1:2      pm: proporción 1:1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dietoterapia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1/3 de la dosis am      simple:intermedia         simple:intermedia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                                                                  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cena al acostars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Vigilar la concentración d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glucosa sanguínea 7 veces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al día, antes y después d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     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las comidas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Administración de Insulina en la Diabetes Gestacional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56000" y="1628640"/>
            <a:ext cx="0" cy="287640"/>
          </a:xfrm>
          <a:prstGeom prst="line">
            <a:avLst/>
          </a:prstGeom>
          <a:ln w="19080">
            <a:solidFill>
              <a:srgbClr val="79af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186920" y="2060640"/>
            <a:ext cx="792360" cy="0"/>
          </a:xfrm>
          <a:prstGeom prst="line">
            <a:avLst/>
          </a:prstGeom>
          <a:ln w="19080">
            <a:solidFill>
              <a:srgbClr val="f7d4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3640" y="2060640"/>
            <a:ext cx="720720" cy="0"/>
          </a:xfrm>
          <a:prstGeom prst="line">
            <a:avLst/>
          </a:prstGeom>
          <a:ln w="19080">
            <a:solidFill>
              <a:srgbClr val="f7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24360" y="2060640"/>
            <a:ext cx="0" cy="792000"/>
          </a:xfrm>
          <a:prstGeom prst="line">
            <a:avLst/>
          </a:prstGeom>
          <a:ln w="19080">
            <a:solidFill>
              <a:srgbClr val="f7d4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6920" y="2276640"/>
            <a:ext cx="0" cy="215640"/>
          </a:xfrm>
          <a:prstGeom prst="line">
            <a:avLst/>
          </a:prstGeom>
          <a:ln w="19080">
            <a:solidFill>
              <a:srgbClr val="f7d4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6920" y="3068640"/>
            <a:ext cx="0" cy="43164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03640" y="3068640"/>
            <a:ext cx="360360" cy="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24360" y="3284640"/>
            <a:ext cx="0" cy="21564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332000" y="3860640"/>
            <a:ext cx="1584360" cy="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916360" y="3284640"/>
            <a:ext cx="647640" cy="57600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26920" y="407664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24360" y="3860640"/>
            <a:ext cx="0" cy="43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00720" y="4508640"/>
            <a:ext cx="28728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40360" y="4508640"/>
            <a:ext cx="36036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51640" y="4653000"/>
            <a:ext cx="0" cy="431640"/>
          </a:xfrm>
          <a:prstGeom prst="line">
            <a:avLst/>
          </a:prstGeom>
          <a:ln w="1908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16720" y="4869000"/>
            <a:ext cx="0" cy="215640"/>
          </a:xfrm>
          <a:prstGeom prst="line">
            <a:avLst/>
          </a:prstGeom>
          <a:ln w="1908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79280" y="4508640"/>
            <a:ext cx="144720" cy="0"/>
          </a:xfrm>
          <a:prstGeom prst="line">
            <a:avLst/>
          </a:prstGeom>
          <a:ln w="1908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450864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79280" y="2636640"/>
            <a:ext cx="0" cy="1871640"/>
          </a:xfrm>
          <a:prstGeom prst="line">
            <a:avLst/>
          </a:prstGeom>
          <a:ln w="1908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9280" y="2637000"/>
            <a:ext cx="144720" cy="0"/>
          </a:xfrm>
          <a:prstGeom prst="line">
            <a:avLst/>
          </a:prstGeom>
          <a:ln w="1908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 electivo o expectant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341360"/>
            <a:ext cx="74167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38 seman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Valoración                     No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S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maternofetal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42 semanas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USG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         o má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GEG/macrosomí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mal control de la glucemia       No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Tratamient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vasculopatía/hipertensión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expectan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antecedente de óbit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Incumplimient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           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Téngase en mente la inte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rrupción del embarazo*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Nacimient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47640" y="1628640"/>
            <a:ext cx="0" cy="43200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47640" y="285264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47640" y="4724280"/>
            <a:ext cx="0" cy="10098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268360" y="2637000"/>
            <a:ext cx="2664000" cy="0"/>
          </a:xfrm>
          <a:prstGeom prst="line">
            <a:avLst/>
          </a:prstGeom>
          <a:ln w="28440">
            <a:solidFill>
              <a:srgbClr val="79af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580000" y="2852640"/>
            <a:ext cx="0" cy="72072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59280" y="3860640"/>
            <a:ext cx="18730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84720" y="2637000"/>
            <a:ext cx="792360" cy="0"/>
          </a:xfrm>
          <a:prstGeom prst="line">
            <a:avLst/>
          </a:prstGeom>
          <a:ln w="28440">
            <a:solidFill>
              <a:srgbClr val="f7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77080" y="2637000"/>
            <a:ext cx="0" cy="3456000"/>
          </a:xfrm>
          <a:prstGeom prst="line">
            <a:avLst/>
          </a:prstGeom>
          <a:ln w="28440">
            <a:solidFill>
              <a:srgbClr val="f7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156360" y="6093000"/>
            <a:ext cx="720720" cy="0"/>
          </a:xfrm>
          <a:prstGeom prst="line">
            <a:avLst/>
          </a:prstGeom>
          <a:ln w="28440">
            <a:solidFill>
              <a:srgbClr val="f7d4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7d47d"/>
                </a:solidFill>
                <a:latin typeface="Arial"/>
              </a:rPr>
              <a:t>*Téngase en mente interrupción del embaraz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9280" y="1484280"/>
            <a:ext cx="7488360" cy="51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Amniocentesi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Revalorar 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la sema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PG  +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Insulina &gt; 15 </a:t>
            </a:r>
            <a:r>
              <a:rPr b="0" lang="el-GR" sz="1600" spc="-1" strike="noStrike">
                <a:solidFill>
                  <a:srgbClr val="2f1311"/>
                </a:solidFill>
                <a:latin typeface="Arial"/>
                <a:ea typeface="Arial"/>
              </a:rPr>
              <a:t>μ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  <a:ea typeface="Arial"/>
              </a:rPr>
              <a:t>U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  <a:ea typeface="Arial"/>
              </a:rPr>
              <a:t>      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  <a:ea typeface="Arial"/>
              </a:rPr>
              <a:t>PG </a:t>
            </a:r>
            <a:r>
              <a:rPr b="0" lang="es-ES_tradnl" sz="1600" spc="-1" strike="noStrike">
                <a:solidFill>
                  <a:srgbClr val="2f1311"/>
                </a:solidFill>
                <a:latin typeface="Times New Roman"/>
                <a:ea typeface="Arial"/>
              </a:rPr>
              <a:t>─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Times New Roman"/>
                <a:ea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imes New Roman"/>
                <a:ea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imes New Roman"/>
                <a:ea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imes New Roman"/>
                <a:ea typeface="Arial"/>
              </a:rPr>
              <a:t>             </a:t>
            </a:r>
            <a:r>
              <a:rPr b="0" lang="es-ES_tradnl" sz="1600" spc="-1" strike="noStrike">
                <a:solidFill>
                  <a:srgbClr val="2f1311"/>
                </a:solidFill>
                <a:latin typeface="Times New Roman"/>
                <a:ea typeface="Arial"/>
              </a:rPr>
              <a:t>PG +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Times New Roman"/>
                <a:ea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Arial"/>
              </a:rPr>
              <a:t>                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Arial"/>
              </a:rPr>
              <a:t>Insulina &lt; 15 </a:t>
            </a:r>
            <a:r>
              <a:rPr b="0" lang="el-GR" sz="1600" spc="-1" strike="noStrike">
                <a:solidFill>
                  <a:srgbClr val="2f1311"/>
                </a:solidFill>
                <a:latin typeface="Tahoma"/>
                <a:ea typeface="Tahoma"/>
              </a:rPr>
              <a:t>μ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U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Revalorar en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       Determinar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una semana                                  peso fetal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AEG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     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Macrosomí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          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Nacimien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2f1311"/>
                </a:solidFill>
                <a:latin typeface="Tahoma"/>
                <a:ea typeface="Tahoma"/>
              </a:rPr>
              <a:t>Se hará una valoración final mediante pruebas pulmonares y cuantificación de Insulina en líquido amniótico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43280" y="1773360"/>
            <a:ext cx="1368720" cy="792000"/>
          </a:xfrm>
          <a:prstGeom prst="line">
            <a:avLst/>
          </a:prstGeom>
          <a:ln w="28440">
            <a:solidFill>
              <a:srgbClr val="f7d4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24360" y="1773360"/>
            <a:ext cx="0" cy="1942920"/>
          </a:xfrm>
          <a:prstGeom prst="line">
            <a:avLst/>
          </a:prstGeom>
          <a:ln w="28440">
            <a:solidFill>
              <a:srgbClr val="f7d4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30560" y="1700280"/>
            <a:ext cx="1440" cy="0"/>
          </a:xfrm>
          <a:prstGeom prst="line">
            <a:avLst/>
          </a:prstGeom>
          <a:ln w="28440">
            <a:solidFill>
              <a:srgbClr val="f7d4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700360" y="1773360"/>
            <a:ext cx="503280" cy="1368360"/>
          </a:xfrm>
          <a:prstGeom prst="line">
            <a:avLst/>
          </a:prstGeom>
          <a:ln w="28440">
            <a:solidFill>
              <a:srgbClr val="f7d4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1763280" y="3284640"/>
            <a:ext cx="64764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763640" y="2565360"/>
            <a:ext cx="0" cy="719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763640" y="2565360"/>
            <a:ext cx="0" cy="57456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763640" y="3141360"/>
            <a:ext cx="0" cy="14292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763640" y="1699920"/>
            <a:ext cx="0" cy="360360"/>
          </a:xfrm>
          <a:prstGeom prst="line">
            <a:avLst/>
          </a:prstGeom>
          <a:ln w="28440">
            <a:solidFill>
              <a:srgbClr val="f7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63640" y="1700280"/>
            <a:ext cx="1295640" cy="0"/>
          </a:xfrm>
          <a:prstGeom prst="line">
            <a:avLst/>
          </a:prstGeom>
          <a:ln w="28440">
            <a:solidFill>
              <a:srgbClr val="f7d4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68360" y="717408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24360" y="4221000"/>
            <a:ext cx="0" cy="28764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402920" y="4797360"/>
            <a:ext cx="2016360" cy="0"/>
          </a:xfrm>
          <a:prstGeom prst="line">
            <a:avLst/>
          </a:prstGeom>
          <a:ln w="28440">
            <a:solidFill>
              <a:srgbClr val="79af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24360" y="5013360"/>
            <a:ext cx="0" cy="1224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24360" y="6237360"/>
            <a:ext cx="1439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40360" y="3141720"/>
            <a:ext cx="0" cy="295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Neonato de diabétic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2079720" y="1557360"/>
            <a:ext cx="4189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Clasifica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Tipo 1 (DM1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Tipo 2 (DM 2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Otros tipos específicos de diabet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Gestaciona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Clases de riesgo estadístic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Alteración de la glucosa en ayunas (AGA)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 110 pero &lt; 126 mg/d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Intolerancia a la glucosa (IG)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Glucemia a 2  hs postcarga: </a:t>
            </a:r>
            <a:r>
              <a:rPr b="0" lang="es-ES_tradnl" sz="24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 140 mg pero &lt; 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200 mg/d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Pronóstico matern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DMG, desarrolla Diabetes de tipo 2 de un 2.6 a 70% en un rango de tiempo de 6 semanas a 28 año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RR: 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Clasificación de Whit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1268280"/>
            <a:ext cx="734544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Edad de inicio        Duración               Enfermedad        Requiere de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Clase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(años)                (años)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vascular              Insulin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Diabetes gestacional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A1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  0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0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(Glucemia: en ayuno: </a:t>
            </a:r>
            <a:r>
              <a:rPr b="0" lang="es-ES_tradnl" sz="1400" spc="-1" strike="noStrike">
                <a:solidFill>
                  <a:srgbClr val="2f1311"/>
                </a:solidFill>
                <a:latin typeface="Symbol"/>
                <a:ea typeface="Symbol"/>
              </a:rPr>
              <a:t>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105 mg/dL. PP (2 hs): </a:t>
            </a:r>
            <a:r>
              <a:rPr b="0" lang="es-ES_tradnl" sz="1400" spc="-1" strike="noStrike">
                <a:solidFill>
                  <a:srgbClr val="2f1311"/>
                </a:solidFill>
                <a:latin typeface="Symbol"/>
                <a:ea typeface="Symbol"/>
              </a:rPr>
              <a:t>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120 mg/dL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A 2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  0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+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(Glucemia: en ayuno: &gt; 105 mg/dL. PP (2 hs): &gt; 120 mg/dl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Diabetes pregestacional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B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&gt; 20 años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&lt; 10 años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  0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+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C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10 a 19 años         10 a 19 años 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  0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+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D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&lt; 10 años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&gt; 20 años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Retinopatía benig-           +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na o hipertensión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F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Nefropatí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+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R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Retinopatía prolif.            +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Embarazo con trans-       +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plante renal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H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Cardiopatía isquémica    +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1125360"/>
            <a:ext cx="7417080" cy="0"/>
          </a:xfrm>
          <a:prstGeom prst="line">
            <a:avLst/>
          </a:prstGeom>
          <a:ln w="28440">
            <a:solidFill>
              <a:srgbClr val="f0b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1844640"/>
            <a:ext cx="7417080" cy="0"/>
          </a:xfrm>
          <a:prstGeom prst="line">
            <a:avLst/>
          </a:prstGeom>
          <a:ln w="28440">
            <a:solidFill>
              <a:srgbClr val="f0b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5661000"/>
            <a:ext cx="7417080" cy="0"/>
          </a:xfrm>
          <a:prstGeom prst="line">
            <a:avLst/>
          </a:prstGeom>
          <a:ln w="284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Frecuencia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Prevalencia en Méxic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Tipo 2: 0.0 a 9.8%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Gestacional: 0.15 a 12.3%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Frecuencia según IMC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1906560"/>
            <a:ext cx="748836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Factores de Riesg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Modificabl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Sobrepes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Obesidad (&gt;20% PI en grasa corporal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Sedentarism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Tabaquism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Manejo inadecuado del estré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Hábitos inadecuados de alimentació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Estilo de vida contrario a la salu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IMC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de 27 en H;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26 en 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Factores de riesg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Modificabl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Indice cintura cadera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.9 en H;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.8 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TA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140/90. Preeclampsia-eclamps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Triglicéridos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250 mg/d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HDL de colesterol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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35 mg/d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01:39:41Z</dcterms:created>
  <dc:creator>XP</dc:creator>
  <dc:description/>
  <dc:language>en-US</dc:language>
  <cp:lastModifiedBy>XP</cp:lastModifiedBy>
  <dcterms:modified xsi:type="dcterms:W3CDTF">2007-12-04T20:57:25Z</dcterms:modified>
  <cp:revision>14</cp:revision>
  <dc:subject/>
  <dc:title>Complicaciones médicas en el embarazo</dc:title>
</cp:coreProperties>
</file>