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8AA71-8DD2-4EA0-8092-9DF93B3B8A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6869A-36EF-426C-B25C-62611F9D0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D2A9A-977F-4AF6-832F-02001F20D3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FFA4-68DC-4F08-8FDD-748BA55C1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E7DB0-4613-43BC-BE6C-50284AD5F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49867-B696-4C0C-9C0D-DF02D8590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5C1F1B-085B-4D93-AB36-2212B27BD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C338D-589E-49E7-8B9D-88849B98CD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42A1E-E8FB-4523-BEBD-935234511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1AC41-3A44-434D-88DC-2DE3BAF71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B18CB0-FED9-41DB-A141-6FFEC3256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F0CAF-C89C-4601-BA1F-63A0EEBCF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91C96-349E-46EC-972B-D71F330954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1EB80-499B-49F5-B0FA-04BB02DBEC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F4D56-708F-4C2F-B011-CA6238402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90D5C-1516-459B-B44B-0299BCF7A4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276084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5258520" y="1598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263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276084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5258520" y="3947760"/>
            <a:ext cx="237816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176F36-7629-4AFE-9D28-276DC7C29C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1808A-BABC-48B7-BAD1-2B1EC2766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28A85-4561-4878-9094-A45C813E4C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4E96F-EED0-4D16-9F88-63362F9CD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218880" y="226800"/>
            <a:ext cx="74768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2B53F-FB9D-4F68-8C9C-82D603E2B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CE9EC-63B0-46D5-85C8-6DCD87FA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048560" y="3947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CCC2-C444-4711-89FA-2018748B9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048560" y="1598760"/>
            <a:ext cx="360432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263520" y="3947760"/>
            <a:ext cx="738648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09DD-9A7C-4706-B3CA-E0C97D66C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image" Target="../media/image3.png"/><Relationship Id="rId32" Type="http://schemas.openxmlformats.org/officeDocument/2006/relationships/image" Target="../media/image4.png"/><Relationship Id="rId33" Type="http://schemas.openxmlformats.org/officeDocument/2006/relationships/image" Target="../media/image5.png"/><Relationship Id="rId34" Type="http://schemas.openxmlformats.org/officeDocument/2006/relationships/slideLayout" Target="../slideLayouts/slideLayout1.xml"/><Relationship Id="rId35" Type="http://schemas.openxmlformats.org/officeDocument/2006/relationships/slideLayout" Target="../slideLayouts/slideLayout2.xml"/><Relationship Id="rId36" Type="http://schemas.openxmlformats.org/officeDocument/2006/relationships/slideLayout" Target="../slideLayouts/slideLayout3.xml"/><Relationship Id="rId37" Type="http://schemas.openxmlformats.org/officeDocument/2006/relationships/slideLayout" Target="../slideLayouts/slideLayout4.xml"/><Relationship Id="rId38" Type="http://schemas.openxmlformats.org/officeDocument/2006/relationships/slideLayout" Target="../slideLayouts/slideLayout5.xml"/><Relationship Id="rId39" Type="http://schemas.openxmlformats.org/officeDocument/2006/relationships/slideLayout" Target="../slideLayouts/slideLayout6.xml"/><Relationship Id="rId40" Type="http://schemas.openxmlformats.org/officeDocument/2006/relationships/slideLayout" Target="../slideLayouts/slideLayout7.xml"/><Relationship Id="rId41" Type="http://schemas.openxmlformats.org/officeDocument/2006/relationships/slideLayout" Target="../slideLayouts/slideLayout8.xml"/><Relationship Id="rId42" Type="http://schemas.openxmlformats.org/officeDocument/2006/relationships/slideLayout" Target="../slideLayouts/slideLayout9.xml"/><Relationship Id="rId43" Type="http://schemas.openxmlformats.org/officeDocument/2006/relationships/slideLayout" Target="../slideLayouts/slideLayout10.xml"/><Relationship Id="rId44" Type="http://schemas.openxmlformats.org/officeDocument/2006/relationships/slideLayout" Target="../slideLayouts/slideLayout11.xml"/><Relationship Id="rId4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image" Target="../media/image1.wmf"/><Relationship Id="rId5" Type="http://schemas.openxmlformats.org/officeDocument/2006/relationships/image" Target="../media/image1.wmf"/><Relationship Id="rId6" Type="http://schemas.openxmlformats.org/officeDocument/2006/relationships/image" Target="../media/image1.wmf"/><Relationship Id="rId7" Type="http://schemas.openxmlformats.org/officeDocument/2006/relationships/image" Target="../media/image1.wmf"/><Relationship Id="rId8" Type="http://schemas.openxmlformats.org/officeDocument/2006/relationships/image" Target="../media/image1.wmf"/><Relationship Id="rId9" Type="http://schemas.openxmlformats.org/officeDocument/2006/relationships/image" Target="../media/image1.wmf"/><Relationship Id="rId10" Type="http://schemas.openxmlformats.org/officeDocument/2006/relationships/image" Target="../media/image1.wmf"/><Relationship Id="rId11" Type="http://schemas.openxmlformats.org/officeDocument/2006/relationships/image" Target="../media/image1.wmf"/><Relationship Id="rId12" Type="http://schemas.openxmlformats.org/officeDocument/2006/relationships/image" Target="../media/image1.wmf"/><Relationship Id="rId13" Type="http://schemas.openxmlformats.org/officeDocument/2006/relationships/image" Target="../media/image1.wmf"/><Relationship Id="rId14" Type="http://schemas.openxmlformats.org/officeDocument/2006/relationships/image" Target="../media/image1.wmf"/><Relationship Id="rId15" Type="http://schemas.openxmlformats.org/officeDocument/2006/relationships/image" Target="../media/image1.wmf"/><Relationship Id="rId16" Type="http://schemas.openxmlformats.org/officeDocument/2006/relationships/image" Target="../media/image1.wmf"/><Relationship Id="rId17" Type="http://schemas.openxmlformats.org/officeDocument/2006/relationships/image" Target="../media/image1.wmf"/><Relationship Id="rId18" Type="http://schemas.openxmlformats.org/officeDocument/2006/relationships/image" Target="../media/image1.wmf"/><Relationship Id="rId19" Type="http://schemas.openxmlformats.org/officeDocument/2006/relationships/image" Target="../media/image1.wmf"/><Relationship Id="rId20" Type="http://schemas.openxmlformats.org/officeDocument/2006/relationships/image" Target="../media/image1.wmf"/><Relationship Id="rId21" Type="http://schemas.openxmlformats.org/officeDocument/2006/relationships/image" Target="../media/image1.wmf"/><Relationship Id="rId22" Type="http://schemas.openxmlformats.org/officeDocument/2006/relationships/image" Target="../media/image1.wmf"/><Relationship Id="rId23" Type="http://schemas.openxmlformats.org/officeDocument/2006/relationships/image" Target="../media/image1.wmf"/><Relationship Id="rId24" Type="http://schemas.openxmlformats.org/officeDocument/2006/relationships/image" Target="../media/image1.wmf"/><Relationship Id="rId25" Type="http://schemas.openxmlformats.org/officeDocument/2006/relationships/image" Target="../media/image1.wmf"/><Relationship Id="rId26" Type="http://schemas.openxmlformats.org/officeDocument/2006/relationships/image" Target="../media/image1.wmf"/><Relationship Id="rId27" Type="http://schemas.openxmlformats.org/officeDocument/2006/relationships/image" Target="../media/image1.wmf"/><Relationship Id="rId28" Type="http://schemas.openxmlformats.org/officeDocument/2006/relationships/image" Target="../media/image1.wmf"/><Relationship Id="rId29" Type="http://schemas.openxmlformats.org/officeDocument/2006/relationships/image" Target="../media/image2.png"/><Relationship Id="rId30" Type="http://schemas.openxmlformats.org/officeDocument/2006/relationships/image" Target="../media/image2.png"/><Relationship Id="rId31" Type="http://schemas.openxmlformats.org/officeDocument/2006/relationships/slideLayout" Target="../slideLayouts/slideLayout13.xml"/><Relationship Id="rId32" Type="http://schemas.openxmlformats.org/officeDocument/2006/relationships/slideLayout" Target="../slideLayouts/slideLayout14.xml"/><Relationship Id="rId33" Type="http://schemas.openxmlformats.org/officeDocument/2006/relationships/slideLayout" Target="../slideLayouts/slideLayout15.xml"/><Relationship Id="rId34" Type="http://schemas.openxmlformats.org/officeDocument/2006/relationships/slideLayout" Target="../slideLayouts/slideLayout16.xml"/><Relationship Id="rId35" Type="http://schemas.openxmlformats.org/officeDocument/2006/relationships/slideLayout" Target="../slideLayouts/slideLayout17.xml"/><Relationship Id="rId36" Type="http://schemas.openxmlformats.org/officeDocument/2006/relationships/slideLayout" Target="../slideLayouts/slideLayout18.xml"/><Relationship Id="rId37" Type="http://schemas.openxmlformats.org/officeDocument/2006/relationships/slideLayout" Target="../slideLayouts/slideLayout19.xml"/><Relationship Id="rId38" Type="http://schemas.openxmlformats.org/officeDocument/2006/relationships/slideLayout" Target="../slideLayouts/slideLayout20.xml"/><Relationship Id="rId39" Type="http://schemas.openxmlformats.org/officeDocument/2006/relationships/slideLayout" Target="../slideLayouts/slideLayout21.xml"/><Relationship Id="rId40" Type="http://schemas.openxmlformats.org/officeDocument/2006/relationships/slideLayout" Target="../slideLayouts/slideLayout22.xml"/><Relationship Id="rId41" Type="http://schemas.openxmlformats.org/officeDocument/2006/relationships/slideLayout" Target="../slideLayouts/slideLayout23.xml"/><Relationship Id="rId42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1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4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5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6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7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8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6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7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8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9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0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1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2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3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24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25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6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7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8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29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0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1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2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3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4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5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6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7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8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39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0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1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2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43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44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3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SzPct val="100000"/>
              <a:buBlip>
                <a:blip r:embed="rId3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f1311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dt" idx="1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ftr" idx="2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sldNum" idx="3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86E40-7281-4527-AEFE-0DC1215F4C8C}" type="slidenum"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4"/>
    <p:sldLayoutId id="2147483650" r:id="rId35"/>
    <p:sldLayoutId id="2147483651" r:id="rId36"/>
    <p:sldLayoutId id="2147483652" r:id="rId37"/>
    <p:sldLayoutId id="2147483653" r:id="rId38"/>
    <p:sldLayoutId id="2147483654" r:id="rId39"/>
    <p:sldLayoutId id="2147483655" r:id="rId40"/>
    <p:sldLayoutId id="2147483656" r:id="rId41"/>
    <p:sldLayoutId id="2147483657" r:id="rId42"/>
    <p:sldLayoutId id="2147483658" r:id="rId43"/>
    <p:sldLayoutId id="2147483659" r:id="rId44"/>
    <p:sldLayoutId id="2147483660" r:id="rId4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0" y="0"/>
            <a:ext cx="9159840" cy="6870600"/>
            <a:chOff x="0" y="0"/>
            <a:chExt cx="9159840" cy="6870600"/>
          </a:xfrm>
        </p:grpSpPr>
        <p:sp>
          <p:nvSpPr>
            <p:cNvPr id="97" name=""/>
            <p:cNvSpPr/>
            <p:nvPr/>
          </p:nvSpPr>
          <p:spPr>
            <a:xfrm>
              <a:off x="0" y="6645240"/>
              <a:ext cx="8078760" cy="225360"/>
            </a:xfrm>
            <a:prstGeom prst="rect">
              <a:avLst/>
            </a:prstGeom>
            <a:gradFill rotWithShape="0">
              <a:gsLst>
                <a:gs pos="0">
                  <a:srgbClr val="c16059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0"/>
              <a:ext cx="8078760" cy="2001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953480" y="0"/>
              <a:ext cx="1203120" cy="6858000"/>
            </a:xfrm>
            <a:prstGeom prst="rect">
              <a:avLst/>
            </a:prstGeom>
            <a:gradFill rotWithShape="0">
              <a:gsLst>
                <a:gs pos="0">
                  <a:srgbClr val="b39a6c"/>
                </a:gs>
                <a:gs pos="50000">
                  <a:srgbClr val="d5b781"/>
                </a:gs>
                <a:gs pos="100000">
                  <a:srgbClr val="b39a6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7848720" y="1440"/>
              <a:ext cx="1295280" cy="6309000"/>
              <a:chOff x="7848720" y="1440"/>
              <a:chExt cx="1295280" cy="6309000"/>
            </a:xfrm>
          </p:grpSpPr>
          <p:grpSp>
            <p:nvGrpSpPr>
              <p:cNvPr id="101" name=""/>
              <p:cNvGrpSpPr/>
              <p:nvPr/>
            </p:nvGrpSpPr>
            <p:grpSpPr>
              <a:xfrm>
                <a:off x="8381880" y="1440"/>
                <a:ext cx="762120" cy="2270160"/>
                <a:chOff x="8381880" y="1440"/>
                <a:chExt cx="762120" cy="2270160"/>
              </a:xfrm>
            </p:grpSpPr>
            <p:grpSp>
              <p:nvGrpSpPr>
                <p:cNvPr id="102" name=""/>
                <p:cNvGrpSpPr/>
                <p:nvPr/>
              </p:nvGrpSpPr>
              <p:grpSpPr>
                <a:xfrm>
                  <a:off x="8704440" y="1440"/>
                  <a:ext cx="279360" cy="276480"/>
                  <a:chOff x="8704440" y="1440"/>
                  <a:chExt cx="279360" cy="276480"/>
                </a:xfrm>
              </p:grpSpPr>
              <p:grpSp>
                <p:nvGrpSpPr>
                  <p:cNvPr id="103" name=""/>
                  <p:cNvGrpSpPr/>
                  <p:nvPr/>
                </p:nvGrpSpPr>
                <p:grpSpPr>
                  <a:xfrm>
                    <a:off x="8704440" y="1440"/>
                    <a:ext cx="279360" cy="276480"/>
                    <a:chOff x="8704440" y="1440"/>
                    <a:chExt cx="279360" cy="276480"/>
                  </a:xfrm>
                </p:grpSpPr>
                <p:sp>
                  <p:nvSpPr>
                    <p:cNvPr id="104" name=""/>
                    <p:cNvSpPr/>
                    <p:nvPr/>
                  </p:nvSpPr>
                  <p:spPr>
                    <a:xfrm rot="16200000">
                      <a:off x="8743320" y="-37440"/>
                      <a:ext cx="201240" cy="279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31" h="2560">
                          <a:moveTo>
                            <a:pt x="307" y="367"/>
                          </a:moveTo>
                          <a:cubicBezTo>
                            <a:pt x="317" y="336"/>
                            <a:pt x="326" y="303"/>
                            <a:pt x="337" y="283"/>
                          </a:cubicBezTo>
                          <a:cubicBezTo>
                            <a:pt x="348" y="263"/>
                            <a:pt x="360" y="275"/>
                            <a:pt x="373" y="247"/>
                          </a:cubicBezTo>
                          <a:cubicBezTo>
                            <a:pt x="386" y="219"/>
                            <a:pt x="400" y="147"/>
                            <a:pt x="415" y="115"/>
                          </a:cubicBezTo>
                          <a:cubicBezTo>
                            <a:pt x="430" y="83"/>
                            <a:pt x="435" y="73"/>
                            <a:pt x="463" y="55"/>
                          </a:cubicBezTo>
                          <a:cubicBezTo>
                            <a:pt x="491" y="37"/>
                            <a:pt x="536" y="14"/>
                            <a:pt x="583" y="7"/>
                          </a:cubicBezTo>
                          <a:cubicBezTo>
                            <a:pt x="630" y="0"/>
                            <a:pt x="693" y="4"/>
                            <a:pt x="745" y="13"/>
                          </a:cubicBezTo>
                          <a:cubicBezTo>
                            <a:pt x="797" y="22"/>
                            <a:pt x="852" y="34"/>
                            <a:pt x="895" y="61"/>
                          </a:cubicBezTo>
                          <a:cubicBezTo>
                            <a:pt x="938" y="88"/>
                            <a:pt x="977" y="127"/>
                            <a:pt x="1003" y="175"/>
                          </a:cubicBezTo>
                          <a:cubicBezTo>
                            <a:pt x="1029" y="223"/>
                            <a:pt x="1044" y="287"/>
                            <a:pt x="1051" y="349"/>
                          </a:cubicBezTo>
                          <a:cubicBezTo>
                            <a:pt x="1058" y="411"/>
                            <a:pt x="1057" y="477"/>
                            <a:pt x="1045" y="547"/>
                          </a:cubicBezTo>
                          <a:cubicBezTo>
                            <a:pt x="1033" y="617"/>
                            <a:pt x="995" y="712"/>
                            <a:pt x="979" y="769"/>
                          </a:cubicBezTo>
                          <a:cubicBezTo>
                            <a:pt x="963" y="826"/>
                            <a:pt x="955" y="860"/>
                            <a:pt x="949" y="889"/>
                          </a:cubicBezTo>
                          <a:cubicBezTo>
                            <a:pt x="943" y="918"/>
                            <a:pt x="936" y="925"/>
                            <a:pt x="943" y="943"/>
                          </a:cubicBezTo>
                          <a:cubicBezTo>
                            <a:pt x="950" y="961"/>
                            <a:pt x="964" y="975"/>
                            <a:pt x="991" y="997"/>
                          </a:cubicBezTo>
                          <a:cubicBezTo>
                            <a:pt x="1018" y="1019"/>
                            <a:pt x="1069" y="1033"/>
                            <a:pt x="1105" y="1075"/>
                          </a:cubicBezTo>
                          <a:cubicBezTo>
                            <a:pt x="1141" y="1117"/>
                            <a:pt x="1186" y="1174"/>
                            <a:pt x="1207" y="1249"/>
                          </a:cubicBezTo>
                          <a:cubicBezTo>
                            <a:pt x="1228" y="1324"/>
                            <a:pt x="1231" y="1441"/>
                            <a:pt x="1231" y="1525"/>
                          </a:cubicBezTo>
                          <a:cubicBezTo>
                            <a:pt x="1231" y="1609"/>
                            <a:pt x="1225" y="1679"/>
                            <a:pt x="1207" y="1753"/>
                          </a:cubicBezTo>
                          <a:cubicBezTo>
                            <a:pt x="1189" y="1827"/>
                            <a:pt x="1153" y="1917"/>
                            <a:pt x="1123" y="1969"/>
                          </a:cubicBezTo>
                          <a:cubicBezTo>
                            <a:pt x="1093" y="2021"/>
                            <a:pt x="1063" y="2047"/>
                            <a:pt x="1027" y="2065"/>
                          </a:cubicBezTo>
                          <a:cubicBezTo>
                            <a:pt x="991" y="2083"/>
                            <a:pt x="951" y="2079"/>
                            <a:pt x="907" y="2077"/>
                          </a:cubicBezTo>
                          <a:cubicBezTo>
                            <a:pt x="863" y="2075"/>
                            <a:pt x="794" y="2056"/>
                            <a:pt x="763" y="2053"/>
                          </a:cubicBezTo>
                          <a:cubicBezTo>
                            <a:pt x="732" y="2050"/>
                            <a:pt x="733" y="2050"/>
                            <a:pt x="721" y="2059"/>
                          </a:cubicBezTo>
                          <a:cubicBezTo>
                            <a:pt x="709" y="2068"/>
                            <a:pt x="702" y="2075"/>
                            <a:pt x="691" y="2107"/>
                          </a:cubicBezTo>
                          <a:cubicBezTo>
                            <a:pt x="680" y="2139"/>
                            <a:pt x="665" y="2205"/>
                            <a:pt x="655" y="2251"/>
                          </a:cubicBezTo>
                          <a:cubicBezTo>
                            <a:pt x="645" y="2297"/>
                            <a:pt x="652" y="2337"/>
                            <a:pt x="631" y="2383"/>
                          </a:cubicBezTo>
                          <a:cubicBezTo>
                            <a:pt x="610" y="2429"/>
                            <a:pt x="574" y="2498"/>
                            <a:pt x="529" y="2527"/>
                          </a:cubicBezTo>
                          <a:cubicBezTo>
                            <a:pt x="484" y="2556"/>
                            <a:pt x="414" y="2560"/>
                            <a:pt x="361" y="2557"/>
                          </a:cubicBezTo>
                          <a:cubicBezTo>
                            <a:pt x="308" y="2554"/>
                            <a:pt x="256" y="2537"/>
                            <a:pt x="211" y="2509"/>
                          </a:cubicBezTo>
                          <a:cubicBezTo>
                            <a:pt x="166" y="2481"/>
                            <a:pt x="121" y="2436"/>
                            <a:pt x="91" y="2389"/>
                          </a:cubicBezTo>
                          <a:cubicBezTo>
                            <a:pt x="61" y="2342"/>
                            <a:pt x="46" y="2275"/>
                            <a:pt x="31" y="2227"/>
                          </a:cubicBezTo>
                          <a:cubicBezTo>
                            <a:pt x="16" y="2179"/>
                            <a:pt x="2" y="2144"/>
                            <a:pt x="1" y="2101"/>
                          </a:cubicBezTo>
                          <a:cubicBezTo>
                            <a:pt x="0" y="2058"/>
                            <a:pt x="13" y="2018"/>
                            <a:pt x="25" y="1969"/>
                          </a:cubicBezTo>
                          <a:cubicBezTo>
                            <a:pt x="37" y="1920"/>
                            <a:pt x="53" y="1860"/>
                            <a:pt x="73" y="1807"/>
                          </a:cubicBezTo>
                          <a:cubicBezTo>
                            <a:pt x="93" y="1754"/>
                            <a:pt x="122" y="1698"/>
                            <a:pt x="145" y="1651"/>
                          </a:cubicBezTo>
                          <a:cubicBezTo>
                            <a:pt x="168" y="1604"/>
                            <a:pt x="192" y="1548"/>
                            <a:pt x="211" y="1525"/>
                          </a:cubicBezTo>
                          <a:cubicBezTo>
                            <a:pt x="230" y="1502"/>
                            <a:pt x="249" y="1502"/>
                            <a:pt x="259" y="1513"/>
                          </a:cubicBezTo>
                          <a:cubicBezTo>
                            <a:pt x="269" y="1524"/>
                            <a:pt x="278" y="1555"/>
                            <a:pt x="271" y="1591"/>
                          </a:cubicBezTo>
                          <a:cubicBezTo>
                            <a:pt x="264" y="1627"/>
                            <a:pt x="242" y="1682"/>
                            <a:pt x="217" y="1729"/>
                          </a:cubicBezTo>
                          <a:cubicBezTo>
                            <a:pt x="192" y="1776"/>
                            <a:pt x="145" y="1824"/>
                            <a:pt x="121" y="1873"/>
                          </a:cubicBezTo>
                          <a:cubicBezTo>
                            <a:pt x="97" y="1922"/>
                            <a:pt x="76" y="1970"/>
                            <a:pt x="73" y="2023"/>
                          </a:cubicBezTo>
                          <a:cubicBezTo>
                            <a:pt x="70" y="2076"/>
                            <a:pt x="87" y="2141"/>
                            <a:pt x="103" y="2191"/>
                          </a:cubicBezTo>
                          <a:cubicBezTo>
                            <a:pt x="119" y="2241"/>
                            <a:pt x="140" y="2285"/>
                            <a:pt x="169" y="2323"/>
                          </a:cubicBezTo>
                          <a:cubicBezTo>
                            <a:pt x="198" y="2361"/>
                            <a:pt x="232" y="2401"/>
                            <a:pt x="277" y="2419"/>
                          </a:cubicBezTo>
                          <a:cubicBezTo>
                            <a:pt x="322" y="2437"/>
                            <a:pt x="395" y="2440"/>
                            <a:pt x="439" y="2431"/>
                          </a:cubicBezTo>
                          <a:cubicBezTo>
                            <a:pt x="483" y="2422"/>
                            <a:pt x="515" y="2399"/>
                            <a:pt x="541" y="2365"/>
                          </a:cubicBezTo>
                          <a:cubicBezTo>
                            <a:pt x="567" y="2331"/>
                            <a:pt x="583" y="2280"/>
                            <a:pt x="595" y="2227"/>
                          </a:cubicBezTo>
                          <a:cubicBezTo>
                            <a:pt x="607" y="2174"/>
                            <a:pt x="616" y="2117"/>
                            <a:pt x="613" y="2047"/>
                          </a:cubicBezTo>
                          <a:cubicBezTo>
                            <a:pt x="610" y="1977"/>
                            <a:pt x="589" y="1871"/>
                            <a:pt x="577" y="1807"/>
                          </a:cubicBezTo>
                          <a:cubicBezTo>
                            <a:pt x="565" y="1743"/>
                            <a:pt x="555" y="1709"/>
                            <a:pt x="541" y="1663"/>
                          </a:cubicBezTo>
                          <a:cubicBezTo>
                            <a:pt x="527" y="1617"/>
                            <a:pt x="502" y="1561"/>
                            <a:pt x="493" y="1531"/>
                          </a:cubicBezTo>
                          <a:cubicBezTo>
                            <a:pt x="484" y="1501"/>
                            <a:pt x="480" y="1495"/>
                            <a:pt x="487" y="1483"/>
                          </a:cubicBezTo>
                          <a:cubicBezTo>
                            <a:pt x="494" y="1471"/>
                            <a:pt x="519" y="1455"/>
                            <a:pt x="535" y="1459"/>
                          </a:cubicBezTo>
                          <a:cubicBezTo>
                            <a:pt x="551" y="1463"/>
                            <a:pt x="568" y="1478"/>
                            <a:pt x="583" y="1507"/>
                          </a:cubicBezTo>
                          <a:cubicBezTo>
                            <a:pt x="598" y="1536"/>
                            <a:pt x="610" y="1583"/>
                            <a:pt x="625" y="1633"/>
                          </a:cubicBezTo>
                          <a:cubicBezTo>
                            <a:pt x="640" y="1683"/>
                            <a:pt x="657" y="1757"/>
                            <a:pt x="673" y="1807"/>
                          </a:cubicBezTo>
                          <a:cubicBezTo>
                            <a:pt x="689" y="1857"/>
                            <a:pt x="697" y="1905"/>
                            <a:pt x="721" y="1933"/>
                          </a:cubicBezTo>
                          <a:cubicBezTo>
                            <a:pt x="745" y="1961"/>
                            <a:pt x="776" y="1970"/>
                            <a:pt x="817" y="1975"/>
                          </a:cubicBezTo>
                          <a:cubicBezTo>
                            <a:pt x="858" y="1980"/>
                            <a:pt x="926" y="1980"/>
                            <a:pt x="967" y="1963"/>
                          </a:cubicBezTo>
                          <a:cubicBezTo>
                            <a:pt x="1008" y="1946"/>
                            <a:pt x="1035" y="1919"/>
                            <a:pt x="1063" y="1873"/>
                          </a:cubicBezTo>
                          <a:cubicBezTo>
                            <a:pt x="1091" y="1827"/>
                            <a:pt x="1122" y="1761"/>
                            <a:pt x="1135" y="1687"/>
                          </a:cubicBezTo>
                          <a:cubicBezTo>
                            <a:pt x="1148" y="1613"/>
                            <a:pt x="1144" y="1498"/>
                            <a:pt x="1141" y="1429"/>
                          </a:cubicBezTo>
                          <a:cubicBezTo>
                            <a:pt x="1138" y="1360"/>
                            <a:pt x="1140" y="1325"/>
                            <a:pt x="1117" y="1273"/>
                          </a:cubicBezTo>
                          <a:cubicBezTo>
                            <a:pt x="1094" y="1221"/>
                            <a:pt x="1042" y="1153"/>
                            <a:pt x="1003" y="1117"/>
                          </a:cubicBezTo>
                          <a:cubicBezTo>
                            <a:pt x="964" y="1081"/>
                            <a:pt x="919" y="1064"/>
                            <a:pt x="883" y="1057"/>
                          </a:cubicBezTo>
                          <a:cubicBezTo>
                            <a:pt x="847" y="1050"/>
                            <a:pt x="821" y="1063"/>
                            <a:pt x="787" y="1075"/>
                          </a:cubicBezTo>
                          <a:cubicBezTo>
                            <a:pt x="753" y="1087"/>
                            <a:pt x="706" y="1117"/>
                            <a:pt x="679" y="1129"/>
                          </a:cubicBezTo>
                          <a:cubicBezTo>
                            <a:pt x="652" y="1141"/>
                            <a:pt x="642" y="1149"/>
                            <a:pt x="625" y="1147"/>
                          </a:cubicBezTo>
                          <a:cubicBezTo>
                            <a:pt x="608" y="1145"/>
                            <a:pt x="584" y="1130"/>
                            <a:pt x="577" y="1117"/>
                          </a:cubicBezTo>
                          <a:cubicBezTo>
                            <a:pt x="570" y="1104"/>
                            <a:pt x="576" y="1083"/>
                            <a:pt x="583" y="1069"/>
                          </a:cubicBezTo>
                          <a:cubicBezTo>
                            <a:pt x="590" y="1055"/>
                            <a:pt x="599" y="1043"/>
                            <a:pt x="619" y="1033"/>
                          </a:cubicBezTo>
                          <a:cubicBezTo>
                            <a:pt x="639" y="1023"/>
                            <a:pt x="671" y="1025"/>
                            <a:pt x="703" y="1009"/>
                          </a:cubicBezTo>
                          <a:cubicBezTo>
                            <a:pt x="735" y="993"/>
                            <a:pt x="780" y="965"/>
                            <a:pt x="811" y="937"/>
                          </a:cubicBezTo>
                          <a:cubicBezTo>
                            <a:pt x="842" y="909"/>
                            <a:pt x="866" y="895"/>
                            <a:pt x="889" y="841"/>
                          </a:cubicBezTo>
                          <a:cubicBezTo>
                            <a:pt x="912" y="787"/>
                            <a:pt x="939" y="696"/>
                            <a:pt x="949" y="613"/>
                          </a:cubicBezTo>
                          <a:cubicBezTo>
                            <a:pt x="959" y="530"/>
                            <a:pt x="960" y="416"/>
                            <a:pt x="949" y="343"/>
                          </a:cubicBezTo>
                          <a:cubicBezTo>
                            <a:pt x="938" y="270"/>
                            <a:pt x="914" y="215"/>
                            <a:pt x="883" y="175"/>
                          </a:cubicBezTo>
                          <a:cubicBezTo>
                            <a:pt x="852" y="135"/>
                            <a:pt x="807" y="115"/>
                            <a:pt x="763" y="103"/>
                          </a:cubicBezTo>
                          <a:cubicBezTo>
                            <a:pt x="719" y="91"/>
                            <a:pt x="665" y="90"/>
                            <a:pt x="619" y="103"/>
                          </a:cubicBezTo>
                          <a:cubicBezTo>
                            <a:pt x="573" y="116"/>
                            <a:pt x="525" y="139"/>
                            <a:pt x="487" y="181"/>
                          </a:cubicBezTo>
                          <a:cubicBezTo>
                            <a:pt x="449" y="223"/>
                            <a:pt x="412" y="301"/>
                            <a:pt x="391" y="355"/>
                          </a:cubicBezTo>
                          <a:cubicBezTo>
                            <a:pt x="370" y="409"/>
                            <a:pt x="359" y="437"/>
                            <a:pt x="361" y="505"/>
                          </a:cubicBezTo>
                          <a:cubicBezTo>
                            <a:pt x="363" y="573"/>
                            <a:pt x="399" y="691"/>
                            <a:pt x="403" y="763"/>
                          </a:cubicBezTo>
                          <a:cubicBezTo>
                            <a:pt x="407" y="835"/>
                            <a:pt x="395" y="906"/>
                            <a:pt x="385" y="937"/>
                          </a:cubicBezTo>
                          <a:cubicBezTo>
                            <a:pt x="375" y="968"/>
                            <a:pt x="356" y="957"/>
                            <a:pt x="343" y="949"/>
                          </a:cubicBezTo>
                          <a:cubicBezTo>
                            <a:pt x="330" y="941"/>
                            <a:pt x="316" y="933"/>
                            <a:pt x="307" y="889"/>
                          </a:cubicBezTo>
                          <a:cubicBezTo>
                            <a:pt x="298" y="845"/>
                            <a:pt x="294" y="755"/>
                            <a:pt x="289" y="685"/>
                          </a:cubicBezTo>
                          <a:cubicBezTo>
                            <a:pt x="284" y="615"/>
                            <a:pt x="273" y="523"/>
                            <a:pt x="277" y="469"/>
                          </a:cubicBezTo>
                          <a:cubicBezTo>
                            <a:pt x="281" y="415"/>
                            <a:pt x="297" y="398"/>
                            <a:pt x="307" y="367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5" name=""/>
                    <p:cNvSpPr/>
                    <p:nvPr/>
                  </p:nvSpPr>
                  <p:spPr>
                    <a:xfrm rot="16200000">
                      <a:off x="8752320" y="93960"/>
                      <a:ext cx="141480" cy="226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5" h="2071">
                          <a:moveTo>
                            <a:pt x="785" y="530"/>
                          </a:moveTo>
                          <a:cubicBezTo>
                            <a:pt x="783" y="491"/>
                            <a:pt x="784" y="404"/>
                            <a:pt x="797" y="350"/>
                          </a:cubicBezTo>
                          <a:cubicBezTo>
                            <a:pt x="810" y="296"/>
                            <a:pt x="861" y="228"/>
                            <a:pt x="863" y="206"/>
                          </a:cubicBezTo>
                          <a:cubicBezTo>
                            <a:pt x="865" y="184"/>
                            <a:pt x="828" y="216"/>
                            <a:pt x="809" y="218"/>
                          </a:cubicBezTo>
                          <a:cubicBezTo>
                            <a:pt x="790" y="220"/>
                            <a:pt x="770" y="235"/>
                            <a:pt x="749" y="218"/>
                          </a:cubicBezTo>
                          <a:cubicBezTo>
                            <a:pt x="728" y="201"/>
                            <a:pt x="706" y="147"/>
                            <a:pt x="683" y="116"/>
                          </a:cubicBezTo>
                          <a:cubicBezTo>
                            <a:pt x="660" y="85"/>
                            <a:pt x="640" y="51"/>
                            <a:pt x="611" y="32"/>
                          </a:cubicBezTo>
                          <a:cubicBezTo>
                            <a:pt x="582" y="13"/>
                            <a:pt x="543" y="4"/>
                            <a:pt x="509" y="2"/>
                          </a:cubicBezTo>
                          <a:cubicBezTo>
                            <a:pt x="475" y="0"/>
                            <a:pt x="445" y="8"/>
                            <a:pt x="407" y="20"/>
                          </a:cubicBezTo>
                          <a:cubicBezTo>
                            <a:pt x="369" y="32"/>
                            <a:pt x="320" y="43"/>
                            <a:pt x="281" y="74"/>
                          </a:cubicBezTo>
                          <a:cubicBezTo>
                            <a:pt x="242" y="105"/>
                            <a:pt x="200" y="151"/>
                            <a:pt x="173" y="206"/>
                          </a:cubicBezTo>
                          <a:cubicBezTo>
                            <a:pt x="146" y="261"/>
                            <a:pt x="126" y="340"/>
                            <a:pt x="119" y="404"/>
                          </a:cubicBezTo>
                          <a:cubicBezTo>
                            <a:pt x="112" y="468"/>
                            <a:pt x="122" y="527"/>
                            <a:pt x="131" y="590"/>
                          </a:cubicBezTo>
                          <a:cubicBezTo>
                            <a:pt x="140" y="653"/>
                            <a:pt x="162" y="733"/>
                            <a:pt x="173" y="782"/>
                          </a:cubicBezTo>
                          <a:cubicBezTo>
                            <a:pt x="184" y="831"/>
                            <a:pt x="198" y="850"/>
                            <a:pt x="197" y="884"/>
                          </a:cubicBezTo>
                          <a:cubicBezTo>
                            <a:pt x="196" y="918"/>
                            <a:pt x="189" y="946"/>
                            <a:pt x="167" y="986"/>
                          </a:cubicBezTo>
                          <a:cubicBezTo>
                            <a:pt x="145" y="1026"/>
                            <a:pt x="90" y="1072"/>
                            <a:pt x="65" y="1124"/>
                          </a:cubicBezTo>
                          <a:cubicBezTo>
                            <a:pt x="40" y="1176"/>
                            <a:pt x="27" y="1227"/>
                            <a:pt x="17" y="1298"/>
                          </a:cubicBezTo>
                          <a:cubicBezTo>
                            <a:pt x="7" y="1369"/>
                            <a:pt x="0" y="1475"/>
                            <a:pt x="5" y="1550"/>
                          </a:cubicBezTo>
                          <a:cubicBezTo>
                            <a:pt x="10" y="1625"/>
                            <a:pt x="26" y="1690"/>
                            <a:pt x="47" y="1748"/>
                          </a:cubicBezTo>
                          <a:cubicBezTo>
                            <a:pt x="68" y="1806"/>
                            <a:pt x="89" y="1858"/>
                            <a:pt x="131" y="1898"/>
                          </a:cubicBezTo>
                          <a:cubicBezTo>
                            <a:pt x="173" y="1938"/>
                            <a:pt x="250" y="1974"/>
                            <a:pt x="299" y="1988"/>
                          </a:cubicBezTo>
                          <a:cubicBezTo>
                            <a:pt x="348" y="2002"/>
                            <a:pt x="397" y="1981"/>
                            <a:pt x="425" y="1982"/>
                          </a:cubicBezTo>
                          <a:cubicBezTo>
                            <a:pt x="453" y="1983"/>
                            <a:pt x="455" y="1980"/>
                            <a:pt x="467" y="1994"/>
                          </a:cubicBezTo>
                          <a:cubicBezTo>
                            <a:pt x="479" y="2008"/>
                            <a:pt x="492" y="2071"/>
                            <a:pt x="497" y="2066"/>
                          </a:cubicBezTo>
                          <a:cubicBezTo>
                            <a:pt x="502" y="2061"/>
                            <a:pt x="487" y="2012"/>
                            <a:pt x="497" y="1964"/>
                          </a:cubicBezTo>
                          <a:cubicBezTo>
                            <a:pt x="507" y="1916"/>
                            <a:pt x="537" y="1829"/>
                            <a:pt x="557" y="1778"/>
                          </a:cubicBezTo>
                          <a:cubicBezTo>
                            <a:pt x="577" y="1727"/>
                            <a:pt x="613" y="1671"/>
                            <a:pt x="617" y="1658"/>
                          </a:cubicBezTo>
                          <a:cubicBezTo>
                            <a:pt x="621" y="1645"/>
                            <a:pt x="598" y="1673"/>
                            <a:pt x="581" y="1700"/>
                          </a:cubicBezTo>
                          <a:cubicBezTo>
                            <a:pt x="564" y="1727"/>
                            <a:pt x="544" y="1786"/>
                            <a:pt x="515" y="1820"/>
                          </a:cubicBezTo>
                          <a:cubicBezTo>
                            <a:pt x="486" y="1854"/>
                            <a:pt x="448" y="1891"/>
                            <a:pt x="407" y="1904"/>
                          </a:cubicBezTo>
                          <a:cubicBezTo>
                            <a:pt x="366" y="1917"/>
                            <a:pt x="307" y="1913"/>
                            <a:pt x="269" y="1898"/>
                          </a:cubicBezTo>
                          <a:cubicBezTo>
                            <a:pt x="231" y="1883"/>
                            <a:pt x="205" y="1857"/>
                            <a:pt x="179" y="1814"/>
                          </a:cubicBezTo>
                          <a:cubicBezTo>
                            <a:pt x="153" y="1771"/>
                            <a:pt x="125" y="1710"/>
                            <a:pt x="113" y="1640"/>
                          </a:cubicBezTo>
                          <a:cubicBezTo>
                            <a:pt x="101" y="1570"/>
                            <a:pt x="103" y="1469"/>
                            <a:pt x="107" y="1394"/>
                          </a:cubicBezTo>
                          <a:cubicBezTo>
                            <a:pt x="111" y="1319"/>
                            <a:pt x="121" y="1244"/>
                            <a:pt x="137" y="1190"/>
                          </a:cubicBezTo>
                          <a:cubicBezTo>
                            <a:pt x="153" y="1136"/>
                            <a:pt x="172" y="1098"/>
                            <a:pt x="203" y="1070"/>
                          </a:cubicBezTo>
                          <a:cubicBezTo>
                            <a:pt x="234" y="1042"/>
                            <a:pt x="272" y="1021"/>
                            <a:pt x="323" y="1022"/>
                          </a:cubicBezTo>
                          <a:cubicBezTo>
                            <a:pt x="374" y="1023"/>
                            <a:pt x="461" y="1059"/>
                            <a:pt x="509" y="1076"/>
                          </a:cubicBezTo>
                          <a:cubicBezTo>
                            <a:pt x="557" y="1093"/>
                            <a:pt x="585" y="1120"/>
                            <a:pt x="611" y="1124"/>
                          </a:cubicBezTo>
                          <a:cubicBezTo>
                            <a:pt x="637" y="1128"/>
                            <a:pt x="657" y="1113"/>
                            <a:pt x="665" y="1100"/>
                          </a:cubicBezTo>
                          <a:cubicBezTo>
                            <a:pt x="673" y="1087"/>
                            <a:pt x="668" y="1062"/>
                            <a:pt x="659" y="1046"/>
                          </a:cubicBezTo>
                          <a:cubicBezTo>
                            <a:pt x="650" y="1030"/>
                            <a:pt x="638" y="1015"/>
                            <a:pt x="611" y="1004"/>
                          </a:cubicBezTo>
                          <a:cubicBezTo>
                            <a:pt x="584" y="993"/>
                            <a:pt x="545" y="998"/>
                            <a:pt x="497" y="980"/>
                          </a:cubicBezTo>
                          <a:cubicBezTo>
                            <a:pt x="449" y="962"/>
                            <a:pt x="367" y="946"/>
                            <a:pt x="323" y="896"/>
                          </a:cubicBezTo>
                          <a:cubicBezTo>
                            <a:pt x="279" y="846"/>
                            <a:pt x="252" y="760"/>
                            <a:pt x="233" y="680"/>
                          </a:cubicBezTo>
                          <a:cubicBezTo>
                            <a:pt x="214" y="600"/>
                            <a:pt x="195" y="501"/>
                            <a:pt x="209" y="416"/>
                          </a:cubicBezTo>
                          <a:cubicBezTo>
                            <a:pt x="223" y="331"/>
                            <a:pt x="271" y="221"/>
                            <a:pt x="317" y="170"/>
                          </a:cubicBezTo>
                          <a:cubicBezTo>
                            <a:pt x="363" y="119"/>
                            <a:pt x="435" y="111"/>
                            <a:pt x="485" y="110"/>
                          </a:cubicBezTo>
                          <a:cubicBezTo>
                            <a:pt x="535" y="109"/>
                            <a:pt x="580" y="134"/>
                            <a:pt x="617" y="164"/>
                          </a:cubicBezTo>
                          <a:cubicBezTo>
                            <a:pt x="654" y="194"/>
                            <a:pt x="687" y="246"/>
                            <a:pt x="707" y="290"/>
                          </a:cubicBezTo>
                          <a:cubicBezTo>
                            <a:pt x="727" y="334"/>
                            <a:pt x="726" y="376"/>
                            <a:pt x="737" y="428"/>
                          </a:cubicBezTo>
                          <a:cubicBezTo>
                            <a:pt x="748" y="480"/>
                            <a:pt x="761" y="576"/>
                            <a:pt x="773" y="602"/>
                          </a:cubicBezTo>
                          <a:cubicBezTo>
                            <a:pt x="785" y="628"/>
                            <a:pt x="807" y="597"/>
                            <a:pt x="809" y="584"/>
                          </a:cubicBezTo>
                          <a:cubicBezTo>
                            <a:pt x="811" y="571"/>
                            <a:pt x="787" y="569"/>
                            <a:pt x="785" y="530"/>
                          </a:cubicBezTo>
                          <a:close/>
                        </a:path>
                      </a:pathLst>
                    </a:custGeom>
                    <a:solidFill>
                      <a:srgbClr val="e7d6b7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2f1311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" name=""/>
                  <p:cNvSpPr/>
                  <p:nvPr/>
                </p:nvSpPr>
                <p:spPr>
                  <a:xfrm rot="16200000">
                    <a:off x="8824680" y="129600"/>
                    <a:ext cx="27360" cy="26640"/>
                  </a:xfrm>
                  <a:prstGeom prst="ellipse">
                    <a:avLst/>
                  </a:pr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7360" bIns="-27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" name=""/>
                  <p:cNvSpPr/>
                  <p:nvPr/>
                </p:nvSpPr>
                <p:spPr>
                  <a:xfrm rot="16200000">
                    <a:off x="8756640" y="74520"/>
                    <a:ext cx="43200" cy="56880"/>
                  </a:xfrm>
                  <a:custGeom>
                    <a:avLst/>
                    <a:gdLst/>
                    <a:ahLst/>
                    <a:rect l="l" t="t" r="r" b="b"/>
                    <a:pathLst>
                      <a:path w="266" h="521">
                        <a:moveTo>
                          <a:pt x="3" y="483"/>
                        </a:moveTo>
                        <a:cubicBezTo>
                          <a:pt x="0" y="445"/>
                          <a:pt x="9" y="346"/>
                          <a:pt x="27" y="273"/>
                        </a:cubicBezTo>
                        <a:cubicBezTo>
                          <a:pt x="45" y="200"/>
                          <a:pt x="85" y="90"/>
                          <a:pt x="111" y="45"/>
                        </a:cubicBezTo>
                        <a:cubicBezTo>
                          <a:pt x="137" y="0"/>
                          <a:pt x="162" y="4"/>
                          <a:pt x="183" y="3"/>
                        </a:cubicBezTo>
                        <a:cubicBezTo>
                          <a:pt x="204" y="2"/>
                          <a:pt x="224" y="18"/>
                          <a:pt x="237" y="39"/>
                        </a:cubicBezTo>
                        <a:cubicBezTo>
                          <a:pt x="250" y="60"/>
                          <a:pt x="266" y="90"/>
                          <a:pt x="261" y="129"/>
                        </a:cubicBezTo>
                        <a:cubicBezTo>
                          <a:pt x="256" y="168"/>
                          <a:pt x="233" y="215"/>
                          <a:pt x="207" y="273"/>
                        </a:cubicBezTo>
                        <a:cubicBezTo>
                          <a:pt x="181" y="331"/>
                          <a:pt x="132" y="439"/>
                          <a:pt x="105" y="477"/>
                        </a:cubicBezTo>
                        <a:cubicBezTo>
                          <a:pt x="78" y="515"/>
                          <a:pt x="61" y="501"/>
                          <a:pt x="45" y="501"/>
                        </a:cubicBezTo>
                        <a:cubicBezTo>
                          <a:pt x="29" y="501"/>
                          <a:pt x="6" y="521"/>
                          <a:pt x="3" y="483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1160" bIns="111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" name=""/>
                  <p:cNvSpPr/>
                  <p:nvPr/>
                </p:nvSpPr>
                <p:spPr>
                  <a:xfrm rot="16200000">
                    <a:off x="8829360" y="61200"/>
                    <a:ext cx="64080" cy="3708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340">
                        <a:moveTo>
                          <a:pt x="100" y="201"/>
                        </a:moveTo>
                        <a:cubicBezTo>
                          <a:pt x="62" y="163"/>
                          <a:pt x="32" y="113"/>
                          <a:pt x="16" y="87"/>
                        </a:cubicBezTo>
                        <a:cubicBezTo>
                          <a:pt x="0" y="61"/>
                          <a:pt x="2" y="59"/>
                          <a:pt x="4" y="45"/>
                        </a:cubicBezTo>
                        <a:cubicBezTo>
                          <a:pt x="6" y="31"/>
                          <a:pt x="7" y="6"/>
                          <a:pt x="28" y="3"/>
                        </a:cubicBezTo>
                        <a:cubicBezTo>
                          <a:pt x="49" y="0"/>
                          <a:pt x="93" y="15"/>
                          <a:pt x="130" y="27"/>
                        </a:cubicBezTo>
                        <a:cubicBezTo>
                          <a:pt x="167" y="39"/>
                          <a:pt x="211" y="53"/>
                          <a:pt x="250" y="75"/>
                        </a:cubicBezTo>
                        <a:cubicBezTo>
                          <a:pt x="289" y="97"/>
                          <a:pt x="341" y="126"/>
                          <a:pt x="364" y="159"/>
                        </a:cubicBezTo>
                        <a:cubicBezTo>
                          <a:pt x="387" y="192"/>
                          <a:pt x="392" y="244"/>
                          <a:pt x="388" y="273"/>
                        </a:cubicBezTo>
                        <a:cubicBezTo>
                          <a:pt x="384" y="302"/>
                          <a:pt x="364" y="326"/>
                          <a:pt x="340" y="333"/>
                        </a:cubicBezTo>
                        <a:cubicBezTo>
                          <a:pt x="316" y="340"/>
                          <a:pt x="282" y="336"/>
                          <a:pt x="244" y="315"/>
                        </a:cubicBezTo>
                        <a:cubicBezTo>
                          <a:pt x="206" y="294"/>
                          <a:pt x="138" y="239"/>
                          <a:pt x="100" y="20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8640" bIns="-864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 rot="16200000">
                    <a:off x="8897760" y="111600"/>
                    <a:ext cx="2448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51" h="558">
                        <a:moveTo>
                          <a:pt x="18" y="165"/>
                        </a:moveTo>
                        <a:cubicBezTo>
                          <a:pt x="25" y="119"/>
                          <a:pt x="34" y="66"/>
                          <a:pt x="42" y="39"/>
                        </a:cubicBezTo>
                        <a:cubicBezTo>
                          <a:pt x="50" y="12"/>
                          <a:pt x="55" y="5"/>
                          <a:pt x="66" y="3"/>
                        </a:cubicBezTo>
                        <a:cubicBezTo>
                          <a:pt x="77" y="1"/>
                          <a:pt x="96" y="0"/>
                          <a:pt x="108" y="27"/>
                        </a:cubicBezTo>
                        <a:cubicBezTo>
                          <a:pt x="120" y="54"/>
                          <a:pt x="132" y="99"/>
                          <a:pt x="138" y="165"/>
                        </a:cubicBezTo>
                        <a:cubicBezTo>
                          <a:pt x="144" y="231"/>
                          <a:pt x="151" y="360"/>
                          <a:pt x="144" y="423"/>
                        </a:cubicBezTo>
                        <a:cubicBezTo>
                          <a:pt x="137" y="486"/>
                          <a:pt x="116" y="528"/>
                          <a:pt x="96" y="543"/>
                        </a:cubicBezTo>
                        <a:cubicBezTo>
                          <a:pt x="76" y="558"/>
                          <a:pt x="40" y="551"/>
                          <a:pt x="24" y="513"/>
                        </a:cubicBezTo>
                        <a:cubicBezTo>
                          <a:pt x="8" y="475"/>
                          <a:pt x="0" y="372"/>
                          <a:pt x="0" y="315"/>
                        </a:cubicBezTo>
                        <a:cubicBezTo>
                          <a:pt x="0" y="258"/>
                          <a:pt x="11" y="211"/>
                          <a:pt x="18" y="165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15120" bIns="1512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rot="16200000">
                    <a:off x="8824320" y="191520"/>
                    <a:ext cx="64080" cy="27360"/>
                  </a:xfrm>
                  <a:custGeom>
                    <a:avLst/>
                    <a:gdLst/>
                    <a:ahLst/>
                    <a:rect l="l" t="t" r="r" b="b"/>
                    <a:pathLst>
                      <a:path w="392" h="253">
                        <a:moveTo>
                          <a:pt x="175" y="61"/>
                        </a:moveTo>
                        <a:cubicBezTo>
                          <a:pt x="219" y="45"/>
                          <a:pt x="275" y="28"/>
                          <a:pt x="307" y="19"/>
                        </a:cubicBezTo>
                        <a:cubicBezTo>
                          <a:pt x="339" y="10"/>
                          <a:pt x="354" y="0"/>
                          <a:pt x="367" y="7"/>
                        </a:cubicBezTo>
                        <a:cubicBezTo>
                          <a:pt x="380" y="14"/>
                          <a:pt x="392" y="40"/>
                          <a:pt x="385" y="61"/>
                        </a:cubicBezTo>
                        <a:cubicBezTo>
                          <a:pt x="378" y="82"/>
                          <a:pt x="357" y="106"/>
                          <a:pt x="325" y="133"/>
                        </a:cubicBezTo>
                        <a:cubicBezTo>
                          <a:pt x="293" y="160"/>
                          <a:pt x="241" y="204"/>
                          <a:pt x="193" y="223"/>
                        </a:cubicBezTo>
                        <a:cubicBezTo>
                          <a:pt x="145" y="242"/>
                          <a:pt x="69" y="253"/>
                          <a:pt x="37" y="247"/>
                        </a:cubicBezTo>
                        <a:cubicBezTo>
                          <a:pt x="5" y="241"/>
                          <a:pt x="0" y="209"/>
                          <a:pt x="1" y="187"/>
                        </a:cubicBezTo>
                        <a:cubicBezTo>
                          <a:pt x="2" y="165"/>
                          <a:pt x="15" y="136"/>
                          <a:pt x="43" y="115"/>
                        </a:cubicBezTo>
                        <a:cubicBezTo>
                          <a:pt x="71" y="94"/>
                          <a:pt x="131" y="77"/>
                          <a:pt x="175" y="61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18360" bIns="-1836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rot="16200000">
                    <a:off x="8772120" y="165960"/>
                    <a:ext cx="38880" cy="42120"/>
                  </a:xfrm>
                  <a:custGeom>
                    <a:avLst/>
                    <a:gdLst/>
                    <a:ahLst/>
                    <a:rect l="l" t="t" r="r" b="b"/>
                    <a:pathLst>
                      <a:path w="238" h="386">
                        <a:moveTo>
                          <a:pt x="78" y="270"/>
                        </a:moveTo>
                        <a:cubicBezTo>
                          <a:pt x="54" y="243"/>
                          <a:pt x="37" y="221"/>
                          <a:pt x="24" y="192"/>
                        </a:cubicBezTo>
                        <a:cubicBezTo>
                          <a:pt x="11" y="163"/>
                          <a:pt x="0" y="126"/>
                          <a:pt x="0" y="96"/>
                        </a:cubicBezTo>
                        <a:cubicBezTo>
                          <a:pt x="0" y="66"/>
                          <a:pt x="4" y="24"/>
                          <a:pt x="24" y="12"/>
                        </a:cubicBezTo>
                        <a:cubicBezTo>
                          <a:pt x="44" y="0"/>
                          <a:pt x="94" y="4"/>
                          <a:pt x="120" y="24"/>
                        </a:cubicBezTo>
                        <a:cubicBezTo>
                          <a:pt x="146" y="44"/>
                          <a:pt x="161" y="85"/>
                          <a:pt x="180" y="132"/>
                        </a:cubicBezTo>
                        <a:cubicBezTo>
                          <a:pt x="199" y="179"/>
                          <a:pt x="230" y="265"/>
                          <a:pt x="234" y="306"/>
                        </a:cubicBezTo>
                        <a:cubicBezTo>
                          <a:pt x="238" y="347"/>
                          <a:pt x="215" y="370"/>
                          <a:pt x="204" y="378"/>
                        </a:cubicBezTo>
                        <a:cubicBezTo>
                          <a:pt x="193" y="386"/>
                          <a:pt x="190" y="372"/>
                          <a:pt x="168" y="354"/>
                        </a:cubicBezTo>
                        <a:cubicBezTo>
                          <a:pt x="146" y="336"/>
                          <a:pt x="102" y="297"/>
                          <a:pt x="78" y="270"/>
                        </a:cubicBezTo>
                        <a:close/>
                      </a:path>
                    </a:pathLst>
                  </a:custGeom>
                  <a:solidFill>
                    <a:srgbClr val="e7d6b7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tIns="-3600" bIns="-3600" anchor="ctr">
                    <a:noAutofit/>
                  </a:bodyPr>
                  <a:p>
                    <a:endParaRPr b="0" lang="en-US" sz="1800" spc="-1" strike="noStrike">
                      <a:solidFill>
                        <a:srgbClr val="2f1311"/>
                      </a:solidFill>
                      <a:latin typeface="Arial"/>
                    </a:endParaRPr>
                  </a:p>
                </p:txBody>
              </p:sp>
            </p:grpSp>
            <p:pic>
              <p:nvPicPr>
                <p:cNvPr id="112" name="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8381880" y="228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3" name="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8848800" y="2286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4" name="" descr=""/>
                <p:cNvPicPr/>
                <p:nvPr/>
              </p:nvPicPr>
              <p:blipFill>
                <a:blip r:embed="rId4"/>
                <a:stretch/>
              </p:blipFill>
              <p:spPr>
                <a:xfrm>
                  <a:off x="8610480" y="5335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5" name="" descr=""/>
                <p:cNvPicPr/>
                <p:nvPr/>
              </p:nvPicPr>
              <p:blipFill>
                <a:blip r:embed="rId5"/>
                <a:stretch/>
              </p:blipFill>
              <p:spPr>
                <a:xfrm>
                  <a:off x="8534520" y="914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6" name="" descr=""/>
                <p:cNvPicPr/>
                <p:nvPr/>
              </p:nvPicPr>
              <p:blipFill>
                <a:blip r:embed="rId6"/>
                <a:stretch/>
              </p:blipFill>
              <p:spPr>
                <a:xfrm>
                  <a:off x="8848800" y="838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7" name="" descr=""/>
                <p:cNvPicPr/>
                <p:nvPr/>
              </p:nvPicPr>
              <p:blipFill>
                <a:blip r:embed="rId7"/>
                <a:stretch/>
              </p:blipFill>
              <p:spPr>
                <a:xfrm>
                  <a:off x="8686800" y="12193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8" name="" descr=""/>
                <p:cNvPicPr/>
                <p:nvPr/>
              </p:nvPicPr>
              <p:blipFill>
                <a:blip r:embed="rId8"/>
                <a:stretch/>
              </p:blipFill>
              <p:spPr>
                <a:xfrm>
                  <a:off x="8848800" y="16002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19" name="" descr=""/>
                <p:cNvPicPr/>
                <p:nvPr/>
              </p:nvPicPr>
              <p:blipFill>
                <a:blip r:embed="rId9"/>
                <a:stretch/>
              </p:blipFill>
              <p:spPr>
                <a:xfrm>
                  <a:off x="8848800" y="19810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  <p:grpSp>
            <p:nvGrpSpPr>
              <p:cNvPr id="120" name=""/>
              <p:cNvGrpSpPr/>
              <p:nvPr/>
            </p:nvGrpSpPr>
            <p:grpSpPr>
              <a:xfrm>
                <a:off x="7848720" y="1600200"/>
                <a:ext cx="828720" cy="4710240"/>
                <a:chOff x="7848720" y="1600200"/>
                <a:chExt cx="828720" cy="4710240"/>
              </a:xfrm>
            </p:grpSpPr>
            <p:pic>
              <p:nvPicPr>
                <p:cNvPr id="121" name="" descr=""/>
                <p:cNvPicPr/>
                <p:nvPr/>
              </p:nvPicPr>
              <p:blipFill>
                <a:blip r:embed="rId10"/>
                <a:stretch/>
              </p:blipFill>
              <p:spPr>
                <a:xfrm>
                  <a:off x="8153280" y="1600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2" name="" descr=""/>
                <p:cNvPicPr/>
                <p:nvPr/>
              </p:nvPicPr>
              <p:blipFill>
                <a:blip r:embed="rId11"/>
                <a:stretch/>
              </p:blipFill>
              <p:spPr>
                <a:xfrm>
                  <a:off x="8229600" y="19051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3" name="" descr=""/>
                <p:cNvPicPr/>
                <p:nvPr/>
              </p:nvPicPr>
              <p:blipFill>
                <a:blip r:embed="rId12"/>
                <a:stretch/>
              </p:blipFill>
              <p:spPr>
                <a:xfrm>
                  <a:off x="8153280" y="25146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4" name="" descr=""/>
                <p:cNvPicPr/>
                <p:nvPr/>
              </p:nvPicPr>
              <p:blipFill>
                <a:blip r:embed="rId13"/>
                <a:stretch/>
              </p:blipFill>
              <p:spPr>
                <a:xfrm>
                  <a:off x="8381880" y="2743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5" name="" descr=""/>
                <p:cNvPicPr/>
                <p:nvPr/>
              </p:nvPicPr>
              <p:blipFill>
                <a:blip r:embed="rId14"/>
                <a:stretch/>
              </p:blipFill>
              <p:spPr>
                <a:xfrm>
                  <a:off x="8001000" y="28954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6" name="" descr=""/>
                <p:cNvPicPr/>
                <p:nvPr/>
              </p:nvPicPr>
              <p:blipFill>
                <a:blip r:embed="rId15"/>
                <a:stretch/>
              </p:blipFill>
              <p:spPr>
                <a:xfrm>
                  <a:off x="8077320" y="3200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7" name="" descr=""/>
                <p:cNvPicPr/>
                <p:nvPr/>
              </p:nvPicPr>
              <p:blipFill>
                <a:blip r:embed="rId16"/>
                <a:stretch/>
              </p:blipFill>
              <p:spPr>
                <a:xfrm>
                  <a:off x="8381880" y="32767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8" name="" descr=""/>
                <p:cNvPicPr/>
                <p:nvPr/>
              </p:nvPicPr>
              <p:blipFill>
                <a:blip r:embed="rId17"/>
                <a:stretch/>
              </p:blipFill>
              <p:spPr>
                <a:xfrm>
                  <a:off x="8305920" y="373392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29" name="" descr=""/>
                <p:cNvPicPr/>
                <p:nvPr/>
              </p:nvPicPr>
              <p:blipFill>
                <a:blip r:embed="rId18"/>
                <a:stretch/>
              </p:blipFill>
              <p:spPr>
                <a:xfrm>
                  <a:off x="7924680" y="35053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0" name="" descr=""/>
                <p:cNvPicPr/>
                <p:nvPr/>
              </p:nvPicPr>
              <p:blipFill>
                <a:blip r:embed="rId19"/>
                <a:stretch/>
              </p:blipFill>
              <p:spPr>
                <a:xfrm>
                  <a:off x="7924680" y="38862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1" name="" descr=""/>
                <p:cNvPicPr/>
                <p:nvPr/>
              </p:nvPicPr>
              <p:blipFill>
                <a:blip r:embed="rId20"/>
                <a:stretch/>
              </p:blipFill>
              <p:spPr>
                <a:xfrm>
                  <a:off x="8153280" y="411480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2" name="" descr=""/>
                <p:cNvPicPr/>
                <p:nvPr/>
              </p:nvPicPr>
              <p:blipFill>
                <a:blip r:embed="rId21"/>
                <a:stretch/>
              </p:blipFill>
              <p:spPr>
                <a:xfrm>
                  <a:off x="8305920" y="2209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3" name="" descr=""/>
                <p:cNvPicPr/>
                <p:nvPr/>
              </p:nvPicPr>
              <p:blipFill>
                <a:blip r:embed="rId22"/>
                <a:stretch/>
              </p:blipFill>
              <p:spPr>
                <a:xfrm>
                  <a:off x="7848720" y="43434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4" name="" descr=""/>
                <p:cNvPicPr/>
                <p:nvPr/>
              </p:nvPicPr>
              <p:blipFill>
                <a:blip r:embed="rId23"/>
                <a:stretch/>
              </p:blipFill>
              <p:spPr>
                <a:xfrm>
                  <a:off x="7924680" y="4876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5" name="" descr=""/>
                <p:cNvPicPr/>
                <p:nvPr/>
              </p:nvPicPr>
              <p:blipFill>
                <a:blip r:embed="rId24"/>
                <a:stretch/>
              </p:blipFill>
              <p:spPr>
                <a:xfrm>
                  <a:off x="8305920" y="525780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6" name="" descr=""/>
                <p:cNvPicPr/>
                <p:nvPr/>
              </p:nvPicPr>
              <p:blipFill>
                <a:blip r:embed="rId25"/>
                <a:stretch/>
              </p:blipFill>
              <p:spPr>
                <a:xfrm>
                  <a:off x="7924680" y="541008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7" name="" descr=""/>
                <p:cNvPicPr/>
                <p:nvPr/>
              </p:nvPicPr>
              <p:blipFill>
                <a:blip r:embed="rId26"/>
                <a:stretch/>
              </p:blipFill>
              <p:spPr>
                <a:xfrm>
                  <a:off x="8077320" y="56386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8" name="" descr=""/>
                <p:cNvPicPr/>
                <p:nvPr/>
              </p:nvPicPr>
              <p:blipFill>
                <a:blip r:embed="rId27"/>
                <a:stretch/>
              </p:blipFill>
              <p:spPr>
                <a:xfrm>
                  <a:off x="7924680" y="6019920"/>
                  <a:ext cx="29556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  <p:pic>
              <p:nvPicPr>
                <p:cNvPr id="139" name="" descr=""/>
                <p:cNvPicPr/>
                <p:nvPr/>
              </p:nvPicPr>
              <p:blipFill>
                <a:blip r:embed="rId28"/>
                <a:stretch/>
              </p:blipFill>
              <p:spPr>
                <a:xfrm>
                  <a:off x="8229600" y="5867280"/>
                  <a:ext cx="295200" cy="2905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  <p:sp>
          <p:nvSpPr>
            <p:cNvPr id="140" name=""/>
            <p:cNvSpPr/>
            <p:nvPr/>
          </p:nvSpPr>
          <p:spPr>
            <a:xfrm>
              <a:off x="7953480" y="4908600"/>
              <a:ext cx="1190520" cy="1940040"/>
            </a:xfrm>
            <a:custGeom>
              <a:avLst/>
              <a:gdLst/>
              <a:ahLst/>
              <a:rect l="l" t="t" r="r" b="b"/>
              <a:pathLst>
                <a:path w="750" h="1222">
                  <a:moveTo>
                    <a:pt x="372" y="154"/>
                  </a:moveTo>
                  <a:cubicBezTo>
                    <a:pt x="309" y="193"/>
                    <a:pt x="388" y="317"/>
                    <a:pt x="378" y="412"/>
                  </a:cubicBezTo>
                  <a:cubicBezTo>
                    <a:pt x="368" y="507"/>
                    <a:pt x="352" y="638"/>
                    <a:pt x="312" y="724"/>
                  </a:cubicBezTo>
                  <a:cubicBezTo>
                    <a:pt x="272" y="810"/>
                    <a:pt x="190" y="886"/>
                    <a:pt x="138" y="928"/>
                  </a:cubicBezTo>
                  <a:cubicBezTo>
                    <a:pt x="86" y="970"/>
                    <a:pt x="23" y="927"/>
                    <a:pt x="0" y="976"/>
                  </a:cubicBezTo>
                  <a:lnTo>
                    <a:pt x="0" y="1222"/>
                  </a:lnTo>
                  <a:lnTo>
                    <a:pt x="750" y="1222"/>
                  </a:lnTo>
                  <a:lnTo>
                    <a:pt x="750" y="178"/>
                  </a:lnTo>
                  <a:cubicBezTo>
                    <a:pt x="687" y="0"/>
                    <a:pt x="451" y="159"/>
                    <a:pt x="372" y="15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7939080" y="4857840"/>
              <a:ext cx="1219320" cy="2000160"/>
            </a:xfrm>
            <a:custGeom>
              <a:avLst/>
              <a:gdLst/>
              <a:ahLst/>
              <a:rect l="l" t="t" r="r" b="b"/>
              <a:pathLst>
                <a:path w="768" h="1260">
                  <a:moveTo>
                    <a:pt x="0" y="1260"/>
                  </a:moveTo>
                  <a:lnTo>
                    <a:pt x="0" y="1134"/>
                  </a:lnTo>
                  <a:lnTo>
                    <a:pt x="210" y="1032"/>
                  </a:lnTo>
                  <a:lnTo>
                    <a:pt x="324" y="918"/>
                  </a:lnTo>
                  <a:lnTo>
                    <a:pt x="414" y="714"/>
                  </a:lnTo>
                  <a:lnTo>
                    <a:pt x="450" y="456"/>
                  </a:lnTo>
                  <a:lnTo>
                    <a:pt x="438" y="258"/>
                  </a:lnTo>
                  <a:lnTo>
                    <a:pt x="684" y="0"/>
                  </a:lnTo>
                  <a:lnTo>
                    <a:pt x="768" y="18"/>
                  </a:lnTo>
                  <a:lnTo>
                    <a:pt x="768" y="1254"/>
                  </a:lnTo>
                  <a:lnTo>
                    <a:pt x="0" y="1260"/>
                  </a:ln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7927920" y="2817720"/>
              <a:ext cx="1231920" cy="4037040"/>
            </a:xfrm>
            <a:custGeom>
              <a:avLst/>
              <a:gdLst/>
              <a:ahLst/>
              <a:rect l="l" t="t" r="r" b="b"/>
              <a:pathLst>
                <a:path w="776" h="2543">
                  <a:moveTo>
                    <a:pt x="550" y="115"/>
                  </a:moveTo>
                  <a:cubicBezTo>
                    <a:pt x="502" y="0"/>
                    <a:pt x="502" y="394"/>
                    <a:pt x="460" y="529"/>
                  </a:cubicBezTo>
                  <a:cubicBezTo>
                    <a:pt x="418" y="664"/>
                    <a:pt x="362" y="802"/>
                    <a:pt x="298" y="925"/>
                  </a:cubicBezTo>
                  <a:cubicBezTo>
                    <a:pt x="234" y="1048"/>
                    <a:pt x="125" y="1198"/>
                    <a:pt x="76" y="1267"/>
                  </a:cubicBezTo>
                  <a:cubicBezTo>
                    <a:pt x="27" y="1336"/>
                    <a:pt x="0" y="1325"/>
                    <a:pt x="4" y="1339"/>
                  </a:cubicBezTo>
                  <a:cubicBezTo>
                    <a:pt x="8" y="1353"/>
                    <a:pt x="53" y="1341"/>
                    <a:pt x="100" y="1351"/>
                  </a:cubicBezTo>
                  <a:cubicBezTo>
                    <a:pt x="147" y="1361"/>
                    <a:pt x="237" y="1370"/>
                    <a:pt x="286" y="1399"/>
                  </a:cubicBezTo>
                  <a:cubicBezTo>
                    <a:pt x="335" y="1428"/>
                    <a:pt x="362" y="1474"/>
                    <a:pt x="394" y="1525"/>
                  </a:cubicBezTo>
                  <a:cubicBezTo>
                    <a:pt x="426" y="1576"/>
                    <a:pt x="464" y="1631"/>
                    <a:pt x="478" y="1705"/>
                  </a:cubicBezTo>
                  <a:cubicBezTo>
                    <a:pt x="492" y="1779"/>
                    <a:pt x="496" y="1876"/>
                    <a:pt x="478" y="1969"/>
                  </a:cubicBezTo>
                  <a:cubicBezTo>
                    <a:pt x="460" y="2062"/>
                    <a:pt x="429" y="2178"/>
                    <a:pt x="370" y="2263"/>
                  </a:cubicBezTo>
                  <a:cubicBezTo>
                    <a:pt x="311" y="2348"/>
                    <a:pt x="238" y="2428"/>
                    <a:pt x="124" y="2479"/>
                  </a:cubicBezTo>
                  <a:cubicBezTo>
                    <a:pt x="66" y="2521"/>
                    <a:pt x="10" y="2506"/>
                    <a:pt x="22" y="2515"/>
                  </a:cubicBezTo>
                  <a:cubicBezTo>
                    <a:pt x="34" y="2524"/>
                    <a:pt x="135" y="2543"/>
                    <a:pt x="196" y="2533"/>
                  </a:cubicBezTo>
                  <a:cubicBezTo>
                    <a:pt x="257" y="2523"/>
                    <a:pt x="337" y="2494"/>
                    <a:pt x="388" y="2455"/>
                  </a:cubicBezTo>
                  <a:cubicBezTo>
                    <a:pt x="439" y="2416"/>
                    <a:pt x="467" y="2342"/>
                    <a:pt x="502" y="2299"/>
                  </a:cubicBezTo>
                  <a:cubicBezTo>
                    <a:pt x="537" y="2256"/>
                    <a:pt x="566" y="2214"/>
                    <a:pt x="598" y="2197"/>
                  </a:cubicBezTo>
                  <a:cubicBezTo>
                    <a:pt x="630" y="2180"/>
                    <a:pt x="670" y="2191"/>
                    <a:pt x="694" y="2197"/>
                  </a:cubicBezTo>
                  <a:cubicBezTo>
                    <a:pt x="718" y="2203"/>
                    <a:pt x="739" y="2240"/>
                    <a:pt x="742" y="2230"/>
                  </a:cubicBezTo>
                  <a:cubicBezTo>
                    <a:pt x="745" y="2220"/>
                    <a:pt x="725" y="2207"/>
                    <a:pt x="712" y="2137"/>
                  </a:cubicBezTo>
                  <a:cubicBezTo>
                    <a:pt x="699" y="2067"/>
                    <a:pt x="671" y="1903"/>
                    <a:pt x="664" y="1807"/>
                  </a:cubicBezTo>
                  <a:cubicBezTo>
                    <a:pt x="657" y="1711"/>
                    <a:pt x="661" y="1630"/>
                    <a:pt x="670" y="1561"/>
                  </a:cubicBezTo>
                  <a:cubicBezTo>
                    <a:pt x="679" y="1492"/>
                    <a:pt x="705" y="1450"/>
                    <a:pt x="718" y="1393"/>
                  </a:cubicBezTo>
                  <a:cubicBezTo>
                    <a:pt x="731" y="1336"/>
                    <a:pt x="776" y="1427"/>
                    <a:pt x="748" y="1219"/>
                  </a:cubicBezTo>
                  <a:cubicBezTo>
                    <a:pt x="720" y="1011"/>
                    <a:pt x="598" y="230"/>
                    <a:pt x="550" y="115"/>
                  </a:cubicBezTo>
                  <a:close/>
                </a:path>
              </a:pathLst>
            </a:custGeom>
            <a:gradFill rotWithShape="0">
              <a:gsLst>
                <a:gs pos="0">
                  <a:srgbClr val="375039"/>
                </a:gs>
                <a:gs pos="50000">
                  <a:srgbClr val="79af7d"/>
                </a:gs>
                <a:gs pos="100000">
                  <a:srgbClr val="37503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010360" y="3538440"/>
              <a:ext cx="979560" cy="2184480"/>
            </a:xfrm>
            <a:custGeom>
              <a:avLst/>
              <a:gdLst/>
              <a:ahLst/>
              <a:rect l="l" t="t" r="r" b="b"/>
              <a:pathLst>
                <a:path w="617" h="1376">
                  <a:moveTo>
                    <a:pt x="486" y="3"/>
                  </a:moveTo>
                  <a:cubicBezTo>
                    <a:pt x="452" y="6"/>
                    <a:pt x="447" y="252"/>
                    <a:pt x="402" y="381"/>
                  </a:cubicBezTo>
                  <a:cubicBezTo>
                    <a:pt x="357" y="510"/>
                    <a:pt x="283" y="654"/>
                    <a:pt x="216" y="777"/>
                  </a:cubicBezTo>
                  <a:cubicBezTo>
                    <a:pt x="149" y="900"/>
                    <a:pt x="19" y="1065"/>
                    <a:pt x="0" y="1119"/>
                  </a:cubicBezTo>
                  <a:cubicBezTo>
                    <a:pt x="48" y="1119"/>
                    <a:pt x="55" y="1101"/>
                    <a:pt x="102" y="1101"/>
                  </a:cubicBezTo>
                  <a:cubicBezTo>
                    <a:pt x="149" y="1101"/>
                    <a:pt x="236" y="1105"/>
                    <a:pt x="282" y="1119"/>
                  </a:cubicBezTo>
                  <a:cubicBezTo>
                    <a:pt x="328" y="1133"/>
                    <a:pt x="353" y="1160"/>
                    <a:pt x="378" y="1185"/>
                  </a:cubicBezTo>
                  <a:cubicBezTo>
                    <a:pt x="403" y="1210"/>
                    <a:pt x="421" y="1239"/>
                    <a:pt x="432" y="1269"/>
                  </a:cubicBezTo>
                  <a:cubicBezTo>
                    <a:pt x="443" y="1299"/>
                    <a:pt x="433" y="1376"/>
                    <a:pt x="444" y="1365"/>
                  </a:cubicBezTo>
                  <a:cubicBezTo>
                    <a:pt x="455" y="1354"/>
                    <a:pt x="478" y="1293"/>
                    <a:pt x="498" y="1203"/>
                  </a:cubicBezTo>
                  <a:cubicBezTo>
                    <a:pt x="518" y="1113"/>
                    <a:pt x="546" y="965"/>
                    <a:pt x="564" y="825"/>
                  </a:cubicBezTo>
                  <a:cubicBezTo>
                    <a:pt x="582" y="685"/>
                    <a:pt x="617" y="496"/>
                    <a:pt x="606" y="363"/>
                  </a:cubicBezTo>
                  <a:cubicBezTo>
                    <a:pt x="595" y="230"/>
                    <a:pt x="520" y="0"/>
                    <a:pt x="486" y="3"/>
                  </a:cubicBezTo>
                  <a:close/>
                </a:path>
              </a:pathLst>
            </a:custGeom>
            <a:blipFill rotWithShape="0">
              <a:blip r:embed="rId29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244000" y="426960"/>
              <a:ext cx="914400" cy="5048280"/>
            </a:xfrm>
            <a:custGeom>
              <a:avLst/>
              <a:gdLst/>
              <a:ahLst/>
              <a:rect l="l" t="t" r="r" b="b"/>
              <a:pathLst>
                <a:path w="576" h="3180">
                  <a:moveTo>
                    <a:pt x="42" y="61"/>
                  </a:moveTo>
                  <a:cubicBezTo>
                    <a:pt x="66" y="122"/>
                    <a:pt x="115" y="362"/>
                    <a:pt x="156" y="517"/>
                  </a:cubicBezTo>
                  <a:cubicBezTo>
                    <a:pt x="197" y="672"/>
                    <a:pt x="245" y="838"/>
                    <a:pt x="288" y="991"/>
                  </a:cubicBezTo>
                  <a:cubicBezTo>
                    <a:pt x="331" y="1144"/>
                    <a:pt x="366" y="1299"/>
                    <a:pt x="414" y="1435"/>
                  </a:cubicBezTo>
                  <a:cubicBezTo>
                    <a:pt x="462" y="1571"/>
                    <a:pt x="549" y="1537"/>
                    <a:pt x="576" y="1807"/>
                  </a:cubicBezTo>
                  <a:lnTo>
                    <a:pt x="576" y="3055"/>
                  </a:lnTo>
                  <a:cubicBezTo>
                    <a:pt x="549" y="3180"/>
                    <a:pt x="468" y="2772"/>
                    <a:pt x="414" y="2557"/>
                  </a:cubicBezTo>
                  <a:cubicBezTo>
                    <a:pt x="360" y="2342"/>
                    <a:pt x="300" y="2031"/>
                    <a:pt x="252" y="1765"/>
                  </a:cubicBezTo>
                  <a:cubicBezTo>
                    <a:pt x="204" y="1499"/>
                    <a:pt x="166" y="1230"/>
                    <a:pt x="126" y="961"/>
                  </a:cubicBezTo>
                  <a:cubicBezTo>
                    <a:pt x="86" y="692"/>
                    <a:pt x="24" y="299"/>
                    <a:pt x="12" y="151"/>
                  </a:cubicBezTo>
                  <a:cubicBezTo>
                    <a:pt x="0" y="3"/>
                    <a:pt x="18" y="0"/>
                    <a:pt x="42" y="61"/>
                  </a:cubicBezTo>
                  <a:close/>
                </a:path>
              </a:pathLst>
            </a:custGeom>
            <a:blipFill rotWithShape="0">
              <a:blip r:embed="rId30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8250120" y="262080"/>
              <a:ext cx="909720" cy="3071520"/>
            </a:xfrm>
            <a:custGeom>
              <a:avLst/>
              <a:gdLst/>
              <a:ahLst/>
              <a:rect l="l" t="t" r="r" b="b"/>
              <a:pathLst>
                <a:path w="573" h="1935">
                  <a:moveTo>
                    <a:pt x="69" y="63"/>
                  </a:moveTo>
                  <a:cubicBezTo>
                    <a:pt x="101" y="126"/>
                    <a:pt x="155" y="376"/>
                    <a:pt x="207" y="549"/>
                  </a:cubicBezTo>
                  <a:cubicBezTo>
                    <a:pt x="259" y="722"/>
                    <a:pt x="320" y="930"/>
                    <a:pt x="381" y="1101"/>
                  </a:cubicBezTo>
                  <a:cubicBezTo>
                    <a:pt x="442" y="1272"/>
                    <a:pt x="541" y="1436"/>
                    <a:pt x="573" y="1575"/>
                  </a:cubicBezTo>
                  <a:lnTo>
                    <a:pt x="573" y="1935"/>
                  </a:lnTo>
                  <a:cubicBezTo>
                    <a:pt x="531" y="1914"/>
                    <a:pt x="392" y="1655"/>
                    <a:pt x="321" y="1449"/>
                  </a:cubicBezTo>
                  <a:cubicBezTo>
                    <a:pt x="250" y="1243"/>
                    <a:pt x="198" y="912"/>
                    <a:pt x="147" y="699"/>
                  </a:cubicBezTo>
                  <a:cubicBezTo>
                    <a:pt x="96" y="486"/>
                    <a:pt x="30" y="274"/>
                    <a:pt x="15" y="171"/>
                  </a:cubicBezTo>
                  <a:cubicBezTo>
                    <a:pt x="0" y="68"/>
                    <a:pt x="37" y="0"/>
                    <a:pt x="69" y="63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7943760" y="0"/>
              <a:ext cx="576360" cy="335268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7943760" y="1440"/>
              <a:ext cx="300240" cy="3353040"/>
            </a:xfrm>
            <a:custGeom>
              <a:avLst/>
              <a:gdLst/>
              <a:ahLst/>
              <a:rect l="l" t="t" r="r" b="b"/>
              <a:pathLst>
                <a:path w="363" h="2112">
                  <a:moveTo>
                    <a:pt x="0" y="2094"/>
                  </a:moveTo>
                  <a:cubicBezTo>
                    <a:pt x="54" y="2112"/>
                    <a:pt x="41" y="2097"/>
                    <a:pt x="66" y="1992"/>
                  </a:cubicBezTo>
                  <a:cubicBezTo>
                    <a:pt x="91" y="1887"/>
                    <a:pt x="122" y="1683"/>
                    <a:pt x="150" y="1464"/>
                  </a:cubicBezTo>
                  <a:cubicBezTo>
                    <a:pt x="178" y="1245"/>
                    <a:pt x="205" y="922"/>
                    <a:pt x="234" y="678"/>
                  </a:cubicBezTo>
                  <a:cubicBezTo>
                    <a:pt x="263" y="434"/>
                    <a:pt x="363" y="113"/>
                    <a:pt x="324" y="0"/>
                  </a:cubicBezTo>
                  <a:lnTo>
                    <a:pt x="0" y="0"/>
                  </a:lnTo>
                  <a:cubicBezTo>
                    <a:pt x="0" y="0"/>
                    <a:pt x="0" y="2094"/>
                    <a:pt x="0" y="2094"/>
                  </a:cubicBezTo>
                  <a:close/>
                </a:path>
              </a:pathLst>
            </a:custGeom>
            <a:gradFill rotWithShape="0">
              <a:gsLst>
                <a:gs pos="0">
                  <a:srgbClr val="dc893e"/>
                </a:gs>
                <a:gs pos="50000">
                  <a:srgbClr val="f0b854"/>
                </a:gs>
                <a:gs pos="100000">
                  <a:srgbClr val="dc893e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7866000" y="1440"/>
              <a:ext cx="88920" cy="6858000"/>
            </a:xfrm>
            <a:prstGeom prst="rect">
              <a:avLst/>
            </a:prstGeom>
            <a:gradFill rotWithShape="0">
              <a:gsLst>
                <a:gs pos="0">
                  <a:srgbClr val="fae3b7"/>
                </a:gs>
                <a:gs pos="100000">
                  <a:srgbClr val="fbe4a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958160" y="6229440"/>
              <a:ext cx="1165320" cy="619200"/>
            </a:xfrm>
            <a:custGeom>
              <a:avLst/>
              <a:gdLst/>
              <a:ahLst/>
              <a:rect l="l" t="t" r="r" b="b"/>
              <a:pathLst>
                <a:path w="692" h="378">
                  <a:moveTo>
                    <a:pt x="1" y="357"/>
                  </a:moveTo>
                  <a:cubicBezTo>
                    <a:pt x="0" y="351"/>
                    <a:pt x="69" y="350"/>
                    <a:pt x="109" y="341"/>
                  </a:cubicBezTo>
                  <a:cubicBezTo>
                    <a:pt x="149" y="332"/>
                    <a:pt x="200" y="327"/>
                    <a:pt x="241" y="305"/>
                  </a:cubicBezTo>
                  <a:cubicBezTo>
                    <a:pt x="282" y="283"/>
                    <a:pt x="322" y="245"/>
                    <a:pt x="353" y="209"/>
                  </a:cubicBezTo>
                  <a:cubicBezTo>
                    <a:pt x="384" y="173"/>
                    <a:pt x="406" y="121"/>
                    <a:pt x="429" y="89"/>
                  </a:cubicBezTo>
                  <a:cubicBezTo>
                    <a:pt x="452" y="57"/>
                    <a:pt x="468" y="32"/>
                    <a:pt x="493" y="17"/>
                  </a:cubicBezTo>
                  <a:cubicBezTo>
                    <a:pt x="518" y="2"/>
                    <a:pt x="554" y="0"/>
                    <a:pt x="577" y="1"/>
                  </a:cubicBezTo>
                  <a:cubicBezTo>
                    <a:pt x="600" y="2"/>
                    <a:pt x="613" y="10"/>
                    <a:pt x="629" y="21"/>
                  </a:cubicBezTo>
                  <a:cubicBezTo>
                    <a:pt x="645" y="32"/>
                    <a:pt x="666" y="46"/>
                    <a:pt x="673" y="65"/>
                  </a:cubicBezTo>
                  <a:cubicBezTo>
                    <a:pt x="680" y="84"/>
                    <a:pt x="692" y="110"/>
                    <a:pt x="673" y="137"/>
                  </a:cubicBezTo>
                  <a:cubicBezTo>
                    <a:pt x="654" y="164"/>
                    <a:pt x="602" y="198"/>
                    <a:pt x="561" y="225"/>
                  </a:cubicBezTo>
                  <a:cubicBezTo>
                    <a:pt x="520" y="252"/>
                    <a:pt x="478" y="275"/>
                    <a:pt x="425" y="297"/>
                  </a:cubicBezTo>
                  <a:cubicBezTo>
                    <a:pt x="372" y="319"/>
                    <a:pt x="297" y="344"/>
                    <a:pt x="245" y="357"/>
                  </a:cubicBezTo>
                  <a:cubicBezTo>
                    <a:pt x="193" y="370"/>
                    <a:pt x="156" y="376"/>
                    <a:pt x="113" y="377"/>
                  </a:cubicBezTo>
                  <a:cubicBezTo>
                    <a:pt x="70" y="378"/>
                    <a:pt x="2" y="363"/>
                    <a:pt x="1" y="357"/>
                  </a:cubicBezTo>
                  <a:close/>
                </a:path>
              </a:pathLst>
            </a:custGeom>
            <a:gradFill rotWithShape="0">
              <a:gsLst>
                <a:gs pos="0">
                  <a:srgbClr val="c16059"/>
                </a:gs>
                <a:gs pos="50000">
                  <a:srgbClr val="dc893e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rot="5400000">
              <a:off x="4323960" y="3316320"/>
              <a:ext cx="6858000" cy="225360"/>
            </a:xfrm>
            <a:custGeom>
              <a:avLst/>
              <a:gdLst>
                <a:gd name="textAreaLeft" fmla="*/ 662400 w 6858000"/>
                <a:gd name="textAreaRight" fmla="*/ 6195600 w 6858000"/>
                <a:gd name="textAreaTop" fmla="*/ 21600 h 225360"/>
                <a:gd name="textAreaBottom" fmla="*/ 203760 h 225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20993" y="21600"/>
                  </a:lnTo>
                  <a:lnTo>
                    <a:pt x="607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c1605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2f1311"/>
                </a:solidFill>
                <a:latin typeface="Arial"/>
              </a:endParaRPr>
            </a:p>
          </p:txBody>
        </p:sp>
      </p:grp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d47d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dt" idx="4"/>
          </p:nvPr>
        </p:nvSpPr>
        <p:spPr>
          <a:xfrm>
            <a:off x="301680" y="6241680"/>
            <a:ext cx="178272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 type="ftr" idx="5"/>
          </p:nvPr>
        </p:nvSpPr>
        <p:spPr>
          <a:xfrm>
            <a:off x="2257560" y="6248520"/>
            <a:ext cx="345600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 type="sldNum" idx="6"/>
          </p:nvPr>
        </p:nvSpPr>
        <p:spPr>
          <a:xfrm>
            <a:off x="5866920" y="6248520"/>
            <a:ext cx="17557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MX" sz="1000" spc="-1" strike="noStrike">
                <a:solidFill>
                  <a:srgbClr val="2f1311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E1213-C92D-4C5F-B1C8-A42483B952C9}" type="slidenum">
              <a:rPr b="0" lang="es-MX" sz="1000" spc="-1" strike="noStrike">
                <a:solidFill>
                  <a:srgbClr val="2f1311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f1311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f1311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f1311"/>
              </a:buClr>
              <a:buSzPct val="70000"/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1311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f1311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f1311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f1311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1"/>
    <p:sldLayoutId id="2147483663" r:id="rId32"/>
    <p:sldLayoutId id="2147483664" r:id="rId33"/>
    <p:sldLayoutId id="2147483665" r:id="rId34"/>
    <p:sldLayoutId id="2147483666" r:id="rId35"/>
    <p:sldLayoutId id="2147483667" r:id="rId36"/>
    <p:sldLayoutId id="2147483668" r:id="rId37"/>
    <p:sldLayoutId id="2147483669" r:id="rId38"/>
    <p:sldLayoutId id="2147483670" r:id="rId39"/>
    <p:sldLayoutId id="2147483671" r:id="rId40"/>
    <p:sldLayoutId id="2147483672" r:id="rId41"/>
    <p:sldLayoutId id="2147483673" r:id="rId42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3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3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7.png"/><Relationship Id="rId8" Type="http://schemas.openxmlformats.org/officeDocument/2006/relationships/image" Target="../media/image7.png"/><Relationship Id="rId9" Type="http://schemas.openxmlformats.org/officeDocument/2006/relationships/image" Target="../media/image7.png"/><Relationship Id="rId10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1369800"/>
            <a:ext cx="6966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Complicaciones médicas en el embaraz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 type="subTitle"/>
          </p:nvPr>
        </p:nvSpPr>
        <p:spPr>
          <a:xfrm>
            <a:off x="1727280" y="3886200"/>
            <a:ext cx="56404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Diabetes mellitu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Diabetes gestaciona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Factores de riesg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No modificab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Edad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a 45 años (&gt; 25 años o &lt; de 25 años con obesidad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ntecedentes de diabetes mellitus en un familiar en primer grado (padres, herma- nos, hijo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ntecedentes en la mujer de macroso- mía fetal, óbito, mortinato, malformacio- nes congénita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Efectos del embarazo sobre la diabetes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s-MX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MX" sz="3200" spc="-1" strike="noStrike">
                <a:solidFill>
                  <a:srgbClr val="2f1311"/>
                </a:solidFill>
                <a:latin typeface="Arial"/>
              </a:rPr>
              <a:t>de la resistencia periférica al efecto de la insul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Acción de la insulina antagonizada por estrógenos, progesterona, hPL, cortisol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en los requerimientos de Insul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Insulinasa placentaria acelera la degradación de la insul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Tendencia hacia la cetoacidosi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Efectos de la diabetes sobre el embaraz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borto e infertilidad, frecuencia 3 veces mayor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normalidades congénitas: 5 a 10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Obito fetal: 5 a 10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complicaciones del embaraz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Hipertensión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olihidramni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arto pretérmin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RCIU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Infección de vías urinari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Candidiasis vulvovagina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Efectos de la diabetes sobre el embaraz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Macrosomía fetal que condiciona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Distoci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Laceraciones del conducto del par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Asfixia en el nonat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Cesárea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s-MX" sz="28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MX" sz="2800" spc="-1" strike="noStrike">
                <a:solidFill>
                  <a:srgbClr val="2f1311"/>
                </a:solidFill>
                <a:latin typeface="Arial"/>
              </a:rPr>
              <a:t>morbilidad neonat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SDR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Hiperbilirrubin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Hipogluc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Hipocalcemi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iabetes gestacion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Intolerancia a los carbohidratos de intensidad variable y que se inicia o se detecta durante el embarazo (incl</a:t>
            </a:r>
            <a:r>
              <a:rPr b="0" lang="es-ES_tradnl" sz="3200" spc="-1" strike="noStrike" u="sng">
                <a:solidFill>
                  <a:srgbClr val="2f1311"/>
                </a:solidFill>
                <a:uFillTx/>
                <a:latin typeface="Arial"/>
              </a:rPr>
              <a:t>u</a:t>
            </a: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 ye la posibilidad de que una diabetes no detectada pudiera haber precedido a la gestació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tec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Clasificación de la pacient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lto riesg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Medio riesg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Bajo riesg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tección, indica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Alto riesgo, 1 o + de los siguientes riesgo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Obesidad marcad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Historia familiar de DMG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Intolerancia a la glucosa o glucosur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Historia familiar importante de diabetes de tipo 2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tección, no indica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Bajo riesgo, todos los siguientes criterios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Edad &lt; 25 añ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eso normal en el embaraz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No ser miembro de grupo racial o étnico con alta prevalencia de diabetes (hispano, nativas, asiático, afro americanas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Sin parientes diabéticos en 1er grado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No historia de tolerancia anormal a la glucos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No historia de malos resultados obstétric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tección, indicad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Riesgo medio: 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Las que no queden dentro de las categorías de alto o bajo riesg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Detección de diabetes gestacional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Prueba de carga con 50 gr de glucosa (O’Sullivan)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Resultado a la hora: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&lt; 13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Sospechosa: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130 a 199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Concluyente: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20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Se realiza de las 24 a 28 semanas y se puede repetir a las 32-34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fini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Enfermedad crónica que se caracteri- za por una alteración en el metabolis- mo de las proteínas, grasas y carboh</a:t>
            </a:r>
            <a:r>
              <a:rPr b="0" lang="es-ES_tradnl" sz="3200" spc="-1" strike="noStrike" u="sng">
                <a:solidFill>
                  <a:srgbClr val="2f1311"/>
                </a:solidFill>
                <a:uFillTx/>
                <a:latin typeface="Arial"/>
              </a:rPr>
              <a:t>i</a:t>
            </a: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 dratos, que se manifiesta principal- mente como hiperglucemia, aunque puede coexistir con hipercolesterole- mia e hipertrigliceridemi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iagnóstic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Curva de tolerancia oral a la glucosa con 100 y 75 gr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                   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100 gr (3 hs)     75 gr (2 hs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yuno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95 mg/dL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     95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1 hora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       180     “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   180     “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2 horas       155     “            155     “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3 horas       140     “            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Dos valores iguales o mayores, diabe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iagnóstic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Otros criterio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lucemia en ayuno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14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lucemia postprandial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20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lucemia en ayuno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126 mg/dL en dos ocasion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Manejo (vigilancia de la glucosa)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Control metabólico adecuado; esto se logra con glucemias de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Ayuno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60 a 9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1 hora posprandial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&lt; 140       “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2 horas posprandial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&lt; 120       “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Nocturno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60 a 120   “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Dieta adecuad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Ejercici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Insulin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Se debe evitar la hipoglucemia y la cetoacidosis para lo cual hay que mantener en equilibrio la dieta, ejercicio, la insulina y el estado de estré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Están contraindicados los hipoglucemiantes ora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Valoración del bienestar fetal mediante monitoreo clínico y paraclínic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Valoración de la madurez pulmonar fet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Momento del parto: depende del bienestar y madurez fet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Método del part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Inducción: feto no grande y condiciones para ésta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Cesárea: por macrosomía fetal o por otras indicacione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Vigilancia fetal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Indicaciones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lucemia con mal contro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erapia con insuli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Evento obstétrico advers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Historia de desorden hipertensiv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 (terapia nutricional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ratamiento gener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Aumento de peso: </a:t>
            </a:r>
            <a:r>
              <a:rPr b="0" lang="es-ES_tradnl" sz="2400" spc="-1" strike="noStrike">
                <a:solidFill>
                  <a:srgbClr val="2f1311"/>
                </a:solidFill>
                <a:latin typeface="Symbol"/>
                <a:ea typeface="Symbol"/>
              </a:rPr>
              <a:t>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 10 a 12 kg en 2º y 3</a:t>
            </a:r>
            <a:r>
              <a:rPr b="0" lang="es-ES_tradnl" sz="2400" spc="-1" strike="noStrike" baseline="30000">
                <a:solidFill>
                  <a:srgbClr val="2f1311"/>
                </a:solidFill>
                <a:latin typeface="Arial"/>
              </a:rPr>
              <a:t>er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 trimestres (350 a 400 gr/semana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eso ideal &lt; 80%: 35 a 40 Kcal/kg/día (13 a 18 kg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eso ideal 80 a 120%: 30 Kcal/kg/día (11 a 16 kg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eso ideal 120 a 150%: 25 Kcal/kg/día (7 a 11 kg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35480" indent="-28296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Peso ideal &gt; 150%: 12 a 15 Kcal/kg/día (</a:t>
            </a:r>
            <a:r>
              <a:rPr b="0" lang="es-ES_tradnl" sz="2400" spc="-1" strike="noStrike">
                <a:solidFill>
                  <a:srgbClr val="2f1311"/>
                </a:solidFill>
                <a:latin typeface="Symbol"/>
                <a:ea typeface="Symbol"/>
              </a:rPr>
              <a:t>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 7 kg)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 (terapia nutricional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Dieta, el total de Kilocalorías/día dividir: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No requiere insulina, en tercios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Requiere insulina, en quintos (D: 1/5, C: 2/5, Cena: 2/5; o bien, en cuartos: D: ¼, Comida: 2/4, Cena: ¼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Si desarrolla hipoglucemia, se indican refrigerios, 1 a 3, principalmente nocturnos. Equivalen al 25 a 39% de las Kcal totales. Se deben sustraer de la comida que les precede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ieta euglucémica para DG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79280" y="1197000"/>
            <a:ext cx="7488360" cy="366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álculo de dieta para mujeres con PI norm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Fracc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% de la ración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(Kcal/24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diaria d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Hor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Comid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horas)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carbohidrato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8:00 a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Desayun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2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1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10:30 a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olac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1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12:00 medio dí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lmuerz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5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3:00 p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olac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2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1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5:00 p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en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5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3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8:00 p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olac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2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10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11:00 pm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olac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1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5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79280" y="1628640"/>
            <a:ext cx="7417080" cy="0"/>
          </a:xfrm>
          <a:prstGeom prst="line">
            <a:avLst/>
          </a:prstGeom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79280" y="2637000"/>
            <a:ext cx="7417080" cy="0"/>
          </a:xfrm>
          <a:prstGeom prst="line">
            <a:avLst/>
          </a:prstGeom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79280" y="4869000"/>
            <a:ext cx="7417080" cy="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 (Insulina)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Insulina: acción intermedia y rápida: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Inicio: 5 a 10 U de INPH, o bien: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- Mujer delgada: 0.1 a 0.3 U/kg de PI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- Mujer obesa:    0.4 a 0.6 U/kg de PI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Régimen: de la dosis total, 2/3 por la mañana y 1/3 por la tard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2/3 de la dosis en INPH y 1/3 de simple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Defini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Se encuentra asociada a una deficie</a:t>
            </a:r>
            <a:r>
              <a:rPr b="0" lang="es-ES_tradnl" sz="3200" spc="-1" strike="noStrike" u="sng">
                <a:solidFill>
                  <a:srgbClr val="2f1311"/>
                </a:solidFill>
                <a:uFillTx/>
                <a:latin typeface="Arial"/>
              </a:rPr>
              <a:t>n</a:t>
            </a: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 cia absoluta o relativa en la secreción de insulina con grados variables de resistencia a ésta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468360" y="1479600"/>
            <a:ext cx="6840360" cy="46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 de la Insulin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79280" y="1341360"/>
            <a:ext cx="7488360" cy="49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Cálculo inicial con 4 inyecciones al dí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Fracción de la dosis total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de insulin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Hor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NPH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   Regular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ntes del desayun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5/18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2/9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ntes del almuerz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1/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ntes de la cena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1/6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l acostarse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1/6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1125"/>
              </a:spcBef>
              <a:buClr>
                <a:srgbClr val="2f1311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Insulina total = 0.7 unidades multiplicadas por el peso actual en kg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durante el embarazo en las semanas 1 a 18; 0.8 unidades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multiplicada por el peso actual en kg de la embarazada en l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semanas 19 a 26; 0.9 unidades multiplicadas por el peso actual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de la embarazada en kg durante las semanas 27 a 36; 1.0 unida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des por kg de peso de la embarazada en las semanas 36 a 40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79280" y="1773360"/>
            <a:ext cx="7417080" cy="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179280" y="2852640"/>
            <a:ext cx="7417080" cy="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851280" y="2421000"/>
            <a:ext cx="3745080" cy="0"/>
          </a:xfrm>
          <a:prstGeom prst="line">
            <a:avLst/>
          </a:prstGeom>
          <a:ln w="1908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4149720"/>
            <a:ext cx="7417080" cy="0"/>
          </a:xfrm>
          <a:prstGeom prst="line">
            <a:avLst/>
          </a:prstGeom>
          <a:ln w="2844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Ejercici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Preferentemente utilización de los músculos largos o grand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3 a 5 veces a la seman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30 a 45 minutos diario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Debe ser moderado, no intens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87280" y="1171440"/>
            <a:ext cx="5689800" cy="549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22360" y="1125360"/>
            <a:ext cx="328464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71" name="" descr=""/>
          <p:cNvPicPr/>
          <p:nvPr/>
        </p:nvPicPr>
        <p:blipFill>
          <a:blip r:embed="rId1"/>
          <a:stretch/>
        </p:blipFill>
        <p:spPr>
          <a:xfrm>
            <a:off x="2214720" y="1125360"/>
            <a:ext cx="3547800" cy="55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50920" y="1197000"/>
            <a:ext cx="7345440" cy="530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   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Diabete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gestacional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No                                     Si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Inicio dieta                   Glucosa plasmá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y ejercicio                    tica en ayuno por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 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CTGO &gt; 95                                                                                                         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Vigila la cifra d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glucosa sanguínea         GSA &gt; 95, 2 PP &gt;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7 veces al día              120 GS o ambas,      Iniciación d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2 veces a la se-            Insulina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a cualquier edad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GSA &lt; 95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No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.7 U/kg, 3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2 h PP &lt; 120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inyecciones/día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GS media &lt; 96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Si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Continuar la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2/3 de la dosis am      am, proporción 1:2      pm: proporción 1:1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dietoterapia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1/3 de la dosis am      simple:intermedia         simple:intermedia 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                                                                                                        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cena al acostars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Vigilar la concentración d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glucosa sanguínea 7 vece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al día, antes y después de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                 </a:t>
            </a: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las comidas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  <a:p>
            <a:pPr algn="ctr">
              <a:lnSpc>
                <a:spcPct val="6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2f1311"/>
                </a:solidFill>
                <a:latin typeface="Arial"/>
              </a:rPr>
              <a:t>Administración de Insulina en la Diabetes Gestacional</a:t>
            </a:r>
            <a:endParaRPr b="0" lang="en-US" sz="12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556000" y="1628640"/>
            <a:ext cx="0" cy="287640"/>
          </a:xfrm>
          <a:prstGeom prst="line">
            <a:avLst/>
          </a:prstGeom>
          <a:ln w="1908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 flipH="1">
            <a:off x="1186920" y="2060640"/>
            <a:ext cx="792360" cy="0"/>
          </a:xfrm>
          <a:prstGeom prst="line">
            <a:avLst/>
          </a:prstGeom>
          <a:ln w="1908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203640" y="2060640"/>
            <a:ext cx="720720" cy="0"/>
          </a:xfrm>
          <a:prstGeom prst="line">
            <a:avLst/>
          </a:prstGeom>
          <a:ln w="1908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24360" y="2060640"/>
            <a:ext cx="0" cy="792000"/>
          </a:xfrm>
          <a:prstGeom prst="line">
            <a:avLst/>
          </a:prstGeom>
          <a:ln w="1908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26920" y="2276640"/>
            <a:ext cx="0" cy="215640"/>
          </a:xfrm>
          <a:prstGeom prst="line">
            <a:avLst/>
          </a:prstGeom>
          <a:ln w="1908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26920" y="3068640"/>
            <a:ext cx="0" cy="43164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3203640" y="3068640"/>
            <a:ext cx="360360" cy="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924360" y="3284640"/>
            <a:ext cx="0" cy="21564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332000" y="3860640"/>
            <a:ext cx="1584360" cy="0"/>
          </a:xfrm>
          <a:prstGeom prst="line">
            <a:avLst/>
          </a:prstGeom>
          <a:ln w="1908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flipV="1">
            <a:off x="2916360" y="3284640"/>
            <a:ext cx="647640" cy="576000"/>
          </a:xfrm>
          <a:prstGeom prst="line">
            <a:avLst/>
          </a:prstGeom>
          <a:ln w="1908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26920" y="4076640"/>
            <a:ext cx="0" cy="216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3924360" y="3860640"/>
            <a:ext cx="0" cy="4320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500720" y="4508640"/>
            <a:ext cx="28728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940360" y="4508640"/>
            <a:ext cx="360360" cy="0"/>
          </a:xfrm>
          <a:prstGeom prst="line">
            <a:avLst/>
          </a:prstGeom>
          <a:ln w="1908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1640" y="4653000"/>
            <a:ext cx="0" cy="43164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516720" y="4869000"/>
            <a:ext cx="0" cy="215640"/>
          </a:xfrm>
          <a:prstGeom prst="line">
            <a:avLst/>
          </a:prstGeom>
          <a:ln w="1908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 flipH="1">
            <a:off x="179280" y="4508640"/>
            <a:ext cx="144720" cy="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0" y="450864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 flipV="1">
            <a:off x="179280" y="2636640"/>
            <a:ext cx="0" cy="1871640"/>
          </a:xfrm>
          <a:prstGeom prst="line">
            <a:avLst/>
          </a:prstGeom>
          <a:ln w="1908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79280" y="2637000"/>
            <a:ext cx="144720" cy="0"/>
          </a:xfrm>
          <a:prstGeom prst="line">
            <a:avLst/>
          </a:prstGeom>
          <a:ln w="1908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Manejo electivo o expectan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50920" y="1341360"/>
            <a:ext cx="7416720" cy="497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38 semana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Valoración                     N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S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maternofetal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42 semanas 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USG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       o más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GEG/macrosomía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mal control de la glucemia       No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Tratamien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vasculopatía/hipertensión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expectante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antecedente de óbi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Incumplimien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                          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Si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Téngase en mente la inte-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rrupción del embarazo*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800" spc="-1" strike="noStrike">
                <a:solidFill>
                  <a:srgbClr val="2f1311"/>
                </a:solidFill>
                <a:latin typeface="Arial"/>
              </a:rPr>
              <a:t>Nacimiento</a:t>
            </a:r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547640" y="1628640"/>
            <a:ext cx="0" cy="43200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1547640" y="2852640"/>
            <a:ext cx="0" cy="43200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47640" y="4724280"/>
            <a:ext cx="0" cy="1009800"/>
          </a:xfrm>
          <a:prstGeom prst="line">
            <a:avLst/>
          </a:prstGeom>
          <a:ln w="28440">
            <a:solidFill>
              <a:srgbClr val="3333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2268360" y="2637000"/>
            <a:ext cx="2664000" cy="0"/>
          </a:xfrm>
          <a:prstGeom prst="line">
            <a:avLst/>
          </a:prstGeom>
          <a:ln w="2844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 flipV="1">
            <a:off x="5580000" y="2852640"/>
            <a:ext cx="0" cy="72072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3059280" y="3860640"/>
            <a:ext cx="187308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6084720" y="2637000"/>
            <a:ext cx="792360" cy="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6877080" y="2637000"/>
            <a:ext cx="0" cy="345600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 flipH="1">
            <a:off x="6156360" y="6093000"/>
            <a:ext cx="720720" cy="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7d47d"/>
                </a:solidFill>
                <a:latin typeface="Arial"/>
              </a:rPr>
              <a:t>*Téngase en mente interrupción del embarazo</a:t>
            </a:r>
            <a:endParaRPr b="0" lang="en-US" sz="36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179280" y="1484280"/>
            <a:ext cx="7488360" cy="514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Amniocentesis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Revalorar 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 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la seman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PG  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       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</a:rPr>
              <a:t>Insulina &gt; 15 </a:t>
            </a:r>
            <a:r>
              <a:rPr b="0" lang="el-GR" sz="1600" spc="-1" strike="noStrike">
                <a:solidFill>
                  <a:srgbClr val="2f1311"/>
                </a:solidFill>
                <a:latin typeface="Arial"/>
                <a:ea typeface="Arial"/>
              </a:rPr>
              <a:t>μ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  <a:ea typeface="Arial"/>
              </a:rPr>
              <a:t>U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  <a:ea typeface="Arial"/>
              </a:rPr>
              <a:t>      </a:t>
            </a:r>
            <a:r>
              <a:rPr b="0" lang="es-ES_tradnl" sz="1600" spc="-1" strike="noStrike">
                <a:solidFill>
                  <a:srgbClr val="2f1311"/>
                </a:solidFill>
                <a:latin typeface="Arial"/>
                <a:ea typeface="Arial"/>
              </a:rPr>
              <a:t>PG </a:t>
            </a: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─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             </a:t>
            </a: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PG +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imes New Roman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Arial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Arial"/>
              </a:rPr>
              <a:t>                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Arial"/>
              </a:rPr>
              <a:t>Insulina &lt; 15 </a:t>
            </a:r>
            <a:r>
              <a:rPr b="0" lang="el-GR" sz="1600" spc="-1" strike="noStrike">
                <a:solidFill>
                  <a:srgbClr val="2f1311"/>
                </a:solidFill>
                <a:latin typeface="Tahoma"/>
                <a:ea typeface="Tahoma"/>
              </a:rPr>
              <a:t>μ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U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Revalorar en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       Determinar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una semana                                  peso fetal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AEG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     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Macrosomía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	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          </a:t>
            </a:r>
            <a:r>
              <a:rPr b="0" lang="es-ES_tradnl" sz="1600" spc="-1" strike="noStrike">
                <a:solidFill>
                  <a:srgbClr val="2f1311"/>
                </a:solidFill>
                <a:latin typeface="Tahoma"/>
                <a:ea typeface="Tahoma"/>
              </a:rPr>
              <a:t>Nacimiento</a:t>
            </a:r>
            <a:endParaRPr b="0" lang="en-US" sz="16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2f1311"/>
                </a:solidFill>
                <a:latin typeface="Tahoma"/>
                <a:ea typeface="Tahoma"/>
              </a:rPr>
              <a:t>Se hará una valoración final mediante pruebas pulmonares y cuantificación de Insulina en líquido amniótico</a:t>
            </a:r>
            <a:endParaRPr b="0" lang="en-US" sz="10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643280" y="1773360"/>
            <a:ext cx="1368720" cy="79200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924360" y="1773360"/>
            <a:ext cx="0" cy="194292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3130560" y="1700280"/>
            <a:ext cx="1440" cy="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 flipH="1">
            <a:off x="2700360" y="1773360"/>
            <a:ext cx="503280" cy="136836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 flipH="1">
            <a:off x="1763280" y="3284640"/>
            <a:ext cx="647640" cy="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 flipV="1">
            <a:off x="1763640" y="2565360"/>
            <a:ext cx="0" cy="719280"/>
          </a:xfrm>
          <a:prstGeom prst="line">
            <a:avLst/>
          </a:prstGeom>
          <a:ln w="9360">
            <a:solidFill>
              <a:srgbClr val="2f131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1763640" y="2565360"/>
            <a:ext cx="0" cy="574560"/>
          </a:xfrm>
          <a:prstGeom prst="line">
            <a:avLst/>
          </a:prstGeom>
          <a:ln w="28440">
            <a:solidFill>
              <a:srgbClr val="33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 flipV="1">
            <a:off x="1763640" y="3141360"/>
            <a:ext cx="0" cy="142920"/>
          </a:xfrm>
          <a:prstGeom prst="line">
            <a:avLst/>
          </a:prstGeom>
          <a:ln w="28440">
            <a:solidFill>
              <a:srgbClr val="33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 flipV="1">
            <a:off x="1763640" y="1699920"/>
            <a:ext cx="0" cy="360360"/>
          </a:xfrm>
          <a:prstGeom prst="line">
            <a:avLst/>
          </a:prstGeom>
          <a:ln w="28440">
            <a:solidFill>
              <a:srgbClr val="f7d4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763640" y="1700280"/>
            <a:ext cx="1295640" cy="0"/>
          </a:xfrm>
          <a:prstGeom prst="line">
            <a:avLst/>
          </a:prstGeom>
          <a:ln w="28440">
            <a:solidFill>
              <a:srgbClr val="f7d4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68360" y="7174080"/>
            <a:ext cx="0" cy="0"/>
          </a:xfrm>
          <a:prstGeom prst="line">
            <a:avLst/>
          </a:prstGeom>
          <a:ln w="936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924360" y="4221000"/>
            <a:ext cx="0" cy="287640"/>
          </a:xfrm>
          <a:prstGeom prst="line">
            <a:avLst/>
          </a:prstGeom>
          <a:ln w="28440">
            <a:solidFill>
              <a:srgbClr val="2f1311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H="1">
            <a:off x="1402920" y="4797360"/>
            <a:ext cx="2016360" cy="0"/>
          </a:xfrm>
          <a:prstGeom prst="line">
            <a:avLst/>
          </a:prstGeom>
          <a:ln w="28440">
            <a:solidFill>
              <a:srgbClr val="79af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924360" y="5013360"/>
            <a:ext cx="0" cy="122400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924360" y="6237360"/>
            <a:ext cx="1439640" cy="0"/>
          </a:xfrm>
          <a:prstGeom prst="line">
            <a:avLst/>
          </a:prstGeom>
          <a:ln w="284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5940360" y="3141720"/>
            <a:ext cx="0" cy="29512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Neonato de diabética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1"/>
          <a:stretch/>
        </p:blipFill>
        <p:spPr>
          <a:xfrm>
            <a:off x="2079720" y="1557360"/>
            <a:ext cx="418932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Clasificación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ipo 1 (DM1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ipo 2 (DM 2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Otros tipos específicos de diabete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estaciona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Clases de riesgo estadístic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Alteración de la glucosa en ayunas (AGA)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 110 pero &lt; 126 mg/d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Intolerancia a la glucosa (IG)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Glucemia a 2  hs postcarga: </a:t>
            </a:r>
            <a:r>
              <a:rPr b="0" lang="es-ES_tradnl" sz="24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 140 mg pero &lt; 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2f1311"/>
                </a:solidFill>
                <a:latin typeface="Arial"/>
              </a:rPr>
              <a:t>200 mg/dL</a:t>
            </a:r>
            <a:endParaRPr b="0" lang="en-US" sz="24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Pronóstico matern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DMG, desarrolla Diabetes de tipo 2 de un 2.6 a 70% en un rango de tiempo de 6 semanas a 28 años.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RR: 6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Clasificación de White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50920" y="1268280"/>
            <a:ext cx="7345440" cy="44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Edad de inicio        Duración               Enfermedad        Requiere de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lase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(años)                (años)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vascular              Insulina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Diabetes gestaciona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A1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  0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0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(Glucemia: en ayuno: </a:t>
            </a:r>
            <a:r>
              <a:rPr b="0" lang="es-ES_tradnl" sz="1400" spc="-1" strike="noStrike">
                <a:solidFill>
                  <a:srgbClr val="2f1311"/>
                </a:solidFill>
                <a:latin typeface="Symbol"/>
                <a:ea typeface="Symbol"/>
              </a:rPr>
              <a:t>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105 mg/dL. PP (2 hs): </a:t>
            </a:r>
            <a:r>
              <a:rPr b="0" lang="es-ES_tradnl" sz="1400" spc="-1" strike="noStrike">
                <a:solidFill>
                  <a:srgbClr val="2f1311"/>
                </a:solidFill>
                <a:latin typeface="Symbol"/>
                <a:ea typeface="Symbol"/>
              </a:rPr>
              <a:t>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120 mg/dL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A 2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  0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(Glucemia: en ayuno: &gt; 105 mg/dL. PP (2 hs): &gt; 120 mg/dl)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Diabetes pregestaciona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B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&gt; 20 años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&lt; 10 años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  0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10 a 19 años         10 a 19 años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  0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D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&lt; 10 años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&gt; 20 años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Retinopatía benig-        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na o hipertensión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F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Nefropatí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R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Retinopatía prolif.         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T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Embarazo con trans-    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plante renal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H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           Cualquiera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	</a:t>
            </a:r>
            <a:r>
              <a:rPr b="0" lang="es-ES_tradnl" sz="1400" spc="-1" strike="noStrike">
                <a:solidFill>
                  <a:srgbClr val="2f1311"/>
                </a:solidFill>
                <a:latin typeface="Arial"/>
              </a:rPr>
              <a:t>Cardiopatía isquémica    +</a:t>
            </a:r>
            <a:endParaRPr b="0" lang="en-US" sz="14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79280" y="1125360"/>
            <a:ext cx="7417080" cy="0"/>
          </a:xfrm>
          <a:prstGeom prst="line">
            <a:avLst/>
          </a:prstGeom>
          <a:ln w="2844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179280" y="1844640"/>
            <a:ext cx="7417080" cy="0"/>
          </a:xfrm>
          <a:prstGeom prst="line">
            <a:avLst/>
          </a:prstGeom>
          <a:ln w="28440">
            <a:solidFill>
              <a:srgbClr val="f0b8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79280" y="5661000"/>
            <a:ext cx="7417080" cy="0"/>
          </a:xfrm>
          <a:prstGeom prst="line">
            <a:avLst/>
          </a:prstGeom>
          <a:ln w="28440">
            <a:solidFill>
              <a:srgbClr val="79af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Frecuencia 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Prevalencia en México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ipo 2: 0.0 a 9.8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Gestacional: 0.15 a 12.3%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Frecuencia según IMC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1906560"/>
            <a:ext cx="7488360" cy="38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Factores de Riesg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Modificab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Sobrepes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Obesidad (&gt;20% PI en grasa corporal)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Sedentarism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abaquismo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Manejo inadecuado del estrés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Hábitos inadecuados de alimentación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Estilo de vida contrario a la salud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IMC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de 27 en H;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26 en 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1605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218880" y="226800"/>
            <a:ext cx="7476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f7d47d"/>
                </a:solidFill>
                <a:latin typeface="Arial"/>
              </a:rPr>
              <a:t>Factores de riesgo</a:t>
            </a:r>
            <a:endParaRPr b="0" lang="en-US" sz="4000" spc="-1" strike="noStrike">
              <a:solidFill>
                <a:srgbClr val="f7d47d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263520" y="1598760"/>
            <a:ext cx="7386480" cy="449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2f1311"/>
                </a:solidFill>
                <a:latin typeface="Arial"/>
              </a:rPr>
              <a:t>Modificables</a:t>
            </a:r>
            <a:endParaRPr b="0" lang="en-US" sz="32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Indice cintura cadera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.9 en H;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.8 M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A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140/90. Preeclampsia-eclampsia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Triglicéridos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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250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HDL de colesterol </a:t>
            </a:r>
            <a:r>
              <a:rPr b="0" lang="es-ES_tradnl" sz="2800" spc="-1" strike="noStrike">
                <a:solidFill>
                  <a:srgbClr val="2f1311"/>
                </a:solidFill>
                <a:latin typeface="Symbol"/>
                <a:ea typeface="Symbol"/>
              </a:rPr>
              <a:t></a:t>
            </a:r>
            <a:r>
              <a:rPr b="0" lang="es-ES_tradnl" sz="2800" spc="-1" strike="noStrike">
                <a:solidFill>
                  <a:srgbClr val="2f1311"/>
                </a:solidFill>
                <a:latin typeface="Arial"/>
              </a:rPr>
              <a:t> 35 mg/dL</a:t>
            </a:r>
            <a:endParaRPr b="0" lang="en-US" sz="2800" spc="-1" strike="noStrike">
              <a:solidFill>
                <a:srgbClr val="2f1311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3T01:39:41Z</dcterms:created>
  <dc:creator>XP</dc:creator>
  <dc:description/>
  <dc:language>en-US</dc:language>
  <cp:lastModifiedBy>XP</cp:lastModifiedBy>
  <dcterms:modified xsi:type="dcterms:W3CDTF">2007-12-04T20:57:25Z</dcterms:modified>
  <cp:revision>14</cp:revision>
  <dc:subject/>
  <dc:title>Complicaciones médicas en el embarazo</dc:title>
</cp:coreProperties>
</file>